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  <p:custShowLst>
    <p:custShow name="Rotation" id="0">
      <p:sldLst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</p:sldLst>
    </p:custShow>
    <p:custShow name="Rotation schnell" id="1">
      <p:sldLst>
        <p:sld r:id="rId33"/>
        <p:sld r:id="rId34"/>
        <p:sld r:id="rId35"/>
        <p:sld r:id="rId36"/>
        <p:sld r:id="rId37"/>
        <p:sld r:id="rId38"/>
        <p:sld r:id="rId39"/>
        <p:sld r:id="rId40"/>
        <p:sld r:id="rId41"/>
        <p:sld r:id="rId42"/>
        <p:sld r:id="rId43"/>
        <p:sld r:id="rId4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99A4-23ED-47F8-BFA0-43BA6EACC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F39E-3765-4E21-83BE-9890DAC6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2E3C-012E-4891-A290-DD10EC063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E1BA-B3F5-415F-BAAC-2DF9012AA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B09B-0638-432B-BB4D-C151BFE3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5A26-E7FE-43C7-9823-2C3A3475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8087-110F-44A4-9FC0-E11C42A8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ECA1-065E-4902-8E50-F612BC6C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5FD0-8B04-4A4C-A53F-E92EF457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4634-DE16-4D31-902A-1B38B840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9944-6F6E-493B-AE80-4DB0C162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644E-7838-4C40-B5F8-5B4A8BCA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57DA-0E1B-4DC4-84A9-9E9B3F811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" Target="slide20.xml"/><Relationship Id="rId6" Type="http://schemas.openxmlformats.org/officeDocument/2006/relationships/slide" Target="slide21.xml"/><Relationship Id="rId7" Type="http://schemas.openxmlformats.org/officeDocument/2006/relationships/slide" Target="slide22.xml"/><Relationship Id="rId8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" Target="slide2.xml"/><Relationship Id="rId6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" Target="slide3.xm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" Target="slide8.xml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" Target="slide14.xml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" Target="slide23.xml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" Target="slide24.xml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" Target="slide26.xml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" Target="slide27.xml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" Target="slide15.xml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" Target="slide22.xml"/><Relationship Id="rId6" Type="http://schemas.openxmlformats.org/officeDocument/2006/relationships/slide" Target="slide29.xml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" Target="slide16.xml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" Target="slide18.xml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" Target="slide17.xml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" Target="slide19.xml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67080" y="60912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r Elektromo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08080" y="152280"/>
            <a:ext cx="1585800" cy="2184480"/>
            <a:chOff x="208080" y="152280"/>
            <a:chExt cx="1585800" cy="2184480"/>
          </a:xfrm>
        </p:grpSpPr>
        <p:sp>
          <p:nvSpPr>
            <p:cNvPr id="43" name=""/>
            <p:cNvSpPr/>
            <p:nvPr/>
          </p:nvSpPr>
          <p:spPr>
            <a:xfrm>
              <a:off x="208080" y="152280"/>
              <a:ext cx="511200" cy="21844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06680" y="152280"/>
              <a:ext cx="1087200" cy="37080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1793880" y="152280"/>
            <a:ext cx="1558440" cy="2184480"/>
            <a:chOff x="1793880" y="152280"/>
            <a:chExt cx="1558440" cy="2184480"/>
          </a:xfrm>
        </p:grpSpPr>
        <p:sp>
          <p:nvSpPr>
            <p:cNvPr id="46" name=""/>
            <p:cNvSpPr/>
            <p:nvPr/>
          </p:nvSpPr>
          <p:spPr>
            <a:xfrm>
              <a:off x="2869200" y="152280"/>
              <a:ext cx="483120" cy="2184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93880" y="152280"/>
              <a:ext cx="1088280" cy="3708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925560" y="1447920"/>
            <a:ext cx="511200" cy="1295280"/>
            <a:chOff x="925560" y="1447920"/>
            <a:chExt cx="511200" cy="1295280"/>
          </a:xfrm>
        </p:grpSpPr>
        <p:sp>
          <p:nvSpPr>
            <p:cNvPr id="49" name=""/>
            <p:cNvSpPr/>
            <p:nvPr/>
          </p:nvSpPr>
          <p:spPr>
            <a:xfrm>
              <a:off x="925560" y="1447920"/>
              <a:ext cx="51120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25560" y="1447920"/>
              <a:ext cx="0" cy="12952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2154240" y="1447920"/>
            <a:ext cx="511200" cy="1295280"/>
            <a:chOff x="2154240" y="1447920"/>
            <a:chExt cx="511200" cy="1295280"/>
          </a:xfrm>
        </p:grpSpPr>
        <p:sp>
          <p:nvSpPr>
            <p:cNvPr id="52" name=""/>
            <p:cNvSpPr/>
            <p:nvPr/>
          </p:nvSpPr>
          <p:spPr>
            <a:xfrm>
              <a:off x="2154240" y="1447920"/>
              <a:ext cx="51120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665440" y="1447920"/>
              <a:ext cx="0" cy="129528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85680" y="855720"/>
            <a:ext cx="1619280" cy="1186920"/>
            <a:chOff x="985680" y="855720"/>
            <a:chExt cx="1619280" cy="1186920"/>
          </a:xfrm>
        </p:grpSpPr>
        <p:sp>
          <p:nvSpPr>
            <p:cNvPr id="55" name=""/>
            <p:cNvSpPr/>
            <p:nvPr/>
          </p:nvSpPr>
          <p:spPr>
            <a:xfrm rot="1335000">
              <a:off x="1645200" y="1306440"/>
              <a:ext cx="290160" cy="26172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335000">
              <a:off x="1489680" y="1168560"/>
              <a:ext cx="605160" cy="5461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2135000">
              <a:off x="1488960" y="1168560"/>
              <a:ext cx="605160" cy="5461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335000">
              <a:off x="1182960" y="1166760"/>
              <a:ext cx="1210320" cy="5461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335000">
              <a:off x="1282680" y="1032120"/>
              <a:ext cx="204480" cy="5547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335000">
              <a:off x="2119320" y="1328040"/>
              <a:ext cx="204840" cy="5547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2135000">
              <a:off x="1122120" y="848520"/>
              <a:ext cx="108720" cy="742680"/>
            </a:xfrm>
            <a:prstGeom prst="flowChartDelay">
              <a:avLst/>
            </a:prstGeom>
            <a:solidFill>
              <a:srgbClr val="008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35000">
              <a:off x="2359440" y="1306800"/>
              <a:ext cx="108720" cy="742680"/>
            </a:xfrm>
            <a:prstGeom prst="flowChartDelay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10200" y="1339200"/>
              <a:ext cx="141840" cy="583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37160" y="1497240"/>
              <a:ext cx="141840" cy="583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560600" y="1104840"/>
              <a:ext cx="331920" cy="13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98120" y="1654920"/>
              <a:ext cx="331920" cy="13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2116080" y="1879560"/>
              <a:ext cx="34560" cy="8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1167840" y="1528920"/>
              <a:ext cx="34560" cy="8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65680" y="1596240"/>
              <a:ext cx="948600" cy="38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46240" y="1905120"/>
            <a:ext cx="36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13120" y="19051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5" action="ppaction://hlinksldjump"/>
          </p:cNvPr>
          <p:cNvSpPr/>
          <p:nvPr/>
        </p:nvSpPr>
        <p:spPr>
          <a:xfrm>
            <a:off x="838080" y="3252960"/>
            <a:ext cx="360360" cy="360360"/>
          </a:xfrm>
          <a:custGeom>
            <a:avLst/>
            <a:gdLst>
              <a:gd name="textAreaLeft" fmla="*/ 90000 w 360360"/>
              <a:gd name="textAreaRight" fmla="*/ 270360 w 360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6775"/>
                </a:moveTo>
                <a:lnTo>
                  <a:pt x="14825" y="10800"/>
                </a:lnTo>
                <a:lnTo>
                  <a:pt x="6775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6" action="ppaction://hlinksldjump"/>
          </p:cNvPr>
          <p:cNvSpPr/>
          <p:nvPr/>
        </p:nvSpPr>
        <p:spPr>
          <a:xfrm>
            <a:off x="838080" y="3962520"/>
            <a:ext cx="360360" cy="360360"/>
          </a:xfrm>
          <a:custGeom>
            <a:avLst/>
            <a:gdLst>
              <a:gd name="textAreaLeft" fmla="*/ 90000 w 360360"/>
              <a:gd name="textAreaRight" fmla="*/ 270360 w 360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6775"/>
                </a:moveTo>
                <a:lnTo>
                  <a:pt x="14825" y="10800"/>
                </a:lnTo>
                <a:lnTo>
                  <a:pt x="6775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8862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 Stromkreis ist geschlossen. Es fließt Str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3880" y="32004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 Stromkreis ist unterbrochen. Es fließt kein Str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7" action="ppaction://hlinksldjump"/>
          </p:cNvPr>
          <p:cNvSpPr/>
          <p:nvPr/>
        </p:nvSpPr>
        <p:spPr>
          <a:xfrm>
            <a:off x="838080" y="4648320"/>
            <a:ext cx="360360" cy="360360"/>
          </a:xfrm>
          <a:custGeom>
            <a:avLst/>
            <a:gdLst>
              <a:gd name="textAreaLeft" fmla="*/ 90000 w 360360"/>
              <a:gd name="textAreaRight" fmla="*/ 270360 w 360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6775"/>
                </a:moveTo>
                <a:lnTo>
                  <a:pt x="14825" y="10800"/>
                </a:lnTo>
                <a:lnTo>
                  <a:pt x="6775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3880" y="45720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Umpol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5410080"/>
            <a:ext cx="360360" cy="360360"/>
          </a:xfrm>
          <a:custGeom>
            <a:avLst/>
            <a:gdLst>
              <a:gd name="textAreaLeft" fmla="*/ 90000 w 360360"/>
              <a:gd name="textAreaRight" fmla="*/ 270360 w 360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6775"/>
                </a:moveTo>
                <a:lnTo>
                  <a:pt x="14825" y="10800"/>
                </a:lnTo>
                <a:lnTo>
                  <a:pt x="6775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3880" y="53341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ion (langs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077320" y="2286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R.S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6116760"/>
            <a:ext cx="360360" cy="360360"/>
          </a:xfrm>
          <a:custGeom>
            <a:avLst/>
            <a:gdLst>
              <a:gd name="textAreaLeft" fmla="*/ 90000 w 360360"/>
              <a:gd name="textAreaRight" fmla="*/ 270360 w 360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6775"/>
                </a:moveTo>
                <a:lnTo>
                  <a:pt x="14825" y="10800"/>
                </a:lnTo>
                <a:lnTo>
                  <a:pt x="6775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60958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ion (schne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"/>
          <p:cNvGrpSpPr/>
          <p:nvPr/>
        </p:nvGrpSpPr>
        <p:grpSpPr>
          <a:xfrm>
            <a:off x="1905120" y="1066680"/>
            <a:ext cx="2361960" cy="3598920"/>
            <a:chOff x="1905120" y="1066680"/>
            <a:chExt cx="2361960" cy="3598920"/>
          </a:xfrm>
        </p:grpSpPr>
        <p:sp>
          <p:nvSpPr>
            <p:cNvPr id="361" name=""/>
            <p:cNvSpPr/>
            <p:nvPr/>
          </p:nvSpPr>
          <p:spPr>
            <a:xfrm>
              <a:off x="1905120" y="1066680"/>
              <a:ext cx="761760" cy="35989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647800" y="1066680"/>
              <a:ext cx="1619280" cy="6112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4267080" y="1066680"/>
            <a:ext cx="2319480" cy="3598920"/>
            <a:chOff x="4267080" y="1066680"/>
            <a:chExt cx="2319480" cy="3598920"/>
          </a:xfrm>
        </p:grpSpPr>
        <p:sp>
          <p:nvSpPr>
            <p:cNvPr id="364" name=""/>
            <p:cNvSpPr/>
            <p:nvPr/>
          </p:nvSpPr>
          <p:spPr>
            <a:xfrm>
              <a:off x="5867280" y="1066680"/>
              <a:ext cx="719280" cy="3598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267080" y="1066680"/>
              <a:ext cx="1619280" cy="611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2971800" y="3200400"/>
            <a:ext cx="762120" cy="2133720"/>
            <a:chOff x="2971800" y="3200400"/>
            <a:chExt cx="762120" cy="2133720"/>
          </a:xfrm>
        </p:grpSpPr>
        <p:sp>
          <p:nvSpPr>
            <p:cNvPr id="367" name=""/>
            <p:cNvSpPr/>
            <p:nvPr/>
          </p:nvSpPr>
          <p:spPr>
            <a:xfrm>
              <a:off x="2971800" y="3200400"/>
              <a:ext cx="76212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971800" y="3200400"/>
              <a:ext cx="0" cy="21337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4800600" y="3200400"/>
            <a:ext cx="762120" cy="2133720"/>
            <a:chOff x="4800600" y="3200400"/>
            <a:chExt cx="762120" cy="2133720"/>
          </a:xfrm>
        </p:grpSpPr>
        <p:sp>
          <p:nvSpPr>
            <p:cNvPr id="370" name=""/>
            <p:cNvSpPr/>
            <p:nvPr/>
          </p:nvSpPr>
          <p:spPr>
            <a:xfrm>
              <a:off x="4800600" y="3200400"/>
              <a:ext cx="76212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562720" y="3200400"/>
              <a:ext cx="0" cy="21337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3078000" y="2012760"/>
            <a:ext cx="2387520" cy="2374200"/>
            <a:chOff x="3078000" y="2012760"/>
            <a:chExt cx="2387520" cy="2374200"/>
          </a:xfrm>
        </p:grpSpPr>
        <p:sp>
          <p:nvSpPr>
            <p:cNvPr id="373" name=""/>
            <p:cNvSpPr/>
            <p:nvPr/>
          </p:nvSpPr>
          <p:spPr>
            <a:xfrm rot="13463400">
              <a:off x="4051800" y="3002760"/>
              <a:ext cx="431640" cy="4320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13463400">
              <a:off x="3817800" y="2758680"/>
              <a:ext cx="900360" cy="900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2664000">
              <a:off x="3817440" y="2759400"/>
              <a:ext cx="900360" cy="900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13463400">
              <a:off x="3372840" y="2764080"/>
              <a:ext cx="1800360" cy="90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13463400">
              <a:off x="4596120" y="3184200"/>
              <a:ext cx="304560" cy="914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13463400">
              <a:off x="3626640" y="2263680"/>
              <a:ext cx="304560" cy="9144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2664000">
              <a:off x="4898160" y="3281040"/>
              <a:ext cx="162000" cy="1224000"/>
            </a:xfrm>
            <a:prstGeom prst="flowChartDelay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13463400">
              <a:off x="3483000" y="1894320"/>
              <a:ext cx="162000" cy="1224000"/>
            </a:xfrm>
            <a:prstGeom prst="flowChartDelay">
              <a:avLst/>
            </a:prstGeom>
            <a:solidFill>
              <a:srgbClr val="008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 flipV="1">
              <a:off x="4431600" y="3360600"/>
              <a:ext cx="163080" cy="160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 flipV="1">
              <a:off x="3940920" y="2881440"/>
              <a:ext cx="163440" cy="159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 flipV="1">
              <a:off x="4001040" y="3472200"/>
              <a:ext cx="380880" cy="37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 flipV="1">
              <a:off x="4154040" y="2554920"/>
              <a:ext cx="381240" cy="37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4044960" y="2231640"/>
              <a:ext cx="106560" cy="10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5132160" y="3299400"/>
              <a:ext cx="106560" cy="10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flipV="1">
              <a:off x="4149360" y="2231640"/>
              <a:ext cx="1088640" cy="106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205740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1992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048120" y="510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814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>
            <a:hlinkClick r:id="rId5" action="ppaction://hlinksldjump"/>
          </p:cNvPr>
          <p:cNvSpPr/>
          <p:nvPr/>
        </p:nvSpPr>
        <p:spPr>
          <a:xfrm>
            <a:off x="7696080" y="6095880"/>
            <a:ext cx="360360" cy="360360"/>
          </a:xfrm>
          <a:custGeom>
            <a:avLst/>
            <a:gdLst>
              <a:gd name="textAreaLeft" fmla="*/ 90000 w 360360"/>
              <a:gd name="textAreaRight" fmla="*/ 270360 w 360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8790" y="10800"/>
                </a:moveTo>
                <a:lnTo>
                  <a:pt x="14825" y="6775"/>
                </a:lnTo>
                <a:lnTo>
                  <a:pt x="14825" y="14825"/>
                </a:lnTo>
                <a:close/>
              </a:path>
              <a:path fill="darken" w="21600" h="21600">
                <a:moveTo>
                  <a:pt x="6775" y="6775"/>
                </a:moveTo>
                <a:lnTo>
                  <a:pt x="7730" y="6775"/>
                </a:lnTo>
                <a:lnTo>
                  <a:pt x="7730" y="14825"/>
                </a:lnTo>
                <a:lnTo>
                  <a:pt x="6775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153280" y="609588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696080" y="5715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"/>
          <p:cNvGrpSpPr/>
          <p:nvPr/>
        </p:nvGrpSpPr>
        <p:grpSpPr>
          <a:xfrm>
            <a:off x="1905120" y="1066680"/>
            <a:ext cx="2361960" cy="3598920"/>
            <a:chOff x="1905120" y="1066680"/>
            <a:chExt cx="2361960" cy="3598920"/>
          </a:xfrm>
        </p:grpSpPr>
        <p:sp>
          <p:nvSpPr>
            <p:cNvPr id="396" name=""/>
            <p:cNvSpPr/>
            <p:nvPr/>
          </p:nvSpPr>
          <p:spPr>
            <a:xfrm>
              <a:off x="1905120" y="1066680"/>
              <a:ext cx="761760" cy="35989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647800" y="1066680"/>
              <a:ext cx="1619280" cy="6112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4267080" y="1066680"/>
            <a:ext cx="2319480" cy="3598920"/>
            <a:chOff x="4267080" y="1066680"/>
            <a:chExt cx="2319480" cy="3598920"/>
          </a:xfrm>
        </p:grpSpPr>
        <p:sp>
          <p:nvSpPr>
            <p:cNvPr id="399" name=""/>
            <p:cNvSpPr/>
            <p:nvPr/>
          </p:nvSpPr>
          <p:spPr>
            <a:xfrm>
              <a:off x="5867280" y="1066680"/>
              <a:ext cx="719280" cy="3598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267080" y="1066680"/>
              <a:ext cx="1619280" cy="611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2971800" y="3200400"/>
            <a:ext cx="762120" cy="2133720"/>
            <a:chOff x="2971800" y="3200400"/>
            <a:chExt cx="762120" cy="2133720"/>
          </a:xfrm>
        </p:grpSpPr>
        <p:sp>
          <p:nvSpPr>
            <p:cNvPr id="402" name=""/>
            <p:cNvSpPr/>
            <p:nvPr/>
          </p:nvSpPr>
          <p:spPr>
            <a:xfrm>
              <a:off x="2971800" y="3200400"/>
              <a:ext cx="76212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971800" y="3200400"/>
              <a:ext cx="0" cy="21337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4800600" y="3200400"/>
            <a:ext cx="762120" cy="2133720"/>
            <a:chOff x="4800600" y="3200400"/>
            <a:chExt cx="762120" cy="2133720"/>
          </a:xfrm>
        </p:grpSpPr>
        <p:sp>
          <p:nvSpPr>
            <p:cNvPr id="405" name=""/>
            <p:cNvSpPr/>
            <p:nvPr/>
          </p:nvSpPr>
          <p:spPr>
            <a:xfrm>
              <a:off x="4800600" y="3200400"/>
              <a:ext cx="76212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62720" y="3200400"/>
              <a:ext cx="0" cy="21337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3656160" y="2126160"/>
            <a:ext cx="1230120" cy="2148120"/>
            <a:chOff x="3656160" y="2126160"/>
            <a:chExt cx="1230120" cy="2148120"/>
          </a:xfrm>
        </p:grpSpPr>
        <p:sp>
          <p:nvSpPr>
            <p:cNvPr id="408" name=""/>
            <p:cNvSpPr/>
            <p:nvPr/>
          </p:nvSpPr>
          <p:spPr>
            <a:xfrm rot="16186800">
              <a:off x="4038840" y="2994840"/>
              <a:ext cx="431640" cy="43164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rot="16186800">
              <a:off x="3812040" y="2754000"/>
              <a:ext cx="900360" cy="8996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5387400">
              <a:off x="3811320" y="2754000"/>
              <a:ext cx="900360" cy="8996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16186800">
              <a:off x="3361680" y="2761200"/>
              <a:ext cx="1800360" cy="899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rot="16186800">
              <a:off x="4138920" y="3392280"/>
              <a:ext cx="304560" cy="9140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16186800">
              <a:off x="4113720" y="2055600"/>
              <a:ext cx="304560" cy="9140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5387400">
              <a:off x="4192920" y="3579120"/>
              <a:ext cx="162000" cy="1223640"/>
            </a:xfrm>
            <a:prstGeom prst="flowChartDelay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16186800">
              <a:off x="4187160" y="1597320"/>
              <a:ext cx="162000" cy="1223640"/>
            </a:xfrm>
            <a:prstGeom prst="flowChartDelay">
              <a:avLst/>
            </a:prstGeom>
            <a:solidFill>
              <a:srgbClr val="008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4268520" y="3426840"/>
              <a:ext cx="720" cy="228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flipV="1">
              <a:off x="4265280" y="2741040"/>
              <a:ext cx="720" cy="228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 flipV="1">
              <a:off x="3886560" y="3198600"/>
              <a:ext cx="216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 flipV="1">
              <a:off x="4647240" y="2663640"/>
              <a:ext cx="216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4723200" y="2434680"/>
              <a:ext cx="15192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4726440" y="3958560"/>
              <a:ext cx="15192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flipV="1">
              <a:off x="4874040" y="2433240"/>
              <a:ext cx="576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205740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01992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48120" y="510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1814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>
            <a:hlinkClick r:id="rId5" action="ppaction://hlinksldjump"/>
          </p:cNvPr>
          <p:cNvSpPr/>
          <p:nvPr/>
        </p:nvSpPr>
        <p:spPr>
          <a:xfrm>
            <a:off x="7696080" y="6095880"/>
            <a:ext cx="360360" cy="360360"/>
          </a:xfrm>
          <a:custGeom>
            <a:avLst/>
            <a:gdLst>
              <a:gd name="textAreaLeft" fmla="*/ 90000 w 360360"/>
              <a:gd name="textAreaRight" fmla="*/ 270360 w 360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8790" y="10800"/>
                </a:moveTo>
                <a:lnTo>
                  <a:pt x="14825" y="6775"/>
                </a:lnTo>
                <a:lnTo>
                  <a:pt x="14825" y="14825"/>
                </a:lnTo>
                <a:close/>
              </a:path>
              <a:path fill="darken" w="21600" h="21600">
                <a:moveTo>
                  <a:pt x="6775" y="6775"/>
                </a:moveTo>
                <a:lnTo>
                  <a:pt x="7730" y="6775"/>
                </a:lnTo>
                <a:lnTo>
                  <a:pt x="7730" y="14825"/>
                </a:lnTo>
                <a:lnTo>
                  <a:pt x="6775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153280" y="609588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696080" y="5715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"/>
          <p:cNvGrpSpPr/>
          <p:nvPr/>
        </p:nvGrpSpPr>
        <p:grpSpPr>
          <a:xfrm>
            <a:off x="1905120" y="1066680"/>
            <a:ext cx="2361960" cy="3598920"/>
            <a:chOff x="1905120" y="1066680"/>
            <a:chExt cx="2361960" cy="3598920"/>
          </a:xfrm>
        </p:grpSpPr>
        <p:sp>
          <p:nvSpPr>
            <p:cNvPr id="431" name=""/>
            <p:cNvSpPr/>
            <p:nvPr/>
          </p:nvSpPr>
          <p:spPr>
            <a:xfrm>
              <a:off x="1905120" y="1066680"/>
              <a:ext cx="761760" cy="35989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647800" y="1066680"/>
              <a:ext cx="1619280" cy="6112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4267080" y="1066680"/>
            <a:ext cx="2319480" cy="3598920"/>
            <a:chOff x="4267080" y="1066680"/>
            <a:chExt cx="2319480" cy="3598920"/>
          </a:xfrm>
        </p:grpSpPr>
        <p:sp>
          <p:nvSpPr>
            <p:cNvPr id="434" name=""/>
            <p:cNvSpPr/>
            <p:nvPr/>
          </p:nvSpPr>
          <p:spPr>
            <a:xfrm>
              <a:off x="5867280" y="1066680"/>
              <a:ext cx="719280" cy="3598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267080" y="1066680"/>
              <a:ext cx="1619280" cy="611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2971800" y="3200400"/>
            <a:ext cx="762120" cy="2133720"/>
            <a:chOff x="2971800" y="3200400"/>
            <a:chExt cx="762120" cy="2133720"/>
          </a:xfrm>
        </p:grpSpPr>
        <p:sp>
          <p:nvSpPr>
            <p:cNvPr id="437" name=""/>
            <p:cNvSpPr/>
            <p:nvPr/>
          </p:nvSpPr>
          <p:spPr>
            <a:xfrm>
              <a:off x="2971800" y="3200400"/>
              <a:ext cx="76212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971800" y="3200400"/>
              <a:ext cx="0" cy="21337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4800600" y="3200400"/>
            <a:ext cx="762120" cy="2133720"/>
            <a:chOff x="4800600" y="3200400"/>
            <a:chExt cx="762120" cy="2133720"/>
          </a:xfrm>
        </p:grpSpPr>
        <p:sp>
          <p:nvSpPr>
            <p:cNvPr id="440" name=""/>
            <p:cNvSpPr/>
            <p:nvPr/>
          </p:nvSpPr>
          <p:spPr>
            <a:xfrm>
              <a:off x="4800600" y="3200400"/>
              <a:ext cx="76212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562720" y="3200400"/>
              <a:ext cx="0" cy="21337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3206160" y="1966680"/>
            <a:ext cx="2130120" cy="2467080"/>
            <a:chOff x="3206160" y="1966680"/>
            <a:chExt cx="2130120" cy="2467080"/>
          </a:xfrm>
        </p:grpSpPr>
        <p:sp>
          <p:nvSpPr>
            <p:cNvPr id="443" name=""/>
            <p:cNvSpPr/>
            <p:nvPr/>
          </p:nvSpPr>
          <p:spPr>
            <a:xfrm rot="17993400">
              <a:off x="4035960" y="2985480"/>
              <a:ext cx="431640" cy="43164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17993400">
              <a:off x="3811320" y="2749320"/>
              <a:ext cx="900360" cy="8996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7193400">
              <a:off x="3810960" y="2748600"/>
              <a:ext cx="900360" cy="8996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17993400">
              <a:off x="3357360" y="2755440"/>
              <a:ext cx="1800360" cy="899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17993400">
              <a:off x="3810600" y="3315240"/>
              <a:ext cx="304560" cy="9140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17993400">
              <a:off x="4459320" y="2145960"/>
              <a:ext cx="304560" cy="9140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7193400">
              <a:off x="3695760" y="3446640"/>
              <a:ext cx="162000" cy="1223640"/>
            </a:xfrm>
            <a:prstGeom prst="flowChartDelay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17993400">
              <a:off x="4684320" y="1729800"/>
              <a:ext cx="162000" cy="1223640"/>
            </a:xfrm>
            <a:prstGeom prst="flowChartDelay">
              <a:avLst/>
            </a:prstGeom>
            <a:solidFill>
              <a:srgbClr val="008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4041360" y="3395160"/>
              <a:ext cx="113760" cy="198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4382280" y="2800080"/>
              <a:ext cx="114120" cy="198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3673440" y="3006000"/>
              <a:ext cx="266040" cy="46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4599720" y="2924640"/>
              <a:ext cx="266040" cy="46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 flipV="1">
              <a:off x="5045760" y="2765160"/>
              <a:ext cx="13176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 flipV="1">
              <a:off x="4284360" y="4085280"/>
              <a:ext cx="131760" cy="7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4417920" y="2839320"/>
              <a:ext cx="759600" cy="132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205740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1992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048120" y="510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1814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696080" y="6095880"/>
            <a:ext cx="360360" cy="360360"/>
          </a:xfrm>
          <a:custGeom>
            <a:avLst/>
            <a:gdLst>
              <a:gd name="textAreaLeft" fmla="*/ 90000 w 360360"/>
              <a:gd name="textAreaRight" fmla="*/ 270360 w 360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8790" y="10800"/>
                </a:moveTo>
                <a:lnTo>
                  <a:pt x="14825" y="6775"/>
                </a:lnTo>
                <a:lnTo>
                  <a:pt x="14825" y="14825"/>
                </a:lnTo>
                <a:close/>
              </a:path>
              <a:path fill="darken" w="21600" h="21600">
                <a:moveTo>
                  <a:pt x="6775" y="6775"/>
                </a:moveTo>
                <a:lnTo>
                  <a:pt x="7730" y="6775"/>
                </a:lnTo>
                <a:lnTo>
                  <a:pt x="7730" y="14825"/>
                </a:lnTo>
                <a:lnTo>
                  <a:pt x="6775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8153280" y="609588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696080" y="5715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"/>
          <p:cNvGrpSpPr/>
          <p:nvPr/>
        </p:nvGrpSpPr>
        <p:grpSpPr>
          <a:xfrm>
            <a:off x="1905120" y="1066680"/>
            <a:ext cx="2361960" cy="3598920"/>
            <a:chOff x="1905120" y="1066680"/>
            <a:chExt cx="2361960" cy="3598920"/>
          </a:xfrm>
        </p:grpSpPr>
        <p:sp>
          <p:nvSpPr>
            <p:cNvPr id="466" name=""/>
            <p:cNvSpPr/>
            <p:nvPr/>
          </p:nvSpPr>
          <p:spPr>
            <a:xfrm>
              <a:off x="1905120" y="1066680"/>
              <a:ext cx="761760" cy="35989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647800" y="1066680"/>
              <a:ext cx="1619280" cy="6112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4267080" y="1066680"/>
            <a:ext cx="2319480" cy="3598920"/>
            <a:chOff x="4267080" y="1066680"/>
            <a:chExt cx="2319480" cy="3598920"/>
          </a:xfrm>
        </p:grpSpPr>
        <p:sp>
          <p:nvSpPr>
            <p:cNvPr id="469" name=""/>
            <p:cNvSpPr/>
            <p:nvPr/>
          </p:nvSpPr>
          <p:spPr>
            <a:xfrm>
              <a:off x="5867280" y="1066680"/>
              <a:ext cx="719280" cy="3598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267080" y="1066680"/>
              <a:ext cx="1619280" cy="611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2971800" y="3200400"/>
            <a:ext cx="762120" cy="2133720"/>
            <a:chOff x="2971800" y="3200400"/>
            <a:chExt cx="762120" cy="2133720"/>
          </a:xfrm>
        </p:grpSpPr>
        <p:sp>
          <p:nvSpPr>
            <p:cNvPr id="472" name=""/>
            <p:cNvSpPr/>
            <p:nvPr/>
          </p:nvSpPr>
          <p:spPr>
            <a:xfrm>
              <a:off x="2971800" y="3200400"/>
              <a:ext cx="76212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971800" y="3200400"/>
              <a:ext cx="0" cy="21337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4800600" y="3200400"/>
            <a:ext cx="762120" cy="2133720"/>
            <a:chOff x="4800600" y="3200400"/>
            <a:chExt cx="762120" cy="2133720"/>
          </a:xfrm>
        </p:grpSpPr>
        <p:sp>
          <p:nvSpPr>
            <p:cNvPr id="475" name=""/>
            <p:cNvSpPr/>
            <p:nvPr/>
          </p:nvSpPr>
          <p:spPr>
            <a:xfrm>
              <a:off x="4800600" y="3200400"/>
              <a:ext cx="76212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562720" y="3200400"/>
              <a:ext cx="0" cy="21337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3045960" y="2218320"/>
            <a:ext cx="2451240" cy="1962720"/>
            <a:chOff x="3045960" y="2218320"/>
            <a:chExt cx="2451240" cy="1962720"/>
          </a:xfrm>
        </p:grpSpPr>
        <p:sp>
          <p:nvSpPr>
            <p:cNvPr id="478" name=""/>
            <p:cNvSpPr/>
            <p:nvPr/>
          </p:nvSpPr>
          <p:spPr>
            <a:xfrm rot="20221800">
              <a:off x="4039200" y="2972520"/>
              <a:ext cx="431640" cy="4320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20221800">
              <a:off x="3814200" y="2742480"/>
              <a:ext cx="900360" cy="900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rot="9421800">
              <a:off x="3814200" y="2742480"/>
              <a:ext cx="900360" cy="900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20221800">
              <a:off x="3357360" y="2745360"/>
              <a:ext cx="1800360" cy="90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20221800">
              <a:off x="3528360" y="3012120"/>
              <a:ext cx="304560" cy="914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rot="20221800">
              <a:off x="4750920" y="2471760"/>
              <a:ext cx="304560" cy="9144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9421800">
              <a:off x="3278160" y="2973600"/>
              <a:ext cx="162000" cy="1224000"/>
            </a:xfrm>
            <a:prstGeom prst="flowChartDelay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20221800">
              <a:off x="5102640" y="2201400"/>
              <a:ext cx="162000" cy="1224000"/>
            </a:xfrm>
            <a:prstGeom prst="flowChartDelay">
              <a:avLst/>
            </a:prstGeom>
            <a:solidFill>
              <a:srgbClr val="008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3851280" y="3285000"/>
              <a:ext cx="210240" cy="89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4482360" y="3016800"/>
              <a:ext cx="210240" cy="89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3633120" y="2844720"/>
              <a:ext cx="491400" cy="20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4420800" y="3339360"/>
              <a:ext cx="491040" cy="20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 flipV="1">
              <a:off x="5151960" y="3321000"/>
              <a:ext cx="59400" cy="14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 flipV="1">
              <a:off x="3747960" y="3913560"/>
              <a:ext cx="59400" cy="14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3809160" y="3459240"/>
              <a:ext cx="1402920" cy="59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205740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01992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048120" y="510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1814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96080" y="6095880"/>
            <a:ext cx="360360" cy="360360"/>
          </a:xfrm>
          <a:custGeom>
            <a:avLst/>
            <a:gdLst>
              <a:gd name="textAreaLeft" fmla="*/ 90000 w 360360"/>
              <a:gd name="textAreaRight" fmla="*/ 270360 w 360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8790" y="10800"/>
                </a:moveTo>
                <a:lnTo>
                  <a:pt x="14825" y="6775"/>
                </a:lnTo>
                <a:lnTo>
                  <a:pt x="14825" y="14825"/>
                </a:lnTo>
                <a:close/>
              </a:path>
              <a:path fill="darken" w="21600" h="21600">
                <a:moveTo>
                  <a:pt x="6775" y="6775"/>
                </a:moveTo>
                <a:lnTo>
                  <a:pt x="7730" y="6775"/>
                </a:lnTo>
                <a:lnTo>
                  <a:pt x="7730" y="14825"/>
                </a:lnTo>
                <a:lnTo>
                  <a:pt x="6775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153280" y="609588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696080" y="5715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4800600" y="3200400"/>
            <a:ext cx="762120" cy="0"/>
          </a:xfrm>
          <a:prstGeom prst="line">
            <a:avLst/>
          </a:prstGeom>
          <a:ln w="57240">
            <a:solidFill>
              <a:srgbClr val="ff99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971800" y="3200400"/>
            <a:ext cx="76212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1905120" y="1066680"/>
            <a:ext cx="2361960" cy="3598920"/>
            <a:chOff x="1905120" y="1066680"/>
            <a:chExt cx="2361960" cy="3598920"/>
          </a:xfrm>
        </p:grpSpPr>
        <p:sp>
          <p:nvSpPr>
            <p:cNvPr id="503" name=""/>
            <p:cNvSpPr/>
            <p:nvPr/>
          </p:nvSpPr>
          <p:spPr>
            <a:xfrm>
              <a:off x="1905120" y="1066680"/>
              <a:ext cx="761760" cy="35989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647800" y="1066680"/>
              <a:ext cx="1619280" cy="6112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4267080" y="1066680"/>
            <a:ext cx="2319480" cy="3598920"/>
            <a:chOff x="4267080" y="1066680"/>
            <a:chExt cx="2319480" cy="3598920"/>
          </a:xfrm>
        </p:grpSpPr>
        <p:sp>
          <p:nvSpPr>
            <p:cNvPr id="506" name=""/>
            <p:cNvSpPr/>
            <p:nvPr/>
          </p:nvSpPr>
          <p:spPr>
            <a:xfrm>
              <a:off x="5867280" y="1066680"/>
              <a:ext cx="719280" cy="3598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267080" y="1066680"/>
              <a:ext cx="1619280" cy="611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3200400" y="2590920"/>
            <a:ext cx="2149560" cy="1224000"/>
            <a:chOff x="3200400" y="2590920"/>
            <a:chExt cx="2149560" cy="1224000"/>
          </a:xfrm>
        </p:grpSpPr>
        <p:sp>
          <p:nvSpPr>
            <p:cNvPr id="509" name=""/>
            <p:cNvSpPr/>
            <p:nvPr/>
          </p:nvSpPr>
          <p:spPr>
            <a:xfrm>
              <a:off x="4044960" y="2971800"/>
              <a:ext cx="432000" cy="43164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16360" y="2743200"/>
              <a:ext cx="900360" cy="900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10800000">
              <a:off x="3816000" y="2743200"/>
              <a:ext cx="900360" cy="900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359160" y="2743200"/>
              <a:ext cx="1800360" cy="90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435480" y="2743200"/>
              <a:ext cx="304920" cy="914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807080" y="2743200"/>
              <a:ext cx="304920" cy="9144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10800000">
              <a:off x="3200400" y="2590920"/>
              <a:ext cx="162000" cy="1224000"/>
            </a:xfrm>
            <a:prstGeom prst="flowChartDelay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187960" y="2590920"/>
              <a:ext cx="162000" cy="1224000"/>
            </a:xfrm>
            <a:prstGeom prst="flowChartDelay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816360" y="3200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02160" y="3200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740400" y="281952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273560" y="358128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5035680" y="365724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3511800" y="365724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511800" y="380988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2971800" y="3200400"/>
            <a:ext cx="0" cy="21337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562720" y="3200400"/>
            <a:ext cx="0" cy="21337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5740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1992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048120" y="510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1814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5800" y="2286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 Stromkreis ist unterbrochen. Es fließt kein Str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85800" y="59436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Anker am Rotor sind nicht magnetis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477120" y="1752480"/>
            <a:ext cx="1371600" cy="533520"/>
          </a:xfrm>
          <a:prstGeom prst="wedgeRectCallout">
            <a:avLst>
              <a:gd name="adj1" fmla="val -237731"/>
              <a:gd name="adj2" fmla="val 217263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477120" y="1752480"/>
            <a:ext cx="1523880" cy="533520"/>
          </a:xfrm>
          <a:prstGeom prst="wedgeRectCallout">
            <a:avLst>
              <a:gd name="adj1" fmla="val -173231"/>
              <a:gd name="adj2" fmla="val 22143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la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477120" y="1752480"/>
            <a:ext cx="1523880" cy="533520"/>
          </a:xfrm>
          <a:prstGeom prst="wedgeRectCallout">
            <a:avLst>
              <a:gd name="adj1" fmla="val -173231"/>
              <a:gd name="adj2" fmla="val 22143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la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>
            <a:hlinkClick r:id="rId5" action="ppaction://hlinksldjump"/>
          </p:cNvPr>
          <p:cNvSpPr/>
          <p:nvPr/>
        </p:nvSpPr>
        <p:spPr>
          <a:xfrm>
            <a:off x="8153280" y="6095880"/>
            <a:ext cx="360360" cy="360360"/>
          </a:xfrm>
          <a:custGeom>
            <a:avLst/>
            <a:gdLst>
              <a:gd name="textAreaLeft" fmla="*/ 90000 w 360360"/>
              <a:gd name="textAreaRight" fmla="*/ 270360 w 360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10800"/>
                </a:moveTo>
                <a:lnTo>
                  <a:pt x="14825" y="6775"/>
                </a:lnTo>
                <a:lnTo>
                  <a:pt x="14825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"/>
          <p:cNvGrpSpPr/>
          <p:nvPr/>
        </p:nvGrpSpPr>
        <p:grpSpPr>
          <a:xfrm>
            <a:off x="1905120" y="1066680"/>
            <a:ext cx="2361960" cy="3598920"/>
            <a:chOff x="1905120" y="1066680"/>
            <a:chExt cx="2361960" cy="3598920"/>
          </a:xfrm>
        </p:grpSpPr>
        <p:sp>
          <p:nvSpPr>
            <p:cNvPr id="537" name=""/>
            <p:cNvSpPr/>
            <p:nvPr/>
          </p:nvSpPr>
          <p:spPr>
            <a:xfrm>
              <a:off x="1905120" y="1066680"/>
              <a:ext cx="761760" cy="35989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647800" y="1066680"/>
              <a:ext cx="1619280" cy="6112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4267080" y="1066680"/>
            <a:ext cx="2319480" cy="3598920"/>
            <a:chOff x="4267080" y="1066680"/>
            <a:chExt cx="2319480" cy="3598920"/>
          </a:xfrm>
        </p:grpSpPr>
        <p:sp>
          <p:nvSpPr>
            <p:cNvPr id="540" name=""/>
            <p:cNvSpPr/>
            <p:nvPr/>
          </p:nvSpPr>
          <p:spPr>
            <a:xfrm>
              <a:off x="5867280" y="1066680"/>
              <a:ext cx="719280" cy="3598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267080" y="1066680"/>
              <a:ext cx="1619280" cy="611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2971800" y="3200400"/>
            <a:ext cx="762120" cy="2133720"/>
            <a:chOff x="2971800" y="3200400"/>
            <a:chExt cx="762120" cy="2133720"/>
          </a:xfrm>
        </p:grpSpPr>
        <p:sp>
          <p:nvSpPr>
            <p:cNvPr id="543" name=""/>
            <p:cNvSpPr/>
            <p:nvPr/>
          </p:nvSpPr>
          <p:spPr>
            <a:xfrm>
              <a:off x="2971800" y="3200400"/>
              <a:ext cx="76212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971800" y="3200400"/>
              <a:ext cx="0" cy="21337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4800600" y="3200400"/>
            <a:ext cx="762120" cy="2133720"/>
            <a:chOff x="4800600" y="3200400"/>
            <a:chExt cx="762120" cy="2133720"/>
          </a:xfrm>
        </p:grpSpPr>
        <p:sp>
          <p:nvSpPr>
            <p:cNvPr id="546" name=""/>
            <p:cNvSpPr/>
            <p:nvPr/>
          </p:nvSpPr>
          <p:spPr>
            <a:xfrm>
              <a:off x="4800600" y="3200400"/>
              <a:ext cx="76212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562720" y="3200400"/>
              <a:ext cx="0" cy="21337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3041640" y="2228040"/>
            <a:ext cx="2452680" cy="1947960"/>
            <a:chOff x="3041640" y="2228040"/>
            <a:chExt cx="2452680" cy="1947960"/>
          </a:xfrm>
        </p:grpSpPr>
        <p:sp>
          <p:nvSpPr>
            <p:cNvPr id="549" name=""/>
            <p:cNvSpPr/>
            <p:nvPr/>
          </p:nvSpPr>
          <p:spPr>
            <a:xfrm rot="1335000">
              <a:off x="4044600" y="2967120"/>
              <a:ext cx="431640" cy="43164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1335000">
              <a:off x="3812760" y="2739960"/>
              <a:ext cx="900000" cy="900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12135000">
              <a:off x="3813120" y="2739600"/>
              <a:ext cx="900000" cy="900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1335000">
              <a:off x="3357360" y="2736360"/>
              <a:ext cx="1800000" cy="90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1335000">
              <a:off x="3504960" y="2514240"/>
              <a:ext cx="304560" cy="914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1335000">
              <a:off x="4749480" y="3001680"/>
              <a:ext cx="304920" cy="9144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rot="12135000">
              <a:off x="3267000" y="2212920"/>
              <a:ext cx="162000" cy="1224000"/>
            </a:xfrm>
            <a:prstGeom prst="flowChartDelay">
              <a:avLst/>
            </a:prstGeom>
            <a:solidFill>
              <a:srgbClr val="008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1335000">
              <a:off x="5106600" y="2966760"/>
              <a:ext cx="162000" cy="1224000"/>
            </a:xfrm>
            <a:prstGeom prst="flowChartDelay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844080" y="3025440"/>
              <a:ext cx="211320" cy="86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79120" y="3285720"/>
              <a:ext cx="211320" cy="86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918600" y="2645280"/>
              <a:ext cx="493920" cy="20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123440" y="3551760"/>
              <a:ext cx="493920" cy="20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4741560" y="3910680"/>
              <a:ext cx="57600" cy="14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3331800" y="3332880"/>
              <a:ext cx="57600" cy="14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331800" y="3475080"/>
              <a:ext cx="1410480" cy="57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205740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01992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048120" y="510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1814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85800" y="2286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 Stromkreis ist geschlossen. Es fließt Str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04920" y="548640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Anker am Rotor sind magnetis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04920" y="60958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eichnamige Pole stoßen sich ab. Der Rotor dreht si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rot="765000">
            <a:off x="2966760" y="1366560"/>
            <a:ext cx="2519280" cy="2519280"/>
          </a:xfrm>
          <a:custGeom>
            <a:avLst/>
            <a:gdLst>
              <a:gd name="textAreaLeft" fmla="*/ 0 w 2519280"/>
              <a:gd name="textAreaRight" fmla="*/ 2519640 w 2519280"/>
              <a:gd name="textAreaTop" fmla="*/ 0 h 2519280"/>
              <a:gd name="textAreaBottom" fmla="*/ 2519640 h 2519280"/>
            </a:gdLst>
            <a:ahLst/>
            <a:rect l="textAreaLeft" t="textAreaTop" r="textAreaRight" b="textAreaBottom"/>
            <a:pathLst>
              <a:path w="21600" h="21600">
                <a:moveTo>
                  <a:pt x="7138" y="19110"/>
                </a:moveTo>
                <a:arcTo wR="-9081" hR="-9081" stAng="6826910" swAng="-6826910"/>
                <a:lnTo>
                  <a:pt x="0" y="10800"/>
                </a:lnTo>
                <a:arcTo wR="10800" hR="10800" stAng="10800000" swAng="6826910"/>
                <a:lnTo>
                  <a:pt x="16244" y="-1554"/>
                </a:lnTo>
                <a:lnTo>
                  <a:pt x="18066" y="3139"/>
                </a:lnTo>
                <a:lnTo>
                  <a:pt x="13373" y="496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477120" y="1752480"/>
            <a:ext cx="1371600" cy="533520"/>
          </a:xfrm>
          <a:prstGeom prst="wedgeRectCallout">
            <a:avLst>
              <a:gd name="adj1" fmla="val -248379"/>
              <a:gd name="adj2" fmla="val 22559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477120" y="1752480"/>
            <a:ext cx="1523880" cy="533520"/>
          </a:xfrm>
          <a:prstGeom prst="wedgeRectCallout">
            <a:avLst>
              <a:gd name="adj1" fmla="val -160833"/>
              <a:gd name="adj2" fmla="val 215773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lei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971800" y="3193920"/>
            <a:ext cx="152280" cy="2133720"/>
          </a:xfrm>
          <a:custGeom>
            <a:avLst/>
            <a:gdLst/>
            <a:ahLst/>
            <a:rect l="l" t="t" r="r" b="b"/>
            <a:pathLst>
              <a:path w="96" h="1344">
                <a:moveTo>
                  <a:pt x="0" y="1344"/>
                </a:move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276720" y="3193920"/>
            <a:ext cx="152280" cy="1800"/>
          </a:xfrm>
          <a:custGeom>
            <a:avLst/>
            <a:gdLst/>
            <a:ahLst/>
            <a:rect l="l" t="t" r="r" b="b"/>
            <a:pathLst>
              <a:path w="96" h="1">
                <a:moveTo>
                  <a:pt x="0" y="0"/>
                </a:moveTo>
                <a:lnTo>
                  <a:pt x="48" y="0"/>
                </a:lnTo>
                <a:lnTo>
                  <a:pt x="96" y="0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352680" y="2584440"/>
            <a:ext cx="1752840" cy="1447920"/>
          </a:xfrm>
          <a:custGeom>
            <a:avLst/>
            <a:gdLst/>
            <a:ahLst/>
            <a:rect l="l" t="t" r="r" b="b"/>
            <a:pathLst>
              <a:path w="1104" h="912">
                <a:moveTo>
                  <a:pt x="240" y="384"/>
                </a:moveTo>
                <a:lnTo>
                  <a:pt x="336" y="384"/>
                </a:lnTo>
                <a:lnTo>
                  <a:pt x="336" y="432"/>
                </a:lnTo>
                <a:lnTo>
                  <a:pt x="336" y="480"/>
                </a:lnTo>
                <a:lnTo>
                  <a:pt x="384" y="528"/>
                </a:lnTo>
                <a:lnTo>
                  <a:pt x="432" y="576"/>
                </a:lnTo>
                <a:lnTo>
                  <a:pt x="480" y="576"/>
                </a:lnTo>
                <a:lnTo>
                  <a:pt x="480" y="624"/>
                </a:lnTo>
                <a:lnTo>
                  <a:pt x="864" y="768"/>
                </a:lnTo>
                <a:lnTo>
                  <a:pt x="1056" y="288"/>
                </a:lnTo>
                <a:lnTo>
                  <a:pt x="1104" y="288"/>
                </a:lnTo>
                <a:lnTo>
                  <a:pt x="864" y="912"/>
                </a:lnTo>
                <a:lnTo>
                  <a:pt x="0" y="576"/>
                </a:lnTo>
                <a:lnTo>
                  <a:pt x="240" y="0"/>
                </a:lnTo>
                <a:lnTo>
                  <a:pt x="96" y="480"/>
                </a:lnTo>
                <a:lnTo>
                  <a:pt x="336" y="48"/>
                </a:lnTo>
                <a:lnTo>
                  <a:pt x="720" y="192"/>
                </a:lnTo>
                <a:lnTo>
                  <a:pt x="816" y="288"/>
                </a:lnTo>
                <a:lnTo>
                  <a:pt x="816" y="336"/>
                </a:lnTo>
                <a:lnTo>
                  <a:pt x="960" y="384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410080" y="3200400"/>
            <a:ext cx="152640" cy="2133720"/>
          </a:xfrm>
          <a:custGeom>
            <a:avLst/>
            <a:gdLst/>
            <a:ahLst/>
            <a:rect l="l" t="t" r="r" b="b"/>
            <a:pathLst>
              <a:path w="96" h="1344">
                <a:moveTo>
                  <a:pt x="0" y="0"/>
                </a:moveTo>
                <a:lnTo>
                  <a:pt x="96" y="0"/>
                </a:lnTo>
                <a:lnTo>
                  <a:pt x="96" y="1344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>
            <a:hlinkClick r:id="rId5" action="ppaction://hlinksldjump"/>
          </p:cNvPr>
          <p:cNvSpPr/>
          <p:nvPr/>
        </p:nvSpPr>
        <p:spPr>
          <a:xfrm>
            <a:off x="8153280" y="6095880"/>
            <a:ext cx="360360" cy="360360"/>
          </a:xfrm>
          <a:custGeom>
            <a:avLst/>
            <a:gdLst>
              <a:gd name="textAreaLeft" fmla="*/ 90000 w 360360"/>
              <a:gd name="textAreaRight" fmla="*/ 270360 w 360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10800"/>
                </a:moveTo>
                <a:lnTo>
                  <a:pt x="14825" y="6775"/>
                </a:lnTo>
                <a:lnTo>
                  <a:pt x="14825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"/>
          <p:cNvGrpSpPr/>
          <p:nvPr/>
        </p:nvGrpSpPr>
        <p:grpSpPr>
          <a:xfrm>
            <a:off x="1905120" y="1066680"/>
            <a:ext cx="2361960" cy="3598920"/>
            <a:chOff x="1905120" y="1066680"/>
            <a:chExt cx="2361960" cy="3598920"/>
          </a:xfrm>
        </p:grpSpPr>
        <p:sp>
          <p:nvSpPr>
            <p:cNvPr id="580" name=""/>
            <p:cNvSpPr/>
            <p:nvPr/>
          </p:nvSpPr>
          <p:spPr>
            <a:xfrm>
              <a:off x="1905120" y="1066680"/>
              <a:ext cx="761760" cy="35989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647800" y="1066680"/>
              <a:ext cx="1619280" cy="6112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4267080" y="1066680"/>
            <a:ext cx="2319480" cy="3598920"/>
            <a:chOff x="4267080" y="1066680"/>
            <a:chExt cx="2319480" cy="3598920"/>
          </a:xfrm>
        </p:grpSpPr>
        <p:sp>
          <p:nvSpPr>
            <p:cNvPr id="583" name=""/>
            <p:cNvSpPr/>
            <p:nvPr/>
          </p:nvSpPr>
          <p:spPr>
            <a:xfrm>
              <a:off x="5867280" y="1066680"/>
              <a:ext cx="719280" cy="3598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267080" y="1066680"/>
              <a:ext cx="1619280" cy="611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2971800" y="3200400"/>
            <a:ext cx="762120" cy="2133720"/>
            <a:chOff x="2971800" y="3200400"/>
            <a:chExt cx="762120" cy="2133720"/>
          </a:xfrm>
        </p:grpSpPr>
        <p:sp>
          <p:nvSpPr>
            <p:cNvPr id="586" name=""/>
            <p:cNvSpPr/>
            <p:nvPr/>
          </p:nvSpPr>
          <p:spPr>
            <a:xfrm>
              <a:off x="2971800" y="3200400"/>
              <a:ext cx="76212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971800" y="3200400"/>
              <a:ext cx="0" cy="21337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4800600" y="3200400"/>
            <a:ext cx="762120" cy="2133720"/>
            <a:chOff x="4800600" y="3200400"/>
            <a:chExt cx="762120" cy="2133720"/>
          </a:xfrm>
        </p:grpSpPr>
        <p:sp>
          <p:nvSpPr>
            <p:cNvPr id="589" name=""/>
            <p:cNvSpPr/>
            <p:nvPr/>
          </p:nvSpPr>
          <p:spPr>
            <a:xfrm>
              <a:off x="4800600" y="3200400"/>
              <a:ext cx="76212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562720" y="3200400"/>
              <a:ext cx="0" cy="21337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3276000" y="1971360"/>
            <a:ext cx="1984680" cy="2459880"/>
            <a:chOff x="3276000" y="1971360"/>
            <a:chExt cx="1984680" cy="2459880"/>
          </a:xfrm>
        </p:grpSpPr>
        <p:sp>
          <p:nvSpPr>
            <p:cNvPr id="592" name=""/>
            <p:cNvSpPr/>
            <p:nvPr/>
          </p:nvSpPr>
          <p:spPr>
            <a:xfrm rot="6819000">
              <a:off x="4071240" y="2978280"/>
              <a:ext cx="431640" cy="43164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6819000">
              <a:off x="3830400" y="2746440"/>
              <a:ext cx="900000" cy="900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17619000">
              <a:off x="3830400" y="2746800"/>
              <a:ext cx="900000" cy="900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6819000">
              <a:off x="3383640" y="2740680"/>
              <a:ext cx="1800000" cy="90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6819000">
              <a:off x="4361040" y="2139480"/>
              <a:ext cx="304560" cy="914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6819000">
              <a:off x="3843360" y="3371760"/>
              <a:ext cx="304920" cy="9144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17619000">
              <a:off x="4586400" y="1678680"/>
              <a:ext cx="162000" cy="1224000"/>
            </a:xfrm>
            <a:prstGeom prst="flowChartDelay">
              <a:avLst/>
            </a:prstGeom>
            <a:solidFill>
              <a:srgbClr val="008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6819000">
              <a:off x="3787920" y="3499560"/>
              <a:ext cx="162000" cy="1224000"/>
            </a:xfrm>
            <a:prstGeom prst="flowChartDelay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4363560" y="2781720"/>
              <a:ext cx="91800" cy="209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4087800" y="3410280"/>
              <a:ext cx="91800" cy="209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4619160" y="2865600"/>
              <a:ext cx="214200" cy="48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3708000" y="3048480"/>
              <a:ext cx="214200" cy="488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407400" y="3654000"/>
              <a:ext cx="139680" cy="6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019400" y="2258640"/>
              <a:ext cx="139680" cy="6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3406680" y="2258640"/>
              <a:ext cx="611640" cy="139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205740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01992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048120" y="510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1814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85800" y="2286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 Stromkreis ist geschlossen. Es fließt Str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04920" y="548640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Anker am Rotor sind magnetis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04920" y="60958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gleichnamige Pole ziehen sich an. Der Rotor dreht si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rot="1847400">
            <a:off x="2966760" y="1366560"/>
            <a:ext cx="2519280" cy="2519280"/>
          </a:xfrm>
          <a:custGeom>
            <a:avLst/>
            <a:gdLst>
              <a:gd name="textAreaLeft" fmla="*/ 0 w 2519280"/>
              <a:gd name="textAreaRight" fmla="*/ 2519640 w 2519280"/>
              <a:gd name="textAreaTop" fmla="*/ 0 h 2519280"/>
              <a:gd name="textAreaBottom" fmla="*/ 2519640 h 2519280"/>
            </a:gdLst>
            <a:ahLst/>
            <a:rect l="textAreaLeft" t="textAreaTop" r="textAreaRight" b="textAreaBottom"/>
            <a:pathLst>
              <a:path w="21600" h="21600">
                <a:moveTo>
                  <a:pt x="7138" y="19110"/>
                </a:moveTo>
                <a:arcTo wR="-9081" hR="-9081" stAng="6826910" swAng="-6826910"/>
                <a:lnTo>
                  <a:pt x="0" y="10800"/>
                </a:lnTo>
                <a:arcTo wR="10800" hR="10800" stAng="10800000" swAng="6826910"/>
                <a:lnTo>
                  <a:pt x="16244" y="-1554"/>
                </a:lnTo>
                <a:lnTo>
                  <a:pt x="18066" y="3139"/>
                </a:lnTo>
                <a:lnTo>
                  <a:pt x="13373" y="496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>
            <a:hlinkClick r:id="rId5" action="ppaction://hlinksldjump"/>
          </p:cNvPr>
          <p:cNvSpPr/>
          <p:nvPr/>
        </p:nvSpPr>
        <p:spPr>
          <a:xfrm>
            <a:off x="8153280" y="6095880"/>
            <a:ext cx="360360" cy="360360"/>
          </a:xfrm>
          <a:custGeom>
            <a:avLst/>
            <a:gdLst>
              <a:gd name="textAreaLeft" fmla="*/ 90000 w 360360"/>
              <a:gd name="textAreaRight" fmla="*/ 270360 w 360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10800"/>
                </a:moveTo>
                <a:lnTo>
                  <a:pt x="14825" y="6775"/>
                </a:lnTo>
                <a:lnTo>
                  <a:pt x="14825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"/>
          <p:cNvGrpSpPr/>
          <p:nvPr/>
        </p:nvGrpSpPr>
        <p:grpSpPr>
          <a:xfrm>
            <a:off x="1905120" y="1066680"/>
            <a:ext cx="2361960" cy="3598920"/>
            <a:chOff x="1905120" y="1066680"/>
            <a:chExt cx="2361960" cy="3598920"/>
          </a:xfrm>
        </p:grpSpPr>
        <p:sp>
          <p:nvSpPr>
            <p:cNvPr id="617" name=""/>
            <p:cNvSpPr/>
            <p:nvPr/>
          </p:nvSpPr>
          <p:spPr>
            <a:xfrm>
              <a:off x="1905120" y="1066680"/>
              <a:ext cx="761760" cy="35989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647800" y="1066680"/>
              <a:ext cx="1619280" cy="6112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4267080" y="1066680"/>
            <a:ext cx="2319480" cy="3598920"/>
            <a:chOff x="4267080" y="1066680"/>
            <a:chExt cx="2319480" cy="3598920"/>
          </a:xfrm>
        </p:grpSpPr>
        <p:sp>
          <p:nvSpPr>
            <p:cNvPr id="620" name=""/>
            <p:cNvSpPr/>
            <p:nvPr/>
          </p:nvSpPr>
          <p:spPr>
            <a:xfrm>
              <a:off x="5867280" y="1066680"/>
              <a:ext cx="719280" cy="3598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267080" y="1066680"/>
              <a:ext cx="1619280" cy="611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2971800" y="3200400"/>
            <a:ext cx="762120" cy="2133720"/>
            <a:chOff x="2971800" y="3200400"/>
            <a:chExt cx="762120" cy="2133720"/>
          </a:xfrm>
        </p:grpSpPr>
        <p:sp>
          <p:nvSpPr>
            <p:cNvPr id="623" name=""/>
            <p:cNvSpPr/>
            <p:nvPr/>
          </p:nvSpPr>
          <p:spPr>
            <a:xfrm>
              <a:off x="2971800" y="3200400"/>
              <a:ext cx="76212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971800" y="3200400"/>
              <a:ext cx="0" cy="21337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4800600" y="3200400"/>
            <a:ext cx="762120" cy="2133720"/>
            <a:chOff x="4800600" y="3200400"/>
            <a:chExt cx="762120" cy="2133720"/>
          </a:xfrm>
        </p:grpSpPr>
        <p:sp>
          <p:nvSpPr>
            <p:cNvPr id="626" name=""/>
            <p:cNvSpPr/>
            <p:nvPr/>
          </p:nvSpPr>
          <p:spPr>
            <a:xfrm>
              <a:off x="4800600" y="3200400"/>
              <a:ext cx="76212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562720" y="3200400"/>
              <a:ext cx="0" cy="21337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 rot="10787400">
            <a:off x="4066560" y="3000240"/>
            <a:ext cx="431640" cy="4320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rot="10787400">
            <a:off x="3825360" y="2758680"/>
            <a:ext cx="900360" cy="9000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21587400">
            <a:off x="3825360" y="2759040"/>
            <a:ext cx="900360" cy="9000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rot="10787400">
            <a:off x="3382560" y="2759040"/>
            <a:ext cx="1800360" cy="900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rot="10787400">
            <a:off x="4768920" y="2722320"/>
            <a:ext cx="30456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rot="10787400">
            <a:off x="3432240" y="2747520"/>
            <a:ext cx="304560" cy="914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rot="21587400">
            <a:off x="5181480" y="2584440"/>
            <a:ext cx="162000" cy="1224000"/>
          </a:xfrm>
          <a:prstGeom prst="flowChartDelay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rot="10787400">
            <a:off x="3200040" y="2590560"/>
            <a:ext cx="162000" cy="1224000"/>
          </a:xfrm>
          <a:prstGeom prst="flowChartDelay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4498560" y="3201480"/>
            <a:ext cx="228600" cy="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3812760" y="3204720"/>
            <a:ext cx="228600" cy="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4270320" y="3582000"/>
            <a:ext cx="533520" cy="2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H="1">
            <a:off x="3735360" y="2821320"/>
            <a:ext cx="533520" cy="2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506400" y="2594880"/>
            <a:ext cx="72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030280" y="2591640"/>
            <a:ext cx="72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3504960" y="2591280"/>
            <a:ext cx="1523880" cy="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05740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01992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048120" y="510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1814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85800" y="2286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 Stromkreis ist unterbrochen. Es fließt kein Str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>
            <a:hlinkClick r:id="rId5" action="ppaction://hlinksldjump"/>
          </p:cNvPr>
          <p:cNvSpPr/>
          <p:nvPr/>
        </p:nvSpPr>
        <p:spPr>
          <a:xfrm>
            <a:off x="8153280" y="6095880"/>
            <a:ext cx="360360" cy="360360"/>
          </a:xfrm>
          <a:custGeom>
            <a:avLst/>
            <a:gdLst>
              <a:gd name="textAreaLeft" fmla="*/ 90000 w 360360"/>
              <a:gd name="textAreaRight" fmla="*/ 270360 w 360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10800"/>
                </a:moveTo>
                <a:lnTo>
                  <a:pt x="14825" y="6775"/>
                </a:lnTo>
                <a:lnTo>
                  <a:pt x="14825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9" name=""/>
          <p:cNvGrpSpPr/>
          <p:nvPr/>
        </p:nvGrpSpPr>
        <p:grpSpPr>
          <a:xfrm>
            <a:off x="1905120" y="1066680"/>
            <a:ext cx="2361960" cy="3598920"/>
            <a:chOff x="1905120" y="1066680"/>
            <a:chExt cx="2361960" cy="3598920"/>
          </a:xfrm>
        </p:grpSpPr>
        <p:sp>
          <p:nvSpPr>
            <p:cNvPr id="650" name=""/>
            <p:cNvSpPr/>
            <p:nvPr/>
          </p:nvSpPr>
          <p:spPr>
            <a:xfrm>
              <a:off x="1905120" y="1066680"/>
              <a:ext cx="761760" cy="35989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647800" y="1066680"/>
              <a:ext cx="1619280" cy="6112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4267080" y="1066680"/>
            <a:ext cx="2319480" cy="3598920"/>
            <a:chOff x="4267080" y="1066680"/>
            <a:chExt cx="2319480" cy="3598920"/>
          </a:xfrm>
        </p:grpSpPr>
        <p:sp>
          <p:nvSpPr>
            <p:cNvPr id="653" name=""/>
            <p:cNvSpPr/>
            <p:nvPr/>
          </p:nvSpPr>
          <p:spPr>
            <a:xfrm>
              <a:off x="5867280" y="1066680"/>
              <a:ext cx="719280" cy="3598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267080" y="1066680"/>
              <a:ext cx="1619280" cy="611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2971800" y="3200400"/>
            <a:ext cx="762120" cy="2133720"/>
            <a:chOff x="2971800" y="3200400"/>
            <a:chExt cx="762120" cy="2133720"/>
          </a:xfrm>
        </p:grpSpPr>
        <p:sp>
          <p:nvSpPr>
            <p:cNvPr id="656" name=""/>
            <p:cNvSpPr/>
            <p:nvPr/>
          </p:nvSpPr>
          <p:spPr>
            <a:xfrm>
              <a:off x="2971800" y="3200400"/>
              <a:ext cx="76212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971800" y="3200400"/>
              <a:ext cx="0" cy="21337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4800600" y="3200400"/>
            <a:ext cx="762120" cy="2133720"/>
            <a:chOff x="4800600" y="3200400"/>
            <a:chExt cx="762120" cy="2133720"/>
          </a:xfrm>
        </p:grpSpPr>
        <p:sp>
          <p:nvSpPr>
            <p:cNvPr id="659" name=""/>
            <p:cNvSpPr/>
            <p:nvPr/>
          </p:nvSpPr>
          <p:spPr>
            <a:xfrm>
              <a:off x="4800600" y="3200400"/>
              <a:ext cx="76212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562720" y="3200400"/>
              <a:ext cx="0" cy="21337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3031920" y="2163960"/>
            <a:ext cx="2472480" cy="2074320"/>
            <a:chOff x="3031920" y="2163960"/>
            <a:chExt cx="2472480" cy="2074320"/>
          </a:xfrm>
        </p:grpSpPr>
        <p:sp>
          <p:nvSpPr>
            <p:cNvPr id="662" name=""/>
            <p:cNvSpPr/>
            <p:nvPr/>
          </p:nvSpPr>
          <p:spPr>
            <a:xfrm rot="9158400">
              <a:off x="4071600" y="2991600"/>
              <a:ext cx="431640" cy="43164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9158400">
              <a:off x="3830400" y="2755080"/>
              <a:ext cx="900000" cy="900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19958400">
              <a:off x="3830400" y="2755080"/>
              <a:ext cx="900000" cy="900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9158400">
              <a:off x="3386520" y="2752560"/>
              <a:ext cx="1800000" cy="90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9158400">
              <a:off x="4686840" y="2428200"/>
              <a:ext cx="304560" cy="914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rot="9158400">
              <a:off x="3508920" y="3060000"/>
              <a:ext cx="304920" cy="9144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rot="19958400">
              <a:off x="5070240" y="2132640"/>
              <a:ext cx="162000" cy="1224000"/>
            </a:xfrm>
            <a:prstGeom prst="flowChartDelay">
              <a:avLst/>
            </a:prstGeom>
            <a:solidFill>
              <a:srgbClr val="008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rot="9158400">
              <a:off x="3303720" y="3045240"/>
              <a:ext cx="162000" cy="1224000"/>
            </a:xfrm>
            <a:prstGeom prst="flowChartDelay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4474440" y="2992680"/>
              <a:ext cx="203040" cy="105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3864600" y="3307680"/>
              <a:ext cx="203040" cy="105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4444560" y="3295800"/>
              <a:ext cx="474120" cy="24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3621600" y="2864520"/>
              <a:ext cx="473760" cy="24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314160" y="3011400"/>
              <a:ext cx="70200" cy="13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667760" y="2311920"/>
              <a:ext cx="70200" cy="13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3313080" y="2311200"/>
              <a:ext cx="1353960" cy="7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205740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01992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048120" y="510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1814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85800" y="2286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 Stromkreis ist noch geschlossen. Es fließt noch Str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" y="6019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eich wird umgepo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>
            <a:hlinkClick r:id="rId5" action="ppaction://hlinksldjump"/>
          </p:cNvPr>
          <p:cNvSpPr/>
          <p:nvPr/>
        </p:nvSpPr>
        <p:spPr>
          <a:xfrm>
            <a:off x="8153280" y="6095880"/>
            <a:ext cx="360360" cy="360360"/>
          </a:xfrm>
          <a:custGeom>
            <a:avLst/>
            <a:gdLst>
              <a:gd name="textAreaLeft" fmla="*/ 90000 w 360360"/>
              <a:gd name="textAreaRight" fmla="*/ 270360 w 360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10800"/>
                </a:moveTo>
                <a:lnTo>
                  <a:pt x="14825" y="6775"/>
                </a:lnTo>
                <a:lnTo>
                  <a:pt x="14825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"/>
          <p:cNvGrpSpPr/>
          <p:nvPr/>
        </p:nvGrpSpPr>
        <p:grpSpPr>
          <a:xfrm>
            <a:off x="1905120" y="1066680"/>
            <a:ext cx="2361960" cy="3598920"/>
            <a:chOff x="1905120" y="1066680"/>
            <a:chExt cx="2361960" cy="3598920"/>
          </a:xfrm>
        </p:grpSpPr>
        <p:sp>
          <p:nvSpPr>
            <p:cNvPr id="685" name=""/>
            <p:cNvSpPr/>
            <p:nvPr/>
          </p:nvSpPr>
          <p:spPr>
            <a:xfrm>
              <a:off x="1905120" y="1066680"/>
              <a:ext cx="761760" cy="35989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47800" y="1066680"/>
              <a:ext cx="1619280" cy="6112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4267080" y="1066680"/>
            <a:ext cx="2319480" cy="3598920"/>
            <a:chOff x="4267080" y="1066680"/>
            <a:chExt cx="2319480" cy="3598920"/>
          </a:xfrm>
        </p:grpSpPr>
        <p:sp>
          <p:nvSpPr>
            <p:cNvPr id="688" name=""/>
            <p:cNvSpPr/>
            <p:nvPr/>
          </p:nvSpPr>
          <p:spPr>
            <a:xfrm>
              <a:off x="5867280" y="1066680"/>
              <a:ext cx="719280" cy="3598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267080" y="1066680"/>
              <a:ext cx="1619280" cy="611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2971800" y="3200400"/>
            <a:ext cx="762120" cy="2133720"/>
            <a:chOff x="2971800" y="3200400"/>
            <a:chExt cx="762120" cy="2133720"/>
          </a:xfrm>
        </p:grpSpPr>
        <p:sp>
          <p:nvSpPr>
            <p:cNvPr id="691" name=""/>
            <p:cNvSpPr/>
            <p:nvPr/>
          </p:nvSpPr>
          <p:spPr>
            <a:xfrm>
              <a:off x="2971800" y="3200400"/>
              <a:ext cx="76212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971800" y="3200400"/>
              <a:ext cx="0" cy="21337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4800600" y="3200400"/>
            <a:ext cx="762120" cy="2133720"/>
            <a:chOff x="4800600" y="3200400"/>
            <a:chExt cx="762120" cy="2133720"/>
          </a:xfrm>
        </p:grpSpPr>
        <p:sp>
          <p:nvSpPr>
            <p:cNvPr id="694" name=""/>
            <p:cNvSpPr/>
            <p:nvPr/>
          </p:nvSpPr>
          <p:spPr>
            <a:xfrm>
              <a:off x="4800600" y="3200400"/>
              <a:ext cx="76212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562720" y="3200400"/>
              <a:ext cx="0" cy="21337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3064680" y="2288520"/>
            <a:ext cx="2414520" cy="1822320"/>
            <a:chOff x="3064680" y="2288520"/>
            <a:chExt cx="2414520" cy="1822320"/>
          </a:xfrm>
        </p:grpSpPr>
        <p:sp>
          <p:nvSpPr>
            <p:cNvPr id="697" name=""/>
            <p:cNvSpPr/>
            <p:nvPr/>
          </p:nvSpPr>
          <p:spPr>
            <a:xfrm rot="11869200">
              <a:off x="4061160" y="3002760"/>
              <a:ext cx="431640" cy="4320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rot="11869200">
              <a:off x="3822120" y="2759400"/>
              <a:ext cx="900360" cy="900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1069200">
              <a:off x="3822120" y="2759760"/>
              <a:ext cx="900360" cy="900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rot="11869200">
              <a:off x="3378960" y="2761920"/>
              <a:ext cx="1800360" cy="90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rot="11869200">
              <a:off x="4743000" y="2924280"/>
              <a:ext cx="304560" cy="914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11869200">
              <a:off x="3464280" y="2534760"/>
              <a:ext cx="304560" cy="9144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1069200">
              <a:off x="5133600" y="2891160"/>
              <a:ext cx="162000" cy="1224000"/>
            </a:xfrm>
            <a:prstGeom prst="flowChartDelay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11869200">
              <a:off x="3247920" y="2283840"/>
              <a:ext cx="162000" cy="1224000"/>
            </a:xfrm>
            <a:prstGeom prst="flowChartDelay">
              <a:avLst/>
            </a:prstGeom>
            <a:solidFill>
              <a:srgbClr val="008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 flipV="1">
              <a:off x="4486680" y="3272400"/>
              <a:ext cx="217440" cy="69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 flipV="1">
              <a:off x="3833640" y="3063240"/>
              <a:ext cx="217440" cy="69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 flipV="1">
              <a:off x="4151520" y="3564720"/>
              <a:ext cx="507960" cy="16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 flipV="1">
              <a:off x="3878280" y="2675880"/>
              <a:ext cx="507960" cy="16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3684600" y="2387880"/>
              <a:ext cx="4680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134680" y="2856240"/>
              <a:ext cx="46800" cy="14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 flipV="1">
              <a:off x="3729240" y="2388600"/>
              <a:ext cx="1450800" cy="46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2" name=""/>
          <p:cNvSpPr/>
          <p:nvPr/>
        </p:nvSpPr>
        <p:spPr>
          <a:xfrm>
            <a:off x="205740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01992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048120" y="510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1814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85800" y="2286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 Stromkreis ist wieder geschlossen. Es fließt wieder Str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28600" y="6019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wurde umgepo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>
            <a:hlinkClick r:id="rId5" action="ppaction://hlinksldjump"/>
          </p:cNvPr>
          <p:cNvSpPr/>
          <p:nvPr/>
        </p:nvSpPr>
        <p:spPr>
          <a:xfrm>
            <a:off x="8153280" y="6095880"/>
            <a:ext cx="360360" cy="360360"/>
          </a:xfrm>
          <a:custGeom>
            <a:avLst/>
            <a:gdLst>
              <a:gd name="textAreaLeft" fmla="*/ 90000 w 360360"/>
              <a:gd name="textAreaRight" fmla="*/ 270360 w 360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10800"/>
                </a:moveTo>
                <a:lnTo>
                  <a:pt x="14825" y="6775"/>
                </a:lnTo>
                <a:lnTo>
                  <a:pt x="14825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800600" y="3200400"/>
            <a:ext cx="762120" cy="0"/>
          </a:xfrm>
          <a:prstGeom prst="line">
            <a:avLst/>
          </a:prstGeom>
          <a:ln w="57240">
            <a:solidFill>
              <a:srgbClr val="ff99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971800" y="3200400"/>
            <a:ext cx="76212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905120" y="1066680"/>
            <a:ext cx="2361960" cy="3598920"/>
            <a:chOff x="1905120" y="1066680"/>
            <a:chExt cx="2361960" cy="3598920"/>
          </a:xfrm>
        </p:grpSpPr>
        <p:sp>
          <p:nvSpPr>
            <p:cNvPr id="86" name=""/>
            <p:cNvSpPr/>
            <p:nvPr/>
          </p:nvSpPr>
          <p:spPr>
            <a:xfrm>
              <a:off x="1905120" y="1066680"/>
              <a:ext cx="761760" cy="35989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647800" y="1066680"/>
              <a:ext cx="1619280" cy="6112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4267080" y="1066680"/>
            <a:ext cx="2319480" cy="3598920"/>
            <a:chOff x="4267080" y="1066680"/>
            <a:chExt cx="2319480" cy="3598920"/>
          </a:xfrm>
        </p:grpSpPr>
        <p:sp>
          <p:nvSpPr>
            <p:cNvPr id="89" name=""/>
            <p:cNvSpPr/>
            <p:nvPr/>
          </p:nvSpPr>
          <p:spPr>
            <a:xfrm>
              <a:off x="5867280" y="1066680"/>
              <a:ext cx="719280" cy="3598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267080" y="1066680"/>
              <a:ext cx="1619280" cy="611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3193920" y="2590920"/>
            <a:ext cx="2149560" cy="1224000"/>
            <a:chOff x="3193920" y="2590920"/>
            <a:chExt cx="2149560" cy="1224000"/>
          </a:xfrm>
        </p:grpSpPr>
        <p:sp>
          <p:nvSpPr>
            <p:cNvPr id="92" name=""/>
            <p:cNvSpPr/>
            <p:nvPr/>
          </p:nvSpPr>
          <p:spPr>
            <a:xfrm>
              <a:off x="4038480" y="2971800"/>
              <a:ext cx="432000" cy="43164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09880" y="2743200"/>
              <a:ext cx="900360" cy="900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0800000">
              <a:off x="3809520" y="2743200"/>
              <a:ext cx="900360" cy="900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52680" y="2743200"/>
              <a:ext cx="1800360" cy="90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29000" y="2743200"/>
              <a:ext cx="304920" cy="914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00600" y="2743200"/>
              <a:ext cx="304920" cy="9144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0800000">
              <a:off x="3193920" y="2590920"/>
              <a:ext cx="162000" cy="1224000"/>
            </a:xfrm>
            <a:prstGeom prst="flowChartDelay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81480" y="2590920"/>
              <a:ext cx="162000" cy="1224000"/>
            </a:xfrm>
            <a:prstGeom prst="flowChartDelay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3200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95680" y="3200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33920" y="281952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267080" y="358128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5029200" y="365724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3505320" y="365724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05320" y="380988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971800" y="3200400"/>
            <a:ext cx="0" cy="21337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3200400"/>
            <a:ext cx="0" cy="21337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740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1992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510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5" action="ppaction://hlinksldjump"/>
          </p:cNvPr>
          <p:cNvSpPr/>
          <p:nvPr/>
        </p:nvSpPr>
        <p:spPr>
          <a:xfrm>
            <a:off x="8153280" y="6095880"/>
            <a:ext cx="360360" cy="360360"/>
          </a:xfrm>
          <a:custGeom>
            <a:avLst/>
            <a:gdLst>
              <a:gd name="textAreaLeft" fmla="*/ 90000 w 360360"/>
              <a:gd name="textAreaRight" fmla="*/ 270360 w 360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6775"/>
                </a:moveTo>
                <a:lnTo>
                  <a:pt x="14825" y="10800"/>
                </a:lnTo>
                <a:lnTo>
                  <a:pt x="6775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6" action="ppaction://hlinksldjump"/>
          </p:cNvPr>
          <p:cNvSpPr/>
          <p:nvPr/>
        </p:nvSpPr>
        <p:spPr>
          <a:xfrm>
            <a:off x="7696080" y="6095880"/>
            <a:ext cx="360360" cy="360360"/>
          </a:xfrm>
          <a:custGeom>
            <a:avLst/>
            <a:gdLst>
              <a:gd name="textAreaLeft" fmla="*/ 90000 w 360360"/>
              <a:gd name="textAreaRight" fmla="*/ 270360 w 360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8790" y="10800"/>
                </a:moveTo>
                <a:lnTo>
                  <a:pt x="14825" y="6775"/>
                </a:lnTo>
                <a:lnTo>
                  <a:pt x="14825" y="14825"/>
                </a:lnTo>
                <a:close/>
              </a:path>
              <a:path fill="darken" w="21600" h="21600">
                <a:moveTo>
                  <a:pt x="6775" y="6775"/>
                </a:moveTo>
                <a:lnTo>
                  <a:pt x="7730" y="6775"/>
                </a:lnTo>
                <a:lnTo>
                  <a:pt x="7730" y="14825"/>
                </a:lnTo>
                <a:lnTo>
                  <a:pt x="6775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96080" y="5715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4800600" y="3200400"/>
            <a:ext cx="762120" cy="0"/>
          </a:xfrm>
          <a:prstGeom prst="line">
            <a:avLst/>
          </a:prstGeom>
          <a:ln w="57240">
            <a:solidFill>
              <a:srgbClr val="ff99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971800" y="3200400"/>
            <a:ext cx="76212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1905120" y="1066680"/>
            <a:ext cx="2361960" cy="3598920"/>
            <a:chOff x="1905120" y="1066680"/>
            <a:chExt cx="2361960" cy="3598920"/>
          </a:xfrm>
        </p:grpSpPr>
        <p:sp>
          <p:nvSpPr>
            <p:cNvPr id="722" name=""/>
            <p:cNvSpPr/>
            <p:nvPr/>
          </p:nvSpPr>
          <p:spPr>
            <a:xfrm>
              <a:off x="1905120" y="1066680"/>
              <a:ext cx="761760" cy="35989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647800" y="1066680"/>
              <a:ext cx="1619280" cy="6112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4267080" y="1066680"/>
            <a:ext cx="2319480" cy="3598920"/>
            <a:chOff x="4267080" y="1066680"/>
            <a:chExt cx="2319480" cy="3598920"/>
          </a:xfrm>
        </p:grpSpPr>
        <p:sp>
          <p:nvSpPr>
            <p:cNvPr id="725" name=""/>
            <p:cNvSpPr/>
            <p:nvPr/>
          </p:nvSpPr>
          <p:spPr>
            <a:xfrm>
              <a:off x="5867280" y="1066680"/>
              <a:ext cx="719280" cy="3598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267080" y="1066680"/>
              <a:ext cx="1619280" cy="611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3200400" y="2590920"/>
            <a:ext cx="2149560" cy="1224000"/>
            <a:chOff x="3200400" y="2590920"/>
            <a:chExt cx="2149560" cy="1224000"/>
          </a:xfrm>
        </p:grpSpPr>
        <p:sp>
          <p:nvSpPr>
            <p:cNvPr id="728" name=""/>
            <p:cNvSpPr/>
            <p:nvPr/>
          </p:nvSpPr>
          <p:spPr>
            <a:xfrm>
              <a:off x="4044960" y="2971800"/>
              <a:ext cx="432000" cy="43164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816360" y="2743200"/>
              <a:ext cx="900360" cy="900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rot="10800000">
              <a:off x="3816000" y="2743200"/>
              <a:ext cx="900360" cy="900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359160" y="2743200"/>
              <a:ext cx="1800360" cy="90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435480" y="2743200"/>
              <a:ext cx="304920" cy="914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807080" y="2743200"/>
              <a:ext cx="304920" cy="9144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10800000">
              <a:off x="3200400" y="2590920"/>
              <a:ext cx="162000" cy="1224000"/>
            </a:xfrm>
            <a:prstGeom prst="flowChartDelay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187960" y="2590920"/>
              <a:ext cx="162000" cy="1224000"/>
            </a:xfrm>
            <a:prstGeom prst="flowChartDelay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816360" y="3200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502160" y="3200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740400" y="281952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273560" y="358128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5035680" y="365724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3511800" y="365724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511800" y="380988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2971800" y="3200400"/>
            <a:ext cx="0" cy="21337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562720" y="3200400"/>
            <a:ext cx="0" cy="21337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05740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01992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048120" y="510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1814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85800" y="2286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 Stromkreis ist unterbrochen. Es fließt kein Str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5800" y="59436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Anker am Rotor sind nicht magnetis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477120" y="1752480"/>
            <a:ext cx="1371600" cy="533520"/>
          </a:xfrm>
          <a:prstGeom prst="wedgeRectCallout">
            <a:avLst>
              <a:gd name="adj1" fmla="val -237731"/>
              <a:gd name="adj2" fmla="val 217263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477120" y="1752480"/>
            <a:ext cx="1523880" cy="533520"/>
          </a:xfrm>
          <a:prstGeom prst="wedgeRectCallout">
            <a:avLst>
              <a:gd name="adj1" fmla="val -173231"/>
              <a:gd name="adj2" fmla="val 22143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la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477120" y="1752480"/>
            <a:ext cx="1523880" cy="533520"/>
          </a:xfrm>
          <a:prstGeom prst="wedgeRectCallout">
            <a:avLst>
              <a:gd name="adj1" fmla="val -173231"/>
              <a:gd name="adj2" fmla="val 22143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lato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696080" y="6095880"/>
            <a:ext cx="360360" cy="360360"/>
          </a:xfrm>
          <a:custGeom>
            <a:avLst/>
            <a:gdLst>
              <a:gd name="textAreaLeft" fmla="*/ 90000 w 360360"/>
              <a:gd name="textAreaRight" fmla="*/ 270360 w 360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8790" y="10800"/>
                </a:moveTo>
                <a:lnTo>
                  <a:pt x="14825" y="6775"/>
                </a:lnTo>
                <a:lnTo>
                  <a:pt x="14825" y="14825"/>
                </a:lnTo>
                <a:close/>
              </a:path>
              <a:path fill="darken" w="21600" h="21600">
                <a:moveTo>
                  <a:pt x="6775" y="6775"/>
                </a:moveTo>
                <a:lnTo>
                  <a:pt x="7730" y="6775"/>
                </a:lnTo>
                <a:lnTo>
                  <a:pt x="7730" y="14825"/>
                </a:lnTo>
                <a:lnTo>
                  <a:pt x="6775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5" name=""/>
          <p:cNvGrpSpPr/>
          <p:nvPr/>
        </p:nvGrpSpPr>
        <p:grpSpPr>
          <a:xfrm>
            <a:off x="1905120" y="1066680"/>
            <a:ext cx="2361960" cy="3598920"/>
            <a:chOff x="1905120" y="1066680"/>
            <a:chExt cx="2361960" cy="3598920"/>
          </a:xfrm>
        </p:grpSpPr>
        <p:sp>
          <p:nvSpPr>
            <p:cNvPr id="756" name=""/>
            <p:cNvSpPr/>
            <p:nvPr/>
          </p:nvSpPr>
          <p:spPr>
            <a:xfrm>
              <a:off x="1905120" y="1066680"/>
              <a:ext cx="761760" cy="35989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647800" y="1066680"/>
              <a:ext cx="1619280" cy="6112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4267080" y="1066680"/>
            <a:ext cx="2319480" cy="3598920"/>
            <a:chOff x="4267080" y="1066680"/>
            <a:chExt cx="2319480" cy="3598920"/>
          </a:xfrm>
        </p:grpSpPr>
        <p:sp>
          <p:nvSpPr>
            <p:cNvPr id="759" name=""/>
            <p:cNvSpPr/>
            <p:nvPr/>
          </p:nvSpPr>
          <p:spPr>
            <a:xfrm>
              <a:off x="5867280" y="1066680"/>
              <a:ext cx="719280" cy="3598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267080" y="1066680"/>
              <a:ext cx="1619280" cy="611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2971800" y="3200400"/>
            <a:ext cx="762120" cy="2133720"/>
            <a:chOff x="2971800" y="3200400"/>
            <a:chExt cx="762120" cy="2133720"/>
          </a:xfrm>
        </p:grpSpPr>
        <p:sp>
          <p:nvSpPr>
            <p:cNvPr id="762" name=""/>
            <p:cNvSpPr/>
            <p:nvPr/>
          </p:nvSpPr>
          <p:spPr>
            <a:xfrm>
              <a:off x="2971800" y="3200400"/>
              <a:ext cx="76212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971800" y="3200400"/>
              <a:ext cx="0" cy="21337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4800600" y="3200400"/>
            <a:ext cx="762120" cy="2133720"/>
            <a:chOff x="4800600" y="3200400"/>
            <a:chExt cx="762120" cy="2133720"/>
          </a:xfrm>
        </p:grpSpPr>
        <p:sp>
          <p:nvSpPr>
            <p:cNvPr id="765" name=""/>
            <p:cNvSpPr/>
            <p:nvPr/>
          </p:nvSpPr>
          <p:spPr>
            <a:xfrm>
              <a:off x="4800600" y="3200400"/>
              <a:ext cx="76212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562720" y="3200400"/>
              <a:ext cx="0" cy="21337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3041640" y="2228040"/>
            <a:ext cx="2452680" cy="1947960"/>
            <a:chOff x="3041640" y="2228040"/>
            <a:chExt cx="2452680" cy="1947960"/>
          </a:xfrm>
        </p:grpSpPr>
        <p:sp>
          <p:nvSpPr>
            <p:cNvPr id="768" name=""/>
            <p:cNvSpPr/>
            <p:nvPr/>
          </p:nvSpPr>
          <p:spPr>
            <a:xfrm rot="1335000">
              <a:off x="4044600" y="2967120"/>
              <a:ext cx="431640" cy="43164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1335000">
              <a:off x="3812760" y="2739960"/>
              <a:ext cx="900000" cy="900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rot="12135000">
              <a:off x="3813120" y="2739600"/>
              <a:ext cx="900000" cy="900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rot="1335000">
              <a:off x="3357360" y="2736360"/>
              <a:ext cx="1800000" cy="90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rot="1335000">
              <a:off x="3504960" y="2514240"/>
              <a:ext cx="304560" cy="914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rot="1335000">
              <a:off x="4749480" y="3001680"/>
              <a:ext cx="304920" cy="9144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rot="12135000">
              <a:off x="3267000" y="2212920"/>
              <a:ext cx="162000" cy="1224000"/>
            </a:xfrm>
            <a:prstGeom prst="flowChartDelay">
              <a:avLst/>
            </a:prstGeom>
            <a:solidFill>
              <a:srgbClr val="008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rot="1335000">
              <a:off x="5106600" y="2966760"/>
              <a:ext cx="162000" cy="1224000"/>
            </a:xfrm>
            <a:prstGeom prst="flowChartDelay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844080" y="3025440"/>
              <a:ext cx="211320" cy="86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479120" y="3285720"/>
              <a:ext cx="211320" cy="86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918600" y="2645280"/>
              <a:ext cx="493920" cy="20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123440" y="3551760"/>
              <a:ext cx="493920" cy="20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4741560" y="3910680"/>
              <a:ext cx="57600" cy="14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3331800" y="3332880"/>
              <a:ext cx="57600" cy="14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331800" y="3475080"/>
              <a:ext cx="1410480" cy="57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3" name=""/>
          <p:cNvSpPr/>
          <p:nvPr/>
        </p:nvSpPr>
        <p:spPr>
          <a:xfrm>
            <a:off x="205740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01992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048120" y="510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1814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85800" y="2286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 Stromkreis ist geschlossen. Es fließt Str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04920" y="548640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Anker am Rotor sind magnetis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04920" y="60958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eichnamige Pole stoßen sich ab. Der Rotor dreht si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rot="765000">
            <a:off x="2966760" y="1366560"/>
            <a:ext cx="2519280" cy="2519280"/>
          </a:xfrm>
          <a:custGeom>
            <a:avLst/>
            <a:gdLst>
              <a:gd name="textAreaLeft" fmla="*/ 0 w 2519280"/>
              <a:gd name="textAreaRight" fmla="*/ 2519640 w 2519280"/>
              <a:gd name="textAreaTop" fmla="*/ 0 h 2519280"/>
              <a:gd name="textAreaBottom" fmla="*/ 2519640 h 2519280"/>
            </a:gdLst>
            <a:ahLst/>
            <a:rect l="textAreaLeft" t="textAreaTop" r="textAreaRight" b="textAreaBottom"/>
            <a:pathLst>
              <a:path w="21600" h="21600">
                <a:moveTo>
                  <a:pt x="7138" y="19110"/>
                </a:moveTo>
                <a:arcTo wR="-9081" hR="-9081" stAng="6826910" swAng="-6826910"/>
                <a:lnTo>
                  <a:pt x="0" y="10800"/>
                </a:lnTo>
                <a:arcTo wR="10800" hR="10800" stAng="10800000" swAng="6826910"/>
                <a:lnTo>
                  <a:pt x="16244" y="-1554"/>
                </a:lnTo>
                <a:lnTo>
                  <a:pt x="18066" y="3139"/>
                </a:lnTo>
                <a:lnTo>
                  <a:pt x="13373" y="496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477120" y="1752480"/>
            <a:ext cx="1371600" cy="533520"/>
          </a:xfrm>
          <a:prstGeom prst="wedgeRectCallout">
            <a:avLst>
              <a:gd name="adj1" fmla="val -248379"/>
              <a:gd name="adj2" fmla="val 22559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477120" y="1752480"/>
            <a:ext cx="1523880" cy="533520"/>
          </a:xfrm>
          <a:prstGeom prst="wedgeRectCallout">
            <a:avLst>
              <a:gd name="adj1" fmla="val -160833"/>
              <a:gd name="adj2" fmla="val 215773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lei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971800" y="3193920"/>
            <a:ext cx="152280" cy="2133720"/>
          </a:xfrm>
          <a:custGeom>
            <a:avLst/>
            <a:gdLst/>
            <a:ahLst/>
            <a:rect l="l" t="t" r="r" b="b"/>
            <a:pathLst>
              <a:path w="96" h="1344">
                <a:moveTo>
                  <a:pt x="0" y="1344"/>
                </a:move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276720" y="3193920"/>
            <a:ext cx="152280" cy="1800"/>
          </a:xfrm>
          <a:custGeom>
            <a:avLst/>
            <a:gdLst/>
            <a:ahLst/>
            <a:rect l="l" t="t" r="r" b="b"/>
            <a:pathLst>
              <a:path w="96" h="1">
                <a:moveTo>
                  <a:pt x="0" y="0"/>
                </a:moveTo>
                <a:lnTo>
                  <a:pt x="48" y="0"/>
                </a:lnTo>
                <a:lnTo>
                  <a:pt x="96" y="0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352680" y="2584440"/>
            <a:ext cx="1752840" cy="1447920"/>
          </a:xfrm>
          <a:custGeom>
            <a:avLst/>
            <a:gdLst/>
            <a:ahLst/>
            <a:rect l="l" t="t" r="r" b="b"/>
            <a:pathLst>
              <a:path w="1104" h="912">
                <a:moveTo>
                  <a:pt x="240" y="384"/>
                </a:moveTo>
                <a:lnTo>
                  <a:pt x="336" y="384"/>
                </a:lnTo>
                <a:lnTo>
                  <a:pt x="336" y="432"/>
                </a:lnTo>
                <a:lnTo>
                  <a:pt x="336" y="480"/>
                </a:lnTo>
                <a:lnTo>
                  <a:pt x="384" y="528"/>
                </a:lnTo>
                <a:lnTo>
                  <a:pt x="432" y="576"/>
                </a:lnTo>
                <a:lnTo>
                  <a:pt x="480" y="576"/>
                </a:lnTo>
                <a:lnTo>
                  <a:pt x="480" y="624"/>
                </a:lnTo>
                <a:lnTo>
                  <a:pt x="864" y="768"/>
                </a:lnTo>
                <a:lnTo>
                  <a:pt x="1056" y="288"/>
                </a:lnTo>
                <a:lnTo>
                  <a:pt x="1104" y="288"/>
                </a:lnTo>
                <a:lnTo>
                  <a:pt x="864" y="912"/>
                </a:lnTo>
                <a:lnTo>
                  <a:pt x="0" y="576"/>
                </a:lnTo>
                <a:lnTo>
                  <a:pt x="240" y="0"/>
                </a:lnTo>
                <a:lnTo>
                  <a:pt x="96" y="480"/>
                </a:lnTo>
                <a:lnTo>
                  <a:pt x="336" y="48"/>
                </a:lnTo>
                <a:lnTo>
                  <a:pt x="720" y="192"/>
                </a:lnTo>
                <a:lnTo>
                  <a:pt x="816" y="288"/>
                </a:lnTo>
                <a:lnTo>
                  <a:pt x="816" y="336"/>
                </a:lnTo>
                <a:lnTo>
                  <a:pt x="960" y="384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410080" y="3200400"/>
            <a:ext cx="152640" cy="2133720"/>
          </a:xfrm>
          <a:custGeom>
            <a:avLst/>
            <a:gdLst/>
            <a:ahLst/>
            <a:rect l="l" t="t" r="r" b="b"/>
            <a:pathLst>
              <a:path w="96" h="1344">
                <a:moveTo>
                  <a:pt x="0" y="0"/>
                </a:moveTo>
                <a:lnTo>
                  <a:pt x="96" y="0"/>
                </a:lnTo>
                <a:lnTo>
                  <a:pt x="96" y="1344"/>
                </a:ln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696080" y="6095880"/>
            <a:ext cx="360360" cy="360360"/>
          </a:xfrm>
          <a:custGeom>
            <a:avLst/>
            <a:gdLst>
              <a:gd name="textAreaLeft" fmla="*/ 90000 w 360360"/>
              <a:gd name="textAreaRight" fmla="*/ 270360 w 360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8790" y="10800"/>
                </a:moveTo>
                <a:lnTo>
                  <a:pt x="14825" y="6775"/>
                </a:lnTo>
                <a:lnTo>
                  <a:pt x="14825" y="14825"/>
                </a:lnTo>
                <a:close/>
              </a:path>
              <a:path fill="darken" w="21600" h="21600">
                <a:moveTo>
                  <a:pt x="6775" y="6775"/>
                </a:moveTo>
                <a:lnTo>
                  <a:pt x="7730" y="6775"/>
                </a:lnTo>
                <a:lnTo>
                  <a:pt x="7730" y="14825"/>
                </a:lnTo>
                <a:lnTo>
                  <a:pt x="6775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"/>
          <p:cNvGrpSpPr/>
          <p:nvPr/>
        </p:nvGrpSpPr>
        <p:grpSpPr>
          <a:xfrm>
            <a:off x="228600" y="457200"/>
            <a:ext cx="3123360" cy="3188160"/>
            <a:chOff x="228600" y="457200"/>
            <a:chExt cx="3123360" cy="3188160"/>
          </a:xfrm>
        </p:grpSpPr>
        <p:grpSp>
          <p:nvGrpSpPr>
            <p:cNvPr id="799" name=""/>
            <p:cNvGrpSpPr/>
            <p:nvPr/>
          </p:nvGrpSpPr>
          <p:grpSpPr>
            <a:xfrm>
              <a:off x="228600" y="457200"/>
              <a:ext cx="3123360" cy="2884320"/>
              <a:chOff x="228600" y="457200"/>
              <a:chExt cx="3123360" cy="2884320"/>
            </a:xfrm>
          </p:grpSpPr>
          <p:grpSp>
            <p:nvGrpSpPr>
              <p:cNvPr id="800" name=""/>
              <p:cNvGrpSpPr/>
              <p:nvPr/>
            </p:nvGrpSpPr>
            <p:grpSpPr>
              <a:xfrm>
                <a:off x="353520" y="457200"/>
                <a:ext cx="1511640" cy="2431440"/>
                <a:chOff x="353520" y="457200"/>
                <a:chExt cx="1511640" cy="2431440"/>
              </a:xfrm>
            </p:grpSpPr>
            <p:sp>
              <p:nvSpPr>
                <p:cNvPr id="801" name=""/>
                <p:cNvSpPr/>
                <p:nvPr/>
              </p:nvSpPr>
              <p:spPr>
                <a:xfrm>
                  <a:off x="353520" y="457200"/>
                  <a:ext cx="487440" cy="2431440"/>
                </a:xfrm>
                <a:prstGeom prst="rect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828720" y="457200"/>
                  <a:ext cx="1036440" cy="412920"/>
                </a:xfrm>
                <a:prstGeom prst="rect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3" name=""/>
              <p:cNvGrpSpPr/>
              <p:nvPr/>
            </p:nvGrpSpPr>
            <p:grpSpPr>
              <a:xfrm>
                <a:off x="1865880" y="457200"/>
                <a:ext cx="1486080" cy="2431440"/>
                <a:chOff x="1865880" y="457200"/>
                <a:chExt cx="1486080" cy="2431440"/>
              </a:xfrm>
            </p:grpSpPr>
            <p:sp>
              <p:nvSpPr>
                <p:cNvPr id="804" name=""/>
                <p:cNvSpPr/>
                <p:nvPr/>
              </p:nvSpPr>
              <p:spPr>
                <a:xfrm>
                  <a:off x="2891160" y="457200"/>
                  <a:ext cx="460800" cy="243144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1865880" y="457200"/>
                  <a:ext cx="1037520" cy="41292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6" name=""/>
              <p:cNvGrpSpPr/>
              <p:nvPr/>
            </p:nvGrpSpPr>
            <p:grpSpPr>
              <a:xfrm>
                <a:off x="1037520" y="1899360"/>
                <a:ext cx="486720" cy="1442160"/>
                <a:chOff x="1037520" y="1899360"/>
                <a:chExt cx="486720" cy="1442160"/>
              </a:xfrm>
            </p:grpSpPr>
            <p:sp>
              <p:nvSpPr>
                <p:cNvPr id="807" name=""/>
                <p:cNvSpPr/>
                <p:nvPr/>
              </p:nvSpPr>
              <p:spPr>
                <a:xfrm>
                  <a:off x="1037520" y="1899360"/>
                  <a:ext cx="48672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1037520" y="1899360"/>
                  <a:ext cx="0" cy="144216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9" name=""/>
              <p:cNvGrpSpPr/>
              <p:nvPr/>
            </p:nvGrpSpPr>
            <p:grpSpPr>
              <a:xfrm>
                <a:off x="2209320" y="1899360"/>
                <a:ext cx="486000" cy="1442160"/>
                <a:chOff x="2209320" y="1899360"/>
                <a:chExt cx="486000" cy="1442160"/>
              </a:xfrm>
            </p:grpSpPr>
            <p:sp>
              <p:nvSpPr>
                <p:cNvPr id="810" name=""/>
                <p:cNvSpPr/>
                <p:nvPr/>
              </p:nvSpPr>
              <p:spPr>
                <a:xfrm>
                  <a:off x="2209320" y="1899360"/>
                  <a:ext cx="4860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  <a:head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2695320" y="1899360"/>
                  <a:ext cx="0" cy="144216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2" name=""/>
              <p:cNvGrpSpPr/>
              <p:nvPr/>
            </p:nvGrpSpPr>
            <p:grpSpPr>
              <a:xfrm>
                <a:off x="1072800" y="1243080"/>
                <a:ext cx="1587960" cy="1313280"/>
                <a:chOff x="1072800" y="1243080"/>
                <a:chExt cx="1587960" cy="1313280"/>
              </a:xfrm>
            </p:grpSpPr>
            <p:sp>
              <p:nvSpPr>
                <p:cNvPr id="813" name=""/>
                <p:cNvSpPr/>
                <p:nvPr/>
              </p:nvSpPr>
              <p:spPr>
                <a:xfrm rot="1335000">
                  <a:off x="1724040" y="1741320"/>
                  <a:ext cx="276480" cy="291240"/>
                </a:xfrm>
                <a:prstGeom prst="ellips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 rot="1335000">
                  <a:off x="1575000" y="1587960"/>
                  <a:ext cx="576720" cy="607680"/>
                </a:xfrm>
                <a:prstGeom prst="blockArc">
                  <a:avLst>
                    <a:gd name="adj1" fmla="val 10800000"/>
                    <a:gd name="adj2" fmla="val 0"/>
                    <a:gd name="adj3" fmla="val 25000"/>
                  </a:avLst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 rot="12135000">
                  <a:off x="1575360" y="1587600"/>
                  <a:ext cx="576720" cy="607680"/>
                </a:xfrm>
                <a:prstGeom prst="blockArc">
                  <a:avLst>
                    <a:gd name="adj1" fmla="val 10800000"/>
                    <a:gd name="adj2" fmla="val 0"/>
                    <a:gd name="adj3" fmla="val 25000"/>
                  </a:avLst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 rot="1335000">
                  <a:off x="1283400" y="1585440"/>
                  <a:ext cx="1153440" cy="60768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 rot="1335000">
                  <a:off x="1378080" y="1435320"/>
                  <a:ext cx="195120" cy="61740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 rot="1335000">
                  <a:off x="2175840" y="1764720"/>
                  <a:ext cx="195120" cy="61740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 rot="12135000">
                  <a:off x="1225440" y="1231560"/>
                  <a:ext cx="103680" cy="826200"/>
                </a:xfrm>
                <a:prstGeom prst="flowChartDelay">
                  <a:avLst/>
                </a:prstGeom>
                <a:solidFill>
                  <a:srgbClr val="008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 rot="1335000">
                  <a:off x="2404080" y="1741320"/>
                  <a:ext cx="103680" cy="826200"/>
                </a:xfrm>
                <a:prstGeom prst="flowChartDelay">
                  <a:avLst/>
                </a:prstGeom>
                <a:solidFill>
                  <a:srgbClr val="ff0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1595160" y="1782000"/>
                  <a:ext cx="135720" cy="554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2001960" y="1958040"/>
                  <a:ext cx="135720" cy="5544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1642680" y="1527480"/>
                  <a:ext cx="316440" cy="129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1774080" y="2139480"/>
                  <a:ext cx="316440" cy="129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 flipV="1">
                  <a:off x="2169360" y="2378520"/>
                  <a:ext cx="38880" cy="94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 flipV="1">
                  <a:off x="1265760" y="1988280"/>
                  <a:ext cx="38880" cy="94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1266840" y="2094120"/>
                  <a:ext cx="903960" cy="370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8" name=""/>
              <p:cNvSpPr/>
              <p:nvPr/>
            </p:nvSpPr>
            <p:spPr>
              <a:xfrm>
                <a:off x="228600" y="2328120"/>
                <a:ext cx="345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755800" y="2328120"/>
                <a:ext cx="345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0" name=""/>
            <p:cNvSpPr/>
            <p:nvPr/>
          </p:nvSpPr>
          <p:spPr>
            <a:xfrm>
              <a:off x="1035360" y="3185640"/>
              <a:ext cx="34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376000" y="3185640"/>
              <a:ext cx="34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304920" y="5086080"/>
            <a:ext cx="2514600" cy="1100880"/>
            <a:chOff x="304920" y="5086080"/>
            <a:chExt cx="2514600" cy="1100880"/>
          </a:xfrm>
        </p:grpSpPr>
        <p:sp>
          <p:nvSpPr>
            <p:cNvPr id="833" name=""/>
            <p:cNvSpPr/>
            <p:nvPr/>
          </p:nvSpPr>
          <p:spPr>
            <a:xfrm rot="5273400">
              <a:off x="1356480" y="5369400"/>
              <a:ext cx="509400" cy="51768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rot="5273400">
              <a:off x="1073520" y="5096520"/>
              <a:ext cx="1062000" cy="10796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rot="16073400">
              <a:off x="1073880" y="5096520"/>
              <a:ext cx="1062000" cy="10796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577520" y="5105520"/>
              <a:ext cx="10080" cy="269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607760" y="5915160"/>
              <a:ext cx="10080" cy="269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990720" y="541008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752480" y="55627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0" name=""/>
            <p:cNvGrpSpPr/>
            <p:nvPr/>
          </p:nvGrpSpPr>
          <p:grpSpPr>
            <a:xfrm>
              <a:off x="450720" y="5257800"/>
              <a:ext cx="2368800" cy="459720"/>
              <a:chOff x="450720" y="5257800"/>
              <a:chExt cx="2368800" cy="459720"/>
            </a:xfrm>
          </p:grpSpPr>
          <p:sp>
            <p:nvSpPr>
              <p:cNvPr id="841" name=""/>
              <p:cNvSpPr/>
              <p:nvPr/>
            </p:nvSpPr>
            <p:spPr>
              <a:xfrm>
                <a:off x="450720" y="5638680"/>
                <a:ext cx="540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2209680" y="5638680"/>
                <a:ext cx="540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2514600" y="52578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Arial Black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>
              <a:off x="304920" y="5257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 Black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3054240" y="5029200"/>
            <a:ext cx="2444760" cy="1221120"/>
            <a:chOff x="3054240" y="5029200"/>
            <a:chExt cx="2444760" cy="1221120"/>
          </a:xfrm>
        </p:grpSpPr>
        <p:sp>
          <p:nvSpPr>
            <p:cNvPr id="846" name=""/>
            <p:cNvSpPr/>
            <p:nvPr/>
          </p:nvSpPr>
          <p:spPr>
            <a:xfrm rot="10668000">
              <a:off x="4107960" y="5390640"/>
              <a:ext cx="509760" cy="51768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rot="10668000">
              <a:off x="3823920" y="5103000"/>
              <a:ext cx="1062000" cy="10796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rot="21468000">
              <a:off x="3824280" y="5103720"/>
              <a:ext cx="1062000" cy="10796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4618080" y="5616360"/>
              <a:ext cx="270000" cy="10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3808440" y="5646600"/>
              <a:ext cx="270000" cy="10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191120" y="502920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191120" y="58514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3" name=""/>
            <p:cNvGrpSpPr/>
            <p:nvPr/>
          </p:nvGrpSpPr>
          <p:grpSpPr>
            <a:xfrm>
              <a:off x="3054240" y="5257800"/>
              <a:ext cx="2444760" cy="459720"/>
              <a:chOff x="3054240" y="5257800"/>
              <a:chExt cx="2444760" cy="459720"/>
            </a:xfrm>
          </p:grpSpPr>
          <p:sp>
            <p:nvSpPr>
              <p:cNvPr id="854" name=""/>
              <p:cNvSpPr/>
              <p:nvPr/>
            </p:nvSpPr>
            <p:spPr>
              <a:xfrm>
                <a:off x="3200400" y="5638680"/>
                <a:ext cx="539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959360" y="5638680"/>
                <a:ext cx="539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187960" y="52578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Arial Black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054240" y="525780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 Black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8" name=""/>
          <p:cNvGrpSpPr/>
          <p:nvPr/>
        </p:nvGrpSpPr>
        <p:grpSpPr>
          <a:xfrm>
            <a:off x="5867280" y="4928400"/>
            <a:ext cx="2444760" cy="1448640"/>
            <a:chOff x="5867280" y="4928400"/>
            <a:chExt cx="2444760" cy="1448640"/>
          </a:xfrm>
        </p:grpSpPr>
        <p:grpSp>
          <p:nvGrpSpPr>
            <p:cNvPr id="859" name=""/>
            <p:cNvGrpSpPr/>
            <p:nvPr/>
          </p:nvGrpSpPr>
          <p:grpSpPr>
            <a:xfrm>
              <a:off x="6445440" y="4928400"/>
              <a:ext cx="1455480" cy="1448640"/>
              <a:chOff x="6445440" y="4928400"/>
              <a:chExt cx="1455480" cy="1448640"/>
            </a:xfrm>
          </p:grpSpPr>
          <p:grpSp>
            <p:nvGrpSpPr>
              <p:cNvPr id="860" name=""/>
              <p:cNvGrpSpPr/>
              <p:nvPr/>
            </p:nvGrpSpPr>
            <p:grpSpPr>
              <a:xfrm>
                <a:off x="6445440" y="4928400"/>
                <a:ext cx="1455480" cy="1448640"/>
                <a:chOff x="6445440" y="4928400"/>
                <a:chExt cx="1455480" cy="1448640"/>
              </a:xfrm>
            </p:grpSpPr>
            <p:sp>
              <p:nvSpPr>
                <p:cNvPr id="861" name=""/>
                <p:cNvSpPr/>
                <p:nvPr/>
              </p:nvSpPr>
              <p:spPr>
                <a:xfrm rot="14487000">
                  <a:off x="6915240" y="5402880"/>
                  <a:ext cx="509400" cy="517680"/>
                </a:xfrm>
                <a:prstGeom prst="ellips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 rot="14487000">
                  <a:off x="6642000" y="5112720"/>
                  <a:ext cx="1062000" cy="1079280"/>
                </a:xfrm>
                <a:prstGeom prst="blockArc">
                  <a:avLst>
                    <a:gd name="adj1" fmla="val 10800000"/>
                    <a:gd name="adj2" fmla="val 0"/>
                    <a:gd name="adj3" fmla="val 25000"/>
                  </a:avLst>
                </a:prstGeom>
                <a:solidFill>
                  <a:srgbClr val="ff0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 rot="3687000">
                  <a:off x="6642000" y="5113080"/>
                  <a:ext cx="1062000" cy="1079280"/>
                </a:xfrm>
                <a:prstGeom prst="blockArc">
                  <a:avLst>
                    <a:gd name="adj1" fmla="val 10800000"/>
                    <a:gd name="adj2" fmla="val 0"/>
                    <a:gd name="adj3" fmla="val 25000"/>
                  </a:avLst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 flipH="1" flipV="1">
                  <a:off x="7305840" y="5878080"/>
                  <a:ext cx="128520" cy="2368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 flipH="1" flipV="1">
                  <a:off x="6918840" y="5167440"/>
                  <a:ext cx="128880" cy="2368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6" name=""/>
              <p:cNvSpPr/>
              <p:nvPr/>
            </p:nvSpPr>
            <p:spPr>
              <a:xfrm>
                <a:off x="7391520" y="525780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6629400" y="5562720"/>
                <a:ext cx="457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5867280" y="5257800"/>
              <a:ext cx="2444760" cy="459720"/>
              <a:chOff x="5867280" y="5257800"/>
              <a:chExt cx="2444760" cy="459720"/>
            </a:xfrm>
          </p:grpSpPr>
          <p:sp>
            <p:nvSpPr>
              <p:cNvPr id="869" name=""/>
              <p:cNvSpPr/>
              <p:nvPr/>
            </p:nvSpPr>
            <p:spPr>
              <a:xfrm>
                <a:off x="6013440" y="5638680"/>
                <a:ext cx="539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772400" y="5638680"/>
                <a:ext cx="539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8001000" y="5257800"/>
                <a:ext cx="30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00"/>
                    </a:solidFill>
                    <a:latin typeface="Arial Black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5867280" y="525780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 Black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3" name=""/>
          <p:cNvSpPr/>
          <p:nvPr/>
        </p:nvSpPr>
        <p:spPr>
          <a:xfrm>
            <a:off x="3505320" y="304920"/>
            <a:ext cx="5410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e stromdurchflossene Spule im Feld eines Hufeisenmagneten dreht sich höchstens um 180°. Polt man die Richtung des Stromes um, dreht sich die Spule um 180° weiter. In der Umpolphase fließt kein Strom. Die Spule hat aber soviel Schwung, dass sie den „toten Punkt“ überwinden kan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505320" y="4800600"/>
            <a:ext cx="1676160" cy="106668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2151" y="10672"/>
                </a:moveTo>
                <a:arcTo wR="-8650" hR="-8650" stAng="-10749133" swAng="-11039772"/>
                <a:lnTo>
                  <a:pt x="16" y="11393"/>
                </a:lnTo>
                <a:arcTo wR="10800" hR="10800" stAng="10611095" swAng="11039772"/>
                <a:lnTo>
                  <a:pt x="24299" y="11000"/>
                </a:lnTo>
                <a:lnTo>
                  <a:pt x="20468" y="14718"/>
                </a:lnTo>
                <a:lnTo>
                  <a:pt x="16749" y="10888"/>
                </a:lnTo>
                <a:close/>
              </a:path>
            </a:pathLst>
          </a:cu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62120" y="4800600"/>
            <a:ext cx="1676160" cy="106668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2151" y="10672"/>
                </a:moveTo>
                <a:arcTo wR="-8650" hR="-8650" stAng="-10749133" swAng="-11039772"/>
                <a:lnTo>
                  <a:pt x="16" y="11393"/>
                </a:lnTo>
                <a:arcTo wR="10800" hR="10800" stAng="10611095" swAng="11039772"/>
                <a:lnTo>
                  <a:pt x="24299" y="11000"/>
                </a:lnTo>
                <a:lnTo>
                  <a:pt x="20468" y="14718"/>
                </a:lnTo>
                <a:lnTo>
                  <a:pt x="16749" y="10888"/>
                </a:lnTo>
                <a:close/>
              </a:path>
            </a:pathLst>
          </a:cu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324480" y="4800600"/>
            <a:ext cx="1676520" cy="106668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2151" y="10672"/>
                </a:moveTo>
                <a:arcTo wR="-8650" hR="-8650" stAng="-10749133" swAng="-11039772"/>
                <a:lnTo>
                  <a:pt x="16" y="11393"/>
                </a:lnTo>
                <a:arcTo wR="10800" hR="10800" stAng="10611095" swAng="11039772"/>
                <a:lnTo>
                  <a:pt x="24299" y="11000"/>
                </a:lnTo>
                <a:lnTo>
                  <a:pt x="20468" y="14718"/>
                </a:lnTo>
                <a:lnTo>
                  <a:pt x="16749" y="10888"/>
                </a:lnTo>
                <a:close/>
              </a:path>
            </a:pathLst>
          </a:cu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7696080" y="6095880"/>
            <a:ext cx="360360" cy="360360"/>
          </a:xfrm>
          <a:custGeom>
            <a:avLst/>
            <a:gdLst>
              <a:gd name="textAreaLeft" fmla="*/ 90000 w 360360"/>
              <a:gd name="textAreaRight" fmla="*/ 270360 w 360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8790" y="10800"/>
                </a:moveTo>
                <a:lnTo>
                  <a:pt x="14825" y="6775"/>
                </a:lnTo>
                <a:lnTo>
                  <a:pt x="14825" y="14825"/>
                </a:lnTo>
                <a:close/>
              </a:path>
              <a:path fill="darken" w="21600" h="21600">
                <a:moveTo>
                  <a:pt x="6775" y="6775"/>
                </a:moveTo>
                <a:lnTo>
                  <a:pt x="7730" y="6775"/>
                </a:lnTo>
                <a:lnTo>
                  <a:pt x="7730" y="14825"/>
                </a:lnTo>
                <a:lnTo>
                  <a:pt x="6775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8" name=""/>
          <p:cNvGrpSpPr/>
          <p:nvPr/>
        </p:nvGrpSpPr>
        <p:grpSpPr>
          <a:xfrm>
            <a:off x="353880" y="457200"/>
            <a:ext cx="1512720" cy="2432160"/>
            <a:chOff x="353880" y="457200"/>
            <a:chExt cx="1512720" cy="2432160"/>
          </a:xfrm>
        </p:grpSpPr>
        <p:sp>
          <p:nvSpPr>
            <p:cNvPr id="879" name=""/>
            <p:cNvSpPr/>
            <p:nvPr/>
          </p:nvSpPr>
          <p:spPr>
            <a:xfrm>
              <a:off x="353880" y="457200"/>
              <a:ext cx="487800" cy="24321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29440" y="457200"/>
              <a:ext cx="1037160" cy="4129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"/>
          <p:cNvGrpSpPr/>
          <p:nvPr/>
        </p:nvGrpSpPr>
        <p:grpSpPr>
          <a:xfrm>
            <a:off x="1866960" y="457200"/>
            <a:ext cx="1485360" cy="2432160"/>
            <a:chOff x="1866960" y="457200"/>
            <a:chExt cx="1485360" cy="2432160"/>
          </a:xfrm>
        </p:grpSpPr>
        <p:sp>
          <p:nvSpPr>
            <p:cNvPr id="882" name=""/>
            <p:cNvSpPr/>
            <p:nvPr/>
          </p:nvSpPr>
          <p:spPr>
            <a:xfrm>
              <a:off x="2891880" y="457200"/>
              <a:ext cx="460440" cy="24321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866960" y="457200"/>
              <a:ext cx="1037160" cy="412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4" name=""/>
          <p:cNvGrpSpPr/>
          <p:nvPr/>
        </p:nvGrpSpPr>
        <p:grpSpPr>
          <a:xfrm>
            <a:off x="1038240" y="1900080"/>
            <a:ext cx="487440" cy="1441440"/>
            <a:chOff x="1038240" y="1900080"/>
            <a:chExt cx="487440" cy="1441440"/>
          </a:xfrm>
        </p:grpSpPr>
        <p:sp>
          <p:nvSpPr>
            <p:cNvPr id="885" name=""/>
            <p:cNvSpPr/>
            <p:nvPr/>
          </p:nvSpPr>
          <p:spPr>
            <a:xfrm>
              <a:off x="1038240" y="1900080"/>
              <a:ext cx="48744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038240" y="1900080"/>
              <a:ext cx="0" cy="144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2209680" y="1900080"/>
            <a:ext cx="487440" cy="1441440"/>
            <a:chOff x="2209680" y="1900080"/>
            <a:chExt cx="487440" cy="1441440"/>
          </a:xfrm>
        </p:grpSpPr>
        <p:sp>
          <p:nvSpPr>
            <p:cNvPr id="888" name=""/>
            <p:cNvSpPr/>
            <p:nvPr/>
          </p:nvSpPr>
          <p:spPr>
            <a:xfrm>
              <a:off x="2209680" y="1900080"/>
              <a:ext cx="48744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697120" y="1900080"/>
              <a:ext cx="0" cy="144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0" name=""/>
          <p:cNvSpPr/>
          <p:nvPr/>
        </p:nvSpPr>
        <p:spPr>
          <a:xfrm rot="21583200">
            <a:off x="1719000" y="1743120"/>
            <a:ext cx="277560" cy="2919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rot="21583200">
            <a:off x="1573200" y="1589040"/>
            <a:ext cx="576360" cy="6094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rot="10783200">
            <a:off x="1572480" y="1588320"/>
            <a:ext cx="576360" cy="6094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rot="21583200">
            <a:off x="1281240" y="1587600"/>
            <a:ext cx="1154160" cy="608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 rot="21583200">
            <a:off x="1347840" y="1596600"/>
            <a:ext cx="195120" cy="619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rot="21583200">
            <a:off x="2211480" y="1595160"/>
            <a:ext cx="195120" cy="617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rot="10783200">
            <a:off x="1173240" y="1476000"/>
            <a:ext cx="102960" cy="827280"/>
          </a:xfrm>
          <a:prstGeom prst="flowChartDelay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rot="21583200">
            <a:off x="2458800" y="1495440"/>
            <a:ext cx="102960" cy="826920"/>
          </a:xfrm>
          <a:prstGeom prst="flowChartDelay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1571760" y="1893600"/>
            <a:ext cx="145800" cy="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2013120" y="1899720"/>
            <a:ext cx="147600" cy="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1515960" y="1639080"/>
            <a:ext cx="343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1873080" y="2154960"/>
            <a:ext cx="343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 flipV="1">
            <a:off x="2366640" y="2209320"/>
            <a:ext cx="720" cy="103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H="1" flipV="1">
            <a:off x="1380600" y="2196720"/>
            <a:ext cx="720" cy="103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1386000" y="2304360"/>
            <a:ext cx="977760" cy="4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480" bIns="-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28600" y="2328840"/>
            <a:ext cx="3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755800" y="2328840"/>
            <a:ext cx="3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035000" y="3186000"/>
            <a:ext cx="3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376360" y="3186000"/>
            <a:ext cx="3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3804480" y="5024880"/>
            <a:ext cx="1083960" cy="1234080"/>
            <a:chOff x="3804480" y="5024880"/>
            <a:chExt cx="1083960" cy="1234080"/>
          </a:xfrm>
        </p:grpSpPr>
        <p:sp>
          <p:nvSpPr>
            <p:cNvPr id="910" name=""/>
            <p:cNvSpPr/>
            <p:nvPr/>
          </p:nvSpPr>
          <p:spPr>
            <a:xfrm rot="10768800">
              <a:off x="4107600" y="5391000"/>
              <a:ext cx="509760" cy="51768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rot="10768800">
              <a:off x="3809160" y="5106240"/>
              <a:ext cx="1062000" cy="10796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rot="21569400">
              <a:off x="3809520" y="5105160"/>
              <a:ext cx="1062000" cy="10792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4618440" y="5632200"/>
              <a:ext cx="270000" cy="2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3808080" y="5638680"/>
              <a:ext cx="270000" cy="2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rot="100800">
              <a:off x="4203000" y="50313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rot="100800">
              <a:off x="4178880" y="585324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3054240" y="5257800"/>
            <a:ext cx="2444760" cy="459720"/>
            <a:chOff x="3054240" y="5257800"/>
            <a:chExt cx="2444760" cy="459720"/>
          </a:xfrm>
        </p:grpSpPr>
        <p:sp>
          <p:nvSpPr>
            <p:cNvPr id="918" name=""/>
            <p:cNvSpPr/>
            <p:nvPr/>
          </p:nvSpPr>
          <p:spPr>
            <a:xfrm>
              <a:off x="3200400" y="5638680"/>
              <a:ext cx="53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959360" y="5638680"/>
              <a:ext cx="53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187960" y="52578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 Black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054240" y="52578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 Black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2" name=""/>
          <p:cNvSpPr/>
          <p:nvPr/>
        </p:nvSpPr>
        <p:spPr>
          <a:xfrm>
            <a:off x="3505320" y="4800600"/>
            <a:ext cx="1676160" cy="106668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2151" y="10672"/>
                </a:moveTo>
                <a:arcTo wR="-8650" hR="-8650" stAng="-10749133" swAng="-11039772"/>
                <a:lnTo>
                  <a:pt x="16" y="11393"/>
                </a:lnTo>
                <a:arcTo wR="10800" hR="10800" stAng="10611095" swAng="11039772"/>
                <a:lnTo>
                  <a:pt x="24299" y="11000"/>
                </a:lnTo>
                <a:lnTo>
                  <a:pt x="20468" y="14718"/>
                </a:lnTo>
                <a:lnTo>
                  <a:pt x="16749" y="10888"/>
                </a:lnTo>
                <a:close/>
              </a:path>
            </a:pathLst>
          </a:cu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505320" y="304920"/>
            <a:ext cx="5410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e stromdurchflossene Spule im Feld eines Hufeisenmagneten dreht sich höchstens um 180°. Polt man die Richtung des Stromes um, dreht sich die Spule um 180° weiter. In der Umpolphase fließt kein Strom. Die Spule hat aber soviel Schwung, dass sie den „toten Punkt“ überwinden kan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"/>
          <p:cNvGrpSpPr/>
          <p:nvPr/>
        </p:nvGrpSpPr>
        <p:grpSpPr>
          <a:xfrm>
            <a:off x="353880" y="457200"/>
            <a:ext cx="1512720" cy="2432160"/>
            <a:chOff x="353880" y="457200"/>
            <a:chExt cx="1512720" cy="2432160"/>
          </a:xfrm>
        </p:grpSpPr>
        <p:sp>
          <p:nvSpPr>
            <p:cNvPr id="925" name=""/>
            <p:cNvSpPr/>
            <p:nvPr/>
          </p:nvSpPr>
          <p:spPr>
            <a:xfrm>
              <a:off x="353880" y="457200"/>
              <a:ext cx="487800" cy="24321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829440" y="457200"/>
              <a:ext cx="1037160" cy="4129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7" name=""/>
          <p:cNvGrpSpPr/>
          <p:nvPr/>
        </p:nvGrpSpPr>
        <p:grpSpPr>
          <a:xfrm>
            <a:off x="1866960" y="457200"/>
            <a:ext cx="1485360" cy="2432160"/>
            <a:chOff x="1866960" y="457200"/>
            <a:chExt cx="1485360" cy="2432160"/>
          </a:xfrm>
        </p:grpSpPr>
        <p:sp>
          <p:nvSpPr>
            <p:cNvPr id="928" name=""/>
            <p:cNvSpPr/>
            <p:nvPr/>
          </p:nvSpPr>
          <p:spPr>
            <a:xfrm>
              <a:off x="2891880" y="457200"/>
              <a:ext cx="460440" cy="24321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866960" y="457200"/>
              <a:ext cx="1037160" cy="412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1038240" y="1900080"/>
            <a:ext cx="487440" cy="1441440"/>
            <a:chOff x="1038240" y="1900080"/>
            <a:chExt cx="487440" cy="1441440"/>
          </a:xfrm>
        </p:grpSpPr>
        <p:sp>
          <p:nvSpPr>
            <p:cNvPr id="931" name=""/>
            <p:cNvSpPr/>
            <p:nvPr/>
          </p:nvSpPr>
          <p:spPr>
            <a:xfrm>
              <a:off x="1038240" y="1900080"/>
              <a:ext cx="48744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038240" y="1900080"/>
              <a:ext cx="0" cy="144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2209680" y="1900080"/>
            <a:ext cx="487440" cy="1441440"/>
            <a:chOff x="2209680" y="1900080"/>
            <a:chExt cx="487440" cy="1441440"/>
          </a:xfrm>
        </p:grpSpPr>
        <p:sp>
          <p:nvSpPr>
            <p:cNvPr id="934" name=""/>
            <p:cNvSpPr/>
            <p:nvPr/>
          </p:nvSpPr>
          <p:spPr>
            <a:xfrm>
              <a:off x="2209680" y="1900080"/>
              <a:ext cx="48744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697120" y="1900080"/>
              <a:ext cx="0" cy="144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 rot="2459400">
            <a:off x="1728360" y="1738080"/>
            <a:ext cx="277920" cy="2919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rot="2459400">
            <a:off x="1577880" y="1585800"/>
            <a:ext cx="576360" cy="6098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rot="13259400">
            <a:off x="1577160" y="1585440"/>
            <a:ext cx="576360" cy="6098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rot="2459400">
            <a:off x="1287360" y="1582200"/>
            <a:ext cx="1154160" cy="608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rot="2459400">
            <a:off x="1447560" y="1316160"/>
            <a:ext cx="195120" cy="618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rot="2459400">
            <a:off x="2096640" y="1884240"/>
            <a:ext cx="195480" cy="617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rot="13259400">
            <a:off x="1337400" y="1053720"/>
            <a:ext cx="103320" cy="827280"/>
          </a:xfrm>
          <a:prstGeom prst="flowChartDelay">
            <a:avLst/>
          </a:prstGeom>
          <a:solidFill>
            <a:srgbClr val="008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rot="2459400">
            <a:off x="2292120" y="1916280"/>
            <a:ext cx="102960" cy="826920"/>
          </a:xfrm>
          <a:prstGeom prst="flowChartDelay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1648440" y="1698840"/>
            <a:ext cx="109800" cy="954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975320" y="1996560"/>
            <a:ext cx="111600" cy="96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1774080" y="1471320"/>
            <a:ext cx="258840" cy="225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702800" y="2095920"/>
            <a:ext cx="258480" cy="224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V="1">
            <a:off x="1969560" y="2460600"/>
            <a:ext cx="67680" cy="77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1237680" y="1799640"/>
            <a:ext cx="67680" cy="7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1235880" y="1888920"/>
            <a:ext cx="738000" cy="641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28600" y="2328840"/>
            <a:ext cx="3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755800" y="2328840"/>
            <a:ext cx="3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1035000" y="3186000"/>
            <a:ext cx="3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376360" y="3186000"/>
            <a:ext cx="3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rot="12972000">
            <a:off x="4097160" y="5397120"/>
            <a:ext cx="509760" cy="517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rot="12972000">
            <a:off x="3805200" y="5100120"/>
            <a:ext cx="1062000" cy="10796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rot="2172000">
            <a:off x="3806640" y="5098680"/>
            <a:ext cx="1062000" cy="10796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 flipV="1">
            <a:off x="4565880" y="5795640"/>
            <a:ext cx="217800" cy="159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H="1" flipV="1">
            <a:off x="3913560" y="5316480"/>
            <a:ext cx="218160" cy="1591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rot="2303400">
            <a:off x="4429800" y="5160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rot="2303400">
            <a:off x="3918600" y="5805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2" name=""/>
          <p:cNvGrpSpPr/>
          <p:nvPr/>
        </p:nvGrpSpPr>
        <p:grpSpPr>
          <a:xfrm>
            <a:off x="3054240" y="5257800"/>
            <a:ext cx="2444760" cy="459720"/>
            <a:chOff x="3054240" y="5257800"/>
            <a:chExt cx="2444760" cy="459720"/>
          </a:xfrm>
        </p:grpSpPr>
        <p:sp>
          <p:nvSpPr>
            <p:cNvPr id="963" name=""/>
            <p:cNvSpPr/>
            <p:nvPr/>
          </p:nvSpPr>
          <p:spPr>
            <a:xfrm>
              <a:off x="3200400" y="5638680"/>
              <a:ext cx="53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959360" y="5638680"/>
              <a:ext cx="53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187960" y="52578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 Black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054240" y="52578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 Black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7" name=""/>
          <p:cNvSpPr/>
          <p:nvPr/>
        </p:nvSpPr>
        <p:spPr>
          <a:xfrm>
            <a:off x="3505320" y="304920"/>
            <a:ext cx="5410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e stromdurchflossene Spule im Feld eines Hufeisenmagneten dreht sich höchstens um 180°. Polt man die Richtung des Stromes um, dreht sich die Spule um 180° weiter. In der Umpolphase fließt kein Strom. Die Spule hat aber soviel Schwung, dass sie den „toten Punkt“ überwinden kan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>
            <a:hlinkClick r:id="rId5" action="ppaction://hlinksldjump"/>
          </p:cNvPr>
          <p:cNvSpPr/>
          <p:nvPr/>
        </p:nvSpPr>
        <p:spPr>
          <a:xfrm>
            <a:off x="7696080" y="6095880"/>
            <a:ext cx="360360" cy="360360"/>
          </a:xfrm>
          <a:custGeom>
            <a:avLst/>
            <a:gdLst>
              <a:gd name="textAreaLeft" fmla="*/ 90000 w 360360"/>
              <a:gd name="textAreaRight" fmla="*/ 270360 w 360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10800"/>
                </a:moveTo>
                <a:lnTo>
                  <a:pt x="14825" y="6775"/>
                </a:lnTo>
                <a:lnTo>
                  <a:pt x="14825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505320" y="4800600"/>
            <a:ext cx="1676160" cy="106668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2151" y="10672"/>
                </a:moveTo>
                <a:arcTo wR="-8650" hR="-8650" stAng="-10749133" swAng="-11039772"/>
                <a:lnTo>
                  <a:pt x="16" y="11393"/>
                </a:lnTo>
                <a:arcTo wR="10800" hR="10800" stAng="10611095" swAng="11039772"/>
                <a:lnTo>
                  <a:pt x="24299" y="11000"/>
                </a:lnTo>
                <a:lnTo>
                  <a:pt x="20468" y="14718"/>
                </a:lnTo>
                <a:lnTo>
                  <a:pt x="16749" y="10888"/>
                </a:lnTo>
                <a:close/>
              </a:path>
            </a:pathLst>
          </a:cu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0" name=""/>
          <p:cNvGrpSpPr/>
          <p:nvPr/>
        </p:nvGrpSpPr>
        <p:grpSpPr>
          <a:xfrm>
            <a:off x="353880" y="457200"/>
            <a:ext cx="1512720" cy="2432160"/>
            <a:chOff x="353880" y="457200"/>
            <a:chExt cx="1512720" cy="2432160"/>
          </a:xfrm>
        </p:grpSpPr>
        <p:sp>
          <p:nvSpPr>
            <p:cNvPr id="971" name=""/>
            <p:cNvSpPr/>
            <p:nvPr/>
          </p:nvSpPr>
          <p:spPr>
            <a:xfrm>
              <a:off x="353880" y="457200"/>
              <a:ext cx="487800" cy="24321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829440" y="457200"/>
              <a:ext cx="1037160" cy="4129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1866960" y="457200"/>
            <a:ext cx="1485360" cy="2432160"/>
            <a:chOff x="1866960" y="457200"/>
            <a:chExt cx="1485360" cy="2432160"/>
          </a:xfrm>
        </p:grpSpPr>
        <p:sp>
          <p:nvSpPr>
            <p:cNvPr id="974" name=""/>
            <p:cNvSpPr/>
            <p:nvPr/>
          </p:nvSpPr>
          <p:spPr>
            <a:xfrm>
              <a:off x="2891880" y="457200"/>
              <a:ext cx="460440" cy="24321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866960" y="457200"/>
              <a:ext cx="1037160" cy="412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1038240" y="1900080"/>
            <a:ext cx="487440" cy="1441440"/>
            <a:chOff x="1038240" y="1900080"/>
            <a:chExt cx="487440" cy="1441440"/>
          </a:xfrm>
        </p:grpSpPr>
        <p:sp>
          <p:nvSpPr>
            <p:cNvPr id="977" name=""/>
            <p:cNvSpPr/>
            <p:nvPr/>
          </p:nvSpPr>
          <p:spPr>
            <a:xfrm>
              <a:off x="1038240" y="1900080"/>
              <a:ext cx="48744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038240" y="1900080"/>
              <a:ext cx="0" cy="144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2209680" y="1900080"/>
            <a:ext cx="487440" cy="1441440"/>
            <a:chOff x="2209680" y="1900080"/>
            <a:chExt cx="487440" cy="1441440"/>
          </a:xfrm>
        </p:grpSpPr>
        <p:sp>
          <p:nvSpPr>
            <p:cNvPr id="980" name=""/>
            <p:cNvSpPr/>
            <p:nvPr/>
          </p:nvSpPr>
          <p:spPr>
            <a:xfrm>
              <a:off x="2209680" y="1900080"/>
              <a:ext cx="48744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697120" y="1900080"/>
              <a:ext cx="0" cy="144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2" name=""/>
          <p:cNvGrpSpPr/>
          <p:nvPr/>
        </p:nvGrpSpPr>
        <p:grpSpPr>
          <a:xfrm>
            <a:off x="1402920" y="1216440"/>
            <a:ext cx="862920" cy="1394640"/>
            <a:chOff x="1402920" y="1216440"/>
            <a:chExt cx="862920" cy="1394640"/>
          </a:xfrm>
        </p:grpSpPr>
        <p:sp>
          <p:nvSpPr>
            <p:cNvPr id="983" name=""/>
            <p:cNvSpPr/>
            <p:nvPr/>
          </p:nvSpPr>
          <p:spPr>
            <a:xfrm rot="5425200">
              <a:off x="1708920" y="1757880"/>
              <a:ext cx="277560" cy="29232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rot="5425200">
              <a:off x="1553040" y="1602360"/>
              <a:ext cx="576360" cy="609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rot="16224600">
              <a:off x="1553040" y="1602360"/>
              <a:ext cx="576360" cy="609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rot="5425200">
              <a:off x="1264680" y="1600200"/>
              <a:ext cx="1154160" cy="6080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rot="5425200">
              <a:off x="1737720" y="1181520"/>
              <a:ext cx="195120" cy="619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rot="5425200">
              <a:off x="1726920" y="2044440"/>
              <a:ext cx="195480" cy="6177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rot="16224600">
              <a:off x="1800000" y="857160"/>
              <a:ext cx="102960" cy="827280"/>
            </a:xfrm>
            <a:prstGeom prst="flowChartDelay">
              <a:avLst/>
            </a:prstGeom>
            <a:solidFill>
              <a:srgbClr val="008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rot="5425200">
              <a:off x="1765440" y="2142720"/>
              <a:ext cx="102960" cy="827280"/>
            </a:xfrm>
            <a:prstGeom prst="flowChartDelay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H="1">
              <a:off x="1844280" y="1617840"/>
              <a:ext cx="720" cy="145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H="1">
              <a:off x="1831680" y="2059200"/>
              <a:ext cx="720" cy="147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2097720" y="1564560"/>
              <a:ext cx="2160" cy="34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>
              <a:off x="1576800" y="1916280"/>
              <a:ext cx="216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414440" y="2408040"/>
              <a:ext cx="10332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440000" y="1422000"/>
              <a:ext cx="10296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1425240" y="1426320"/>
              <a:ext cx="7200" cy="97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8" name=""/>
          <p:cNvSpPr/>
          <p:nvPr/>
        </p:nvSpPr>
        <p:spPr>
          <a:xfrm>
            <a:off x="228600" y="2328840"/>
            <a:ext cx="3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755800" y="2328840"/>
            <a:ext cx="3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035000" y="3186000"/>
            <a:ext cx="3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376360" y="3186000"/>
            <a:ext cx="3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3735720" y="5102640"/>
            <a:ext cx="1235520" cy="1080720"/>
            <a:chOff x="3735720" y="5102640"/>
            <a:chExt cx="1235520" cy="1080720"/>
          </a:xfrm>
        </p:grpSpPr>
        <p:sp>
          <p:nvSpPr>
            <p:cNvPr id="1003" name=""/>
            <p:cNvSpPr/>
            <p:nvPr/>
          </p:nvSpPr>
          <p:spPr>
            <a:xfrm rot="16181400">
              <a:off x="4088880" y="5399640"/>
              <a:ext cx="509400" cy="51768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rot="16181400">
              <a:off x="3817080" y="5096160"/>
              <a:ext cx="1061640" cy="10796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rot="5382000">
              <a:off x="3818520" y="5097240"/>
              <a:ext cx="1061640" cy="10796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 flipV="1">
              <a:off x="4359600" y="5914080"/>
              <a:ext cx="1440" cy="269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 flipV="1">
              <a:off x="4356360" y="5104080"/>
              <a:ext cx="1440" cy="269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rot="5512800">
              <a:off x="4535640" y="5529240"/>
              <a:ext cx="45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rot="5512800">
              <a:off x="3713760" y="5501880"/>
              <a:ext cx="45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3054240" y="5257800"/>
            <a:ext cx="2444760" cy="459720"/>
            <a:chOff x="3054240" y="5257800"/>
            <a:chExt cx="2444760" cy="459720"/>
          </a:xfrm>
        </p:grpSpPr>
        <p:sp>
          <p:nvSpPr>
            <p:cNvPr id="1011" name=""/>
            <p:cNvSpPr/>
            <p:nvPr/>
          </p:nvSpPr>
          <p:spPr>
            <a:xfrm>
              <a:off x="3200400" y="5638680"/>
              <a:ext cx="53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959360" y="5638680"/>
              <a:ext cx="53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187960" y="52578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 Black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054240" y="52578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 Black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5" name=""/>
          <p:cNvSpPr/>
          <p:nvPr/>
        </p:nvSpPr>
        <p:spPr>
          <a:xfrm>
            <a:off x="3505320" y="304920"/>
            <a:ext cx="5410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e stromdurchflossene Spule im Feld eines Hufeisenmagneten dreht sich höchstens um 180°. Polt man die Richtung des Stromes um, dreht sich die Spule um 180° weiter. In der Umpolphase fließt kein Strom. Die Spule hat aber soviel Schwung, dass sie den „toten Punkt“ überwinden kan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>
            <a:hlinkClick r:id="rId5" action="ppaction://hlinksldjump"/>
          </p:cNvPr>
          <p:cNvSpPr/>
          <p:nvPr/>
        </p:nvSpPr>
        <p:spPr>
          <a:xfrm>
            <a:off x="7696080" y="6095880"/>
            <a:ext cx="360360" cy="360360"/>
          </a:xfrm>
          <a:custGeom>
            <a:avLst/>
            <a:gdLst>
              <a:gd name="textAreaLeft" fmla="*/ 90000 w 360360"/>
              <a:gd name="textAreaRight" fmla="*/ 270360 w 360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10800"/>
                </a:moveTo>
                <a:lnTo>
                  <a:pt x="14825" y="6775"/>
                </a:lnTo>
                <a:lnTo>
                  <a:pt x="14825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505320" y="4800600"/>
            <a:ext cx="1676160" cy="106668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2151" y="10672"/>
                </a:moveTo>
                <a:arcTo wR="-8650" hR="-8650" stAng="-10749133" swAng="-11039772"/>
                <a:lnTo>
                  <a:pt x="16" y="11393"/>
                </a:lnTo>
                <a:arcTo wR="10800" hR="10800" stAng="10611095" swAng="11039772"/>
                <a:lnTo>
                  <a:pt x="24299" y="11000"/>
                </a:lnTo>
                <a:lnTo>
                  <a:pt x="20468" y="14718"/>
                </a:lnTo>
                <a:lnTo>
                  <a:pt x="16749" y="10888"/>
                </a:lnTo>
                <a:close/>
              </a:path>
            </a:pathLst>
          </a:cu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8" name=""/>
          <p:cNvGrpSpPr/>
          <p:nvPr/>
        </p:nvGrpSpPr>
        <p:grpSpPr>
          <a:xfrm>
            <a:off x="353880" y="457200"/>
            <a:ext cx="1512720" cy="2432160"/>
            <a:chOff x="353880" y="457200"/>
            <a:chExt cx="1512720" cy="2432160"/>
          </a:xfrm>
        </p:grpSpPr>
        <p:sp>
          <p:nvSpPr>
            <p:cNvPr id="1019" name=""/>
            <p:cNvSpPr/>
            <p:nvPr/>
          </p:nvSpPr>
          <p:spPr>
            <a:xfrm>
              <a:off x="353880" y="457200"/>
              <a:ext cx="487800" cy="24321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829440" y="457200"/>
              <a:ext cx="1037160" cy="4129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1866960" y="457200"/>
            <a:ext cx="1485360" cy="2432160"/>
            <a:chOff x="1866960" y="457200"/>
            <a:chExt cx="1485360" cy="2432160"/>
          </a:xfrm>
        </p:grpSpPr>
        <p:sp>
          <p:nvSpPr>
            <p:cNvPr id="1022" name=""/>
            <p:cNvSpPr/>
            <p:nvPr/>
          </p:nvSpPr>
          <p:spPr>
            <a:xfrm>
              <a:off x="2891880" y="457200"/>
              <a:ext cx="460440" cy="24321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866960" y="457200"/>
              <a:ext cx="1037160" cy="412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1038240" y="1900080"/>
            <a:ext cx="487440" cy="1441440"/>
            <a:chOff x="1038240" y="1900080"/>
            <a:chExt cx="487440" cy="1441440"/>
          </a:xfrm>
        </p:grpSpPr>
        <p:sp>
          <p:nvSpPr>
            <p:cNvPr id="1025" name=""/>
            <p:cNvSpPr/>
            <p:nvPr/>
          </p:nvSpPr>
          <p:spPr>
            <a:xfrm>
              <a:off x="1038240" y="1900080"/>
              <a:ext cx="48744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038240" y="1900080"/>
              <a:ext cx="0" cy="144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2209680" y="1900080"/>
            <a:ext cx="487440" cy="1441440"/>
            <a:chOff x="2209680" y="1900080"/>
            <a:chExt cx="487440" cy="1441440"/>
          </a:xfrm>
        </p:grpSpPr>
        <p:sp>
          <p:nvSpPr>
            <p:cNvPr id="1028" name=""/>
            <p:cNvSpPr/>
            <p:nvPr/>
          </p:nvSpPr>
          <p:spPr>
            <a:xfrm>
              <a:off x="2209680" y="1900080"/>
              <a:ext cx="48744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697120" y="1900080"/>
              <a:ext cx="0" cy="144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0" name=""/>
          <p:cNvSpPr/>
          <p:nvPr/>
        </p:nvSpPr>
        <p:spPr>
          <a:xfrm rot="8104800">
            <a:off x="1701360" y="1748880"/>
            <a:ext cx="277920" cy="2919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rot="8104800">
            <a:off x="1546920" y="1588680"/>
            <a:ext cx="576360" cy="6094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rot="18904800">
            <a:off x="1547640" y="1588680"/>
            <a:ext cx="576360" cy="6094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 rot="8104800">
            <a:off x="1261800" y="1587240"/>
            <a:ext cx="1154160" cy="608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rot="8104800">
            <a:off x="2025360" y="1282680"/>
            <a:ext cx="195120" cy="619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rot="8104800">
            <a:off x="1410480" y="1890360"/>
            <a:ext cx="195480" cy="617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rot="18904800">
            <a:off x="2238480" y="1033200"/>
            <a:ext cx="102960" cy="826920"/>
          </a:xfrm>
          <a:prstGeom prst="flowChartDelay">
            <a:avLst/>
          </a:prstGeom>
          <a:solidFill>
            <a:srgbClr val="008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rot="8104800">
            <a:off x="1310400" y="1923840"/>
            <a:ext cx="103320" cy="826920"/>
          </a:xfrm>
          <a:prstGeom prst="flowChartDelay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H="1">
            <a:off x="1940400" y="1688400"/>
            <a:ext cx="103680" cy="1029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H="1">
            <a:off x="1617120" y="1995840"/>
            <a:ext cx="104400" cy="1044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H="1">
            <a:off x="2017080" y="1830240"/>
            <a:ext cx="242640" cy="24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H="1">
            <a:off x="1401120" y="1715760"/>
            <a:ext cx="242640" cy="24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181160" y="1947960"/>
            <a:ext cx="73080" cy="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892520" y="1266120"/>
            <a:ext cx="72720" cy="7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1190160" y="1264320"/>
            <a:ext cx="692640" cy="690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28600" y="2328840"/>
            <a:ext cx="3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755800" y="2328840"/>
            <a:ext cx="3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1035000" y="3186000"/>
            <a:ext cx="3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376360" y="3186000"/>
            <a:ext cx="3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3604320" y="4888080"/>
            <a:ext cx="1508760" cy="1512720"/>
            <a:chOff x="3604320" y="4888080"/>
            <a:chExt cx="1508760" cy="1512720"/>
          </a:xfrm>
        </p:grpSpPr>
        <p:sp>
          <p:nvSpPr>
            <p:cNvPr id="1050" name=""/>
            <p:cNvSpPr/>
            <p:nvPr/>
          </p:nvSpPr>
          <p:spPr>
            <a:xfrm rot="19166400">
              <a:off x="4083840" y="5396040"/>
              <a:ext cx="509400" cy="51768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rot="19166400">
              <a:off x="3827520" y="5103360"/>
              <a:ext cx="1061640" cy="10796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rot="8367000">
              <a:off x="3827880" y="5105520"/>
              <a:ext cx="1061640" cy="10796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V="1">
              <a:off x="3949560" y="5832000"/>
              <a:ext cx="204480" cy="1749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V="1">
              <a:off x="4565160" y="5306040"/>
              <a:ext cx="204840" cy="1753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rot="8497800">
              <a:off x="4328280" y="5821920"/>
              <a:ext cx="45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 rot="8497800">
              <a:off x="3818160" y="5176440"/>
              <a:ext cx="45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7" name=""/>
          <p:cNvGrpSpPr/>
          <p:nvPr/>
        </p:nvGrpSpPr>
        <p:grpSpPr>
          <a:xfrm>
            <a:off x="3054240" y="5257800"/>
            <a:ext cx="2444760" cy="459720"/>
            <a:chOff x="3054240" y="5257800"/>
            <a:chExt cx="2444760" cy="459720"/>
          </a:xfrm>
        </p:grpSpPr>
        <p:sp>
          <p:nvSpPr>
            <p:cNvPr id="1058" name=""/>
            <p:cNvSpPr/>
            <p:nvPr/>
          </p:nvSpPr>
          <p:spPr>
            <a:xfrm>
              <a:off x="3200400" y="5638680"/>
              <a:ext cx="53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959360" y="5638680"/>
              <a:ext cx="53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187960" y="52578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 Black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054240" y="52578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 Black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2" name=""/>
          <p:cNvSpPr/>
          <p:nvPr/>
        </p:nvSpPr>
        <p:spPr>
          <a:xfrm>
            <a:off x="3505320" y="304920"/>
            <a:ext cx="5410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e stromdurchflossene Spule im Feld eines Hufeisenmagneten dreht sich höchstens um 180°. Polt man die Richtung des Stromes um, dreht sich die Spule um 180° weiter. In der Umpolphase fließt kein Strom. Die Spule hat aber soviel Schwung, dass sie den „toten Punkt“ überwinden kan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>
            <a:hlinkClick r:id="rId5" action="ppaction://hlinksldjump"/>
          </p:cNvPr>
          <p:cNvSpPr/>
          <p:nvPr/>
        </p:nvSpPr>
        <p:spPr>
          <a:xfrm>
            <a:off x="7696080" y="6095880"/>
            <a:ext cx="360360" cy="360360"/>
          </a:xfrm>
          <a:custGeom>
            <a:avLst/>
            <a:gdLst>
              <a:gd name="textAreaLeft" fmla="*/ 90000 w 360360"/>
              <a:gd name="textAreaRight" fmla="*/ 270360 w 360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10800"/>
                </a:moveTo>
                <a:lnTo>
                  <a:pt x="14825" y="6775"/>
                </a:lnTo>
                <a:lnTo>
                  <a:pt x="14825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505320" y="4800600"/>
            <a:ext cx="1676160" cy="106668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2151" y="10672"/>
                </a:moveTo>
                <a:arcTo wR="-8650" hR="-8650" stAng="-10749133" swAng="-11039772"/>
                <a:lnTo>
                  <a:pt x="16" y="11393"/>
                </a:lnTo>
                <a:arcTo wR="10800" hR="10800" stAng="10611095" swAng="11039772"/>
                <a:lnTo>
                  <a:pt x="24299" y="11000"/>
                </a:lnTo>
                <a:lnTo>
                  <a:pt x="20468" y="14718"/>
                </a:lnTo>
                <a:lnTo>
                  <a:pt x="16749" y="10888"/>
                </a:lnTo>
                <a:close/>
              </a:path>
            </a:pathLst>
          </a:cu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5" name=""/>
          <p:cNvGrpSpPr/>
          <p:nvPr/>
        </p:nvGrpSpPr>
        <p:grpSpPr>
          <a:xfrm>
            <a:off x="353880" y="457200"/>
            <a:ext cx="1512720" cy="2432160"/>
            <a:chOff x="353880" y="457200"/>
            <a:chExt cx="1512720" cy="2432160"/>
          </a:xfrm>
        </p:grpSpPr>
        <p:sp>
          <p:nvSpPr>
            <p:cNvPr id="1066" name=""/>
            <p:cNvSpPr/>
            <p:nvPr/>
          </p:nvSpPr>
          <p:spPr>
            <a:xfrm>
              <a:off x="353880" y="457200"/>
              <a:ext cx="487800" cy="24321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829440" y="457200"/>
              <a:ext cx="1037160" cy="4129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8" name=""/>
          <p:cNvGrpSpPr/>
          <p:nvPr/>
        </p:nvGrpSpPr>
        <p:grpSpPr>
          <a:xfrm>
            <a:off x="1866960" y="457200"/>
            <a:ext cx="1485360" cy="2432160"/>
            <a:chOff x="1866960" y="457200"/>
            <a:chExt cx="1485360" cy="2432160"/>
          </a:xfrm>
        </p:grpSpPr>
        <p:sp>
          <p:nvSpPr>
            <p:cNvPr id="1069" name=""/>
            <p:cNvSpPr/>
            <p:nvPr/>
          </p:nvSpPr>
          <p:spPr>
            <a:xfrm>
              <a:off x="2891880" y="457200"/>
              <a:ext cx="460440" cy="24321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866960" y="457200"/>
              <a:ext cx="1037160" cy="412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1" name=""/>
          <p:cNvGrpSpPr/>
          <p:nvPr/>
        </p:nvGrpSpPr>
        <p:grpSpPr>
          <a:xfrm>
            <a:off x="1038240" y="1900080"/>
            <a:ext cx="487440" cy="1441440"/>
            <a:chOff x="1038240" y="1900080"/>
            <a:chExt cx="487440" cy="1441440"/>
          </a:xfrm>
        </p:grpSpPr>
        <p:sp>
          <p:nvSpPr>
            <p:cNvPr id="1072" name=""/>
            <p:cNvSpPr/>
            <p:nvPr/>
          </p:nvSpPr>
          <p:spPr>
            <a:xfrm>
              <a:off x="1038240" y="1900080"/>
              <a:ext cx="48744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038240" y="1900080"/>
              <a:ext cx="0" cy="144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4" name=""/>
          <p:cNvGrpSpPr/>
          <p:nvPr/>
        </p:nvGrpSpPr>
        <p:grpSpPr>
          <a:xfrm>
            <a:off x="2209680" y="1900080"/>
            <a:ext cx="487440" cy="1441440"/>
            <a:chOff x="2209680" y="1900080"/>
            <a:chExt cx="487440" cy="1441440"/>
          </a:xfrm>
        </p:grpSpPr>
        <p:sp>
          <p:nvSpPr>
            <p:cNvPr id="1075" name=""/>
            <p:cNvSpPr/>
            <p:nvPr/>
          </p:nvSpPr>
          <p:spPr>
            <a:xfrm>
              <a:off x="2209680" y="1900080"/>
              <a:ext cx="48744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697120" y="1900080"/>
              <a:ext cx="0" cy="144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7" name=""/>
          <p:cNvSpPr/>
          <p:nvPr/>
        </p:nvSpPr>
        <p:spPr>
          <a:xfrm rot="10803600">
            <a:off x="1122480" y="1488600"/>
            <a:ext cx="102960" cy="827280"/>
          </a:xfrm>
          <a:prstGeom prst="flowChartDelay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rot="10803600">
            <a:off x="1684080" y="1780560"/>
            <a:ext cx="277560" cy="2919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rot="10803600">
            <a:off x="1532880" y="1618920"/>
            <a:ext cx="576360" cy="6094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rot="3600">
            <a:off x="1533600" y="1618920"/>
            <a:ext cx="576360" cy="6094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rot="10803600">
            <a:off x="1247400" y="1618920"/>
            <a:ext cx="1154160" cy="608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rot="10803600">
            <a:off x="2139120" y="1603080"/>
            <a:ext cx="195480" cy="619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rot="10803600">
            <a:off x="1275480" y="1598040"/>
            <a:ext cx="195480" cy="617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rot="3600">
            <a:off x="2406240" y="1514520"/>
            <a:ext cx="103320" cy="826920"/>
          </a:xfrm>
          <a:prstGeom prst="flowChartDelay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1968480" y="1924200"/>
            <a:ext cx="146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1521000" y="1914480"/>
            <a:ext cx="147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H="1" flipV="1">
            <a:off x="1824120" y="2176200"/>
            <a:ext cx="342720" cy="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H="1" flipV="1">
            <a:off x="1468440" y="1660320"/>
            <a:ext cx="342720" cy="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1319040" y="1498680"/>
            <a:ext cx="0" cy="10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2305080" y="1518480"/>
            <a:ext cx="0" cy="103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H="1" flipV="1">
            <a:off x="1321920" y="1509120"/>
            <a:ext cx="9781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28600" y="2328840"/>
            <a:ext cx="3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755800" y="2328840"/>
            <a:ext cx="3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035000" y="3186000"/>
            <a:ext cx="3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2376360" y="3186000"/>
            <a:ext cx="3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rot="24000">
            <a:off x="4082760" y="5390640"/>
            <a:ext cx="509400" cy="517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rot="24000">
            <a:off x="3827520" y="5114880"/>
            <a:ext cx="1062000" cy="10796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rot="10824000">
            <a:off x="3827160" y="5116320"/>
            <a:ext cx="1062000" cy="10792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813120" y="5659920"/>
            <a:ext cx="270000" cy="2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622760" y="5667840"/>
            <a:ext cx="270000" cy="2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rot="10956000">
            <a:off x="4033440" y="58698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rot="10956000">
            <a:off x="4071600" y="5047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3054240" y="5257800"/>
            <a:ext cx="2444760" cy="459720"/>
            <a:chOff x="3054240" y="5257800"/>
            <a:chExt cx="2444760" cy="459720"/>
          </a:xfrm>
        </p:grpSpPr>
        <p:sp>
          <p:nvSpPr>
            <p:cNvPr id="1104" name=""/>
            <p:cNvSpPr/>
            <p:nvPr/>
          </p:nvSpPr>
          <p:spPr>
            <a:xfrm>
              <a:off x="3200400" y="5638680"/>
              <a:ext cx="53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959360" y="5638680"/>
              <a:ext cx="53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187960" y="52578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 Black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054240" y="52578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 Black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8" name=""/>
          <p:cNvSpPr/>
          <p:nvPr/>
        </p:nvSpPr>
        <p:spPr>
          <a:xfrm>
            <a:off x="3505320" y="304920"/>
            <a:ext cx="5410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e stromdurchflossene Spule im Feld eines Hufeisenmagneten dreht sich höchstens um 180°. Polt man die Richtung des Stromes um, dreht sich die Spule um 180° weiter. In der Umpolphase fließt kein Strom. Die Spule hat aber soviel Schwung, dass sie den „toten Punkt“ überwinden kan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>
            <a:hlinkClick r:id="rId5" action="ppaction://hlinksldjump"/>
          </p:cNvPr>
          <p:cNvSpPr/>
          <p:nvPr/>
        </p:nvSpPr>
        <p:spPr>
          <a:xfrm>
            <a:off x="7696080" y="6095880"/>
            <a:ext cx="360360" cy="360360"/>
          </a:xfrm>
          <a:custGeom>
            <a:avLst/>
            <a:gdLst>
              <a:gd name="textAreaLeft" fmla="*/ 90000 w 360360"/>
              <a:gd name="textAreaRight" fmla="*/ 270360 w 360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10800"/>
                </a:moveTo>
                <a:lnTo>
                  <a:pt x="14825" y="6775"/>
                </a:lnTo>
                <a:lnTo>
                  <a:pt x="14825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505320" y="4800600"/>
            <a:ext cx="1676160" cy="106668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2151" y="10672"/>
                </a:moveTo>
                <a:arcTo wR="-8650" hR="-8650" stAng="-10749133" swAng="-11039772"/>
                <a:lnTo>
                  <a:pt x="16" y="11393"/>
                </a:lnTo>
                <a:arcTo wR="10800" hR="10800" stAng="10611095" swAng="11039772"/>
                <a:lnTo>
                  <a:pt x="24299" y="11000"/>
                </a:lnTo>
                <a:lnTo>
                  <a:pt x="20468" y="14718"/>
                </a:lnTo>
                <a:lnTo>
                  <a:pt x="16749" y="10888"/>
                </a:lnTo>
                <a:close/>
              </a:path>
            </a:pathLst>
          </a:cu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1" name=""/>
          <p:cNvGrpSpPr/>
          <p:nvPr/>
        </p:nvGrpSpPr>
        <p:grpSpPr>
          <a:xfrm>
            <a:off x="353880" y="457200"/>
            <a:ext cx="1512720" cy="2432160"/>
            <a:chOff x="353880" y="457200"/>
            <a:chExt cx="1512720" cy="2432160"/>
          </a:xfrm>
        </p:grpSpPr>
        <p:sp>
          <p:nvSpPr>
            <p:cNvPr id="1112" name=""/>
            <p:cNvSpPr/>
            <p:nvPr/>
          </p:nvSpPr>
          <p:spPr>
            <a:xfrm>
              <a:off x="353880" y="457200"/>
              <a:ext cx="487800" cy="24321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829440" y="457200"/>
              <a:ext cx="1037160" cy="4129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1866960" y="457200"/>
            <a:ext cx="1485360" cy="2432160"/>
            <a:chOff x="1866960" y="457200"/>
            <a:chExt cx="1485360" cy="2432160"/>
          </a:xfrm>
        </p:grpSpPr>
        <p:sp>
          <p:nvSpPr>
            <p:cNvPr id="1115" name=""/>
            <p:cNvSpPr/>
            <p:nvPr/>
          </p:nvSpPr>
          <p:spPr>
            <a:xfrm>
              <a:off x="2891880" y="457200"/>
              <a:ext cx="460440" cy="24321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866960" y="457200"/>
              <a:ext cx="1037160" cy="412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1038240" y="1900080"/>
            <a:ext cx="487440" cy="1441440"/>
            <a:chOff x="1038240" y="1900080"/>
            <a:chExt cx="487440" cy="1441440"/>
          </a:xfrm>
        </p:grpSpPr>
        <p:sp>
          <p:nvSpPr>
            <p:cNvPr id="1118" name=""/>
            <p:cNvSpPr/>
            <p:nvPr/>
          </p:nvSpPr>
          <p:spPr>
            <a:xfrm>
              <a:off x="1038240" y="1900080"/>
              <a:ext cx="48744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038240" y="1900080"/>
              <a:ext cx="0" cy="144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"/>
          <p:cNvGrpSpPr/>
          <p:nvPr/>
        </p:nvGrpSpPr>
        <p:grpSpPr>
          <a:xfrm>
            <a:off x="2209680" y="1900080"/>
            <a:ext cx="487440" cy="1441440"/>
            <a:chOff x="2209680" y="1900080"/>
            <a:chExt cx="487440" cy="1441440"/>
          </a:xfrm>
        </p:grpSpPr>
        <p:sp>
          <p:nvSpPr>
            <p:cNvPr id="1121" name=""/>
            <p:cNvSpPr/>
            <p:nvPr/>
          </p:nvSpPr>
          <p:spPr>
            <a:xfrm>
              <a:off x="2209680" y="1900080"/>
              <a:ext cx="48744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697120" y="1900080"/>
              <a:ext cx="0" cy="144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3" name=""/>
          <p:cNvGrpSpPr/>
          <p:nvPr/>
        </p:nvGrpSpPr>
        <p:grpSpPr>
          <a:xfrm>
            <a:off x="1105200" y="1094760"/>
            <a:ext cx="1558440" cy="1571400"/>
            <a:chOff x="1105200" y="1094760"/>
            <a:chExt cx="1558440" cy="1571400"/>
          </a:xfrm>
        </p:grpSpPr>
        <p:sp>
          <p:nvSpPr>
            <p:cNvPr id="1124" name=""/>
            <p:cNvSpPr/>
            <p:nvPr/>
          </p:nvSpPr>
          <p:spPr>
            <a:xfrm rot="13400400">
              <a:off x="1374840" y="1017000"/>
              <a:ext cx="102960" cy="826920"/>
            </a:xfrm>
            <a:prstGeom prst="flowChartDelay">
              <a:avLst/>
            </a:prstGeom>
            <a:solidFill>
              <a:srgbClr val="008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rot="13400400">
              <a:off x="1743120" y="1748880"/>
              <a:ext cx="277920" cy="2919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 rot="13400400">
              <a:off x="1595160" y="1585440"/>
              <a:ext cx="576360" cy="609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rot="2599800">
              <a:off x="1595160" y="1586160"/>
              <a:ext cx="576360" cy="609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rot="13400400">
              <a:off x="1307520" y="1589040"/>
              <a:ext cx="1153800" cy="607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rot="13400400">
              <a:off x="2095560" y="1859040"/>
              <a:ext cx="195120" cy="619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rot="13400400">
              <a:off x="1468440" y="1263240"/>
              <a:ext cx="195120" cy="6174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rot="2599800">
              <a:off x="2290320" y="1916280"/>
              <a:ext cx="103320" cy="826920"/>
            </a:xfrm>
            <a:prstGeom prst="flowChartDelay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 flipV="1">
              <a:off x="1988280" y="1991520"/>
              <a:ext cx="106560" cy="100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 flipV="1">
              <a:off x="1669680" y="1678320"/>
              <a:ext cx="107280" cy="101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 flipV="1">
              <a:off x="1710000" y="2076480"/>
              <a:ext cx="249480" cy="23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 flipV="1">
              <a:off x="1806840" y="1457280"/>
              <a:ext cx="249480" cy="23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1737720" y="1235880"/>
              <a:ext cx="70920" cy="75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2441160" y="1925640"/>
              <a:ext cx="70560" cy="7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 flipV="1">
              <a:off x="1803240" y="1245600"/>
              <a:ext cx="711360" cy="671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9" name=""/>
          <p:cNvSpPr/>
          <p:nvPr/>
        </p:nvSpPr>
        <p:spPr>
          <a:xfrm>
            <a:off x="228600" y="2328840"/>
            <a:ext cx="3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755800" y="2328840"/>
            <a:ext cx="3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035000" y="3186000"/>
            <a:ext cx="3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2376360" y="3186000"/>
            <a:ext cx="3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rot="2482200">
            <a:off x="4092480" y="5382720"/>
            <a:ext cx="509760" cy="517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rot="2482200">
            <a:off x="3827160" y="5119200"/>
            <a:ext cx="1062000" cy="10796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rot="13282200">
            <a:off x="3827160" y="5121360"/>
            <a:ext cx="1062000" cy="107928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943800" y="5304960"/>
            <a:ext cx="202320" cy="178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550040" y="5842080"/>
            <a:ext cx="202320" cy="178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rot="13413600">
            <a:off x="3786480" y="5709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rot="13413600">
            <a:off x="4353120" y="5112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0" name=""/>
          <p:cNvGrpSpPr/>
          <p:nvPr/>
        </p:nvGrpSpPr>
        <p:grpSpPr>
          <a:xfrm>
            <a:off x="3054240" y="5257800"/>
            <a:ext cx="2444760" cy="459720"/>
            <a:chOff x="3054240" y="5257800"/>
            <a:chExt cx="2444760" cy="459720"/>
          </a:xfrm>
        </p:grpSpPr>
        <p:sp>
          <p:nvSpPr>
            <p:cNvPr id="1151" name=""/>
            <p:cNvSpPr/>
            <p:nvPr/>
          </p:nvSpPr>
          <p:spPr>
            <a:xfrm>
              <a:off x="3200400" y="5638680"/>
              <a:ext cx="53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959360" y="5638680"/>
              <a:ext cx="53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187960" y="52578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 Black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054240" y="52578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 Black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5" name=""/>
          <p:cNvSpPr/>
          <p:nvPr/>
        </p:nvSpPr>
        <p:spPr>
          <a:xfrm>
            <a:off x="3505320" y="304920"/>
            <a:ext cx="5410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e stromdurchflossene Spule im Feld eines Hufeisenmagneten dreht sich höchstens um 180°. Polt man die Richtung des Stromes um, dreht sich die Spule um 180° weiter. In der Umpolphase fließt kein Strom. Die Spule hat aber soviel Schwung, dass sie den „toten Punkt“ überwinden kan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>
            <a:hlinkClick r:id="rId5" action="ppaction://hlinksldjump"/>
          </p:cNvPr>
          <p:cNvSpPr/>
          <p:nvPr/>
        </p:nvSpPr>
        <p:spPr>
          <a:xfrm>
            <a:off x="7696080" y="6095880"/>
            <a:ext cx="360360" cy="360360"/>
          </a:xfrm>
          <a:custGeom>
            <a:avLst/>
            <a:gdLst>
              <a:gd name="textAreaLeft" fmla="*/ 90000 w 360360"/>
              <a:gd name="textAreaRight" fmla="*/ 270360 w 360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10800"/>
                </a:moveTo>
                <a:lnTo>
                  <a:pt x="14825" y="6775"/>
                </a:lnTo>
                <a:lnTo>
                  <a:pt x="14825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505320" y="4800600"/>
            <a:ext cx="1676160" cy="106668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2151" y="10672"/>
                </a:moveTo>
                <a:arcTo wR="-8650" hR="-8650" stAng="-10749133" swAng="-11039772"/>
                <a:lnTo>
                  <a:pt x="16" y="11393"/>
                </a:lnTo>
                <a:arcTo wR="10800" hR="10800" stAng="10611095" swAng="11039772"/>
                <a:lnTo>
                  <a:pt x="24299" y="11000"/>
                </a:lnTo>
                <a:lnTo>
                  <a:pt x="20468" y="14718"/>
                </a:lnTo>
                <a:lnTo>
                  <a:pt x="16749" y="10888"/>
                </a:lnTo>
                <a:close/>
              </a:path>
            </a:pathLst>
          </a:cu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"/>
          <p:cNvGrpSpPr/>
          <p:nvPr/>
        </p:nvGrpSpPr>
        <p:grpSpPr>
          <a:xfrm>
            <a:off x="353880" y="457200"/>
            <a:ext cx="1512720" cy="2432160"/>
            <a:chOff x="353880" y="457200"/>
            <a:chExt cx="1512720" cy="2432160"/>
          </a:xfrm>
        </p:grpSpPr>
        <p:sp>
          <p:nvSpPr>
            <p:cNvPr id="1159" name=""/>
            <p:cNvSpPr/>
            <p:nvPr/>
          </p:nvSpPr>
          <p:spPr>
            <a:xfrm>
              <a:off x="353880" y="457200"/>
              <a:ext cx="487800" cy="24321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829440" y="457200"/>
              <a:ext cx="1037160" cy="4129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1" name=""/>
          <p:cNvGrpSpPr/>
          <p:nvPr/>
        </p:nvGrpSpPr>
        <p:grpSpPr>
          <a:xfrm>
            <a:off x="1866960" y="457200"/>
            <a:ext cx="1485360" cy="2432160"/>
            <a:chOff x="1866960" y="457200"/>
            <a:chExt cx="1485360" cy="2432160"/>
          </a:xfrm>
        </p:grpSpPr>
        <p:sp>
          <p:nvSpPr>
            <p:cNvPr id="1162" name=""/>
            <p:cNvSpPr/>
            <p:nvPr/>
          </p:nvSpPr>
          <p:spPr>
            <a:xfrm>
              <a:off x="2891880" y="457200"/>
              <a:ext cx="460440" cy="24321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866960" y="457200"/>
              <a:ext cx="1037160" cy="412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1038240" y="1900080"/>
            <a:ext cx="487440" cy="1441440"/>
            <a:chOff x="1038240" y="1900080"/>
            <a:chExt cx="487440" cy="1441440"/>
          </a:xfrm>
        </p:grpSpPr>
        <p:sp>
          <p:nvSpPr>
            <p:cNvPr id="1165" name=""/>
            <p:cNvSpPr/>
            <p:nvPr/>
          </p:nvSpPr>
          <p:spPr>
            <a:xfrm>
              <a:off x="1038240" y="1900080"/>
              <a:ext cx="48744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038240" y="1900080"/>
              <a:ext cx="0" cy="144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7" name=""/>
          <p:cNvGrpSpPr/>
          <p:nvPr/>
        </p:nvGrpSpPr>
        <p:grpSpPr>
          <a:xfrm>
            <a:off x="2209680" y="1900080"/>
            <a:ext cx="487440" cy="1441440"/>
            <a:chOff x="2209680" y="1900080"/>
            <a:chExt cx="487440" cy="1441440"/>
          </a:xfrm>
        </p:grpSpPr>
        <p:sp>
          <p:nvSpPr>
            <p:cNvPr id="1168" name=""/>
            <p:cNvSpPr/>
            <p:nvPr/>
          </p:nvSpPr>
          <p:spPr>
            <a:xfrm>
              <a:off x="2209680" y="1900080"/>
              <a:ext cx="48744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697120" y="1900080"/>
              <a:ext cx="0" cy="144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0" name=""/>
          <p:cNvGrpSpPr/>
          <p:nvPr/>
        </p:nvGrpSpPr>
        <p:grpSpPr>
          <a:xfrm>
            <a:off x="1494720" y="1195200"/>
            <a:ext cx="833760" cy="1405080"/>
            <a:chOff x="1494720" y="1195200"/>
            <a:chExt cx="833760" cy="1405080"/>
          </a:xfrm>
        </p:grpSpPr>
        <p:sp>
          <p:nvSpPr>
            <p:cNvPr id="1171" name=""/>
            <p:cNvSpPr/>
            <p:nvPr/>
          </p:nvSpPr>
          <p:spPr>
            <a:xfrm rot="16122600">
              <a:off x="1857240" y="842760"/>
              <a:ext cx="103320" cy="826920"/>
            </a:xfrm>
            <a:prstGeom prst="flowChartDelay">
              <a:avLst/>
            </a:prstGeom>
            <a:solidFill>
              <a:srgbClr val="008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rot="16122600">
              <a:off x="1761120" y="1759680"/>
              <a:ext cx="277920" cy="2919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rot="16122600">
              <a:off x="1616400" y="1599120"/>
              <a:ext cx="576360" cy="609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rot="5322600">
              <a:off x="1616400" y="1599120"/>
              <a:ext cx="576360" cy="6094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rot="16122600">
              <a:off x="1325520" y="1603080"/>
              <a:ext cx="1154160" cy="6080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rot="16122600">
              <a:off x="1825920" y="2008440"/>
              <a:ext cx="195480" cy="618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rot="16122600">
              <a:off x="1809360" y="1145520"/>
              <a:ext cx="195480" cy="6174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rot="5322600">
              <a:off x="1861920" y="2125440"/>
              <a:ext cx="103320" cy="827280"/>
            </a:xfrm>
            <a:prstGeom prst="flowChartDelay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H="1" flipV="1">
              <a:off x="1906200" y="2049480"/>
              <a:ext cx="3600" cy="146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 flipV="1">
              <a:off x="1904760" y="1601280"/>
              <a:ext cx="3600" cy="1479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 flipH="1" flipV="1">
              <a:off x="1650240" y="1910880"/>
              <a:ext cx="7920" cy="34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 flipH="1" flipV="1">
              <a:off x="2159640" y="1544760"/>
              <a:ext cx="7920" cy="34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H="1">
              <a:off x="2212560" y="1391040"/>
              <a:ext cx="103320" cy="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H="1">
              <a:off x="2215800" y="2377080"/>
              <a:ext cx="103320" cy="2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H="1" flipV="1">
              <a:off x="2306880" y="1393920"/>
              <a:ext cx="21600" cy="97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6" name=""/>
          <p:cNvSpPr/>
          <p:nvPr/>
        </p:nvSpPr>
        <p:spPr>
          <a:xfrm>
            <a:off x="228600" y="2328840"/>
            <a:ext cx="3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2755800" y="2328840"/>
            <a:ext cx="3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1035000" y="3186000"/>
            <a:ext cx="3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376360" y="3186000"/>
            <a:ext cx="3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3729960" y="5128200"/>
            <a:ext cx="1235160" cy="1080360"/>
            <a:chOff x="3729960" y="5128200"/>
            <a:chExt cx="1235160" cy="1080360"/>
          </a:xfrm>
        </p:grpSpPr>
        <p:sp>
          <p:nvSpPr>
            <p:cNvPr id="1191" name=""/>
            <p:cNvSpPr/>
            <p:nvPr/>
          </p:nvSpPr>
          <p:spPr>
            <a:xfrm rot="5376600">
              <a:off x="4101840" y="5394600"/>
              <a:ext cx="509400" cy="51768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rot="5376600">
              <a:off x="3819960" y="5133240"/>
              <a:ext cx="1061640" cy="10796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rot="16176600">
              <a:off x="3818880" y="5134320"/>
              <a:ext cx="1061640" cy="10792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338720" y="5128200"/>
              <a:ext cx="2160" cy="269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342680" y="5937840"/>
              <a:ext cx="1800" cy="269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rot="16308000">
              <a:off x="3708000" y="5384520"/>
              <a:ext cx="45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rot="16308000">
              <a:off x="4530240" y="5409000"/>
              <a:ext cx="45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8" name=""/>
          <p:cNvGrpSpPr/>
          <p:nvPr/>
        </p:nvGrpSpPr>
        <p:grpSpPr>
          <a:xfrm>
            <a:off x="3054240" y="5257800"/>
            <a:ext cx="2444760" cy="459720"/>
            <a:chOff x="3054240" y="5257800"/>
            <a:chExt cx="2444760" cy="459720"/>
          </a:xfrm>
        </p:grpSpPr>
        <p:sp>
          <p:nvSpPr>
            <p:cNvPr id="1199" name=""/>
            <p:cNvSpPr/>
            <p:nvPr/>
          </p:nvSpPr>
          <p:spPr>
            <a:xfrm>
              <a:off x="3200400" y="5638680"/>
              <a:ext cx="53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959360" y="5638680"/>
              <a:ext cx="53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187960" y="52578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 Black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054240" y="52578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 Black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3" name=""/>
          <p:cNvSpPr/>
          <p:nvPr/>
        </p:nvSpPr>
        <p:spPr>
          <a:xfrm>
            <a:off x="3505320" y="304920"/>
            <a:ext cx="5410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e stromdurchflossene Spule im Feld eines Hufeisenmagneten dreht sich höchstens um 180°. Polt man die Richtung des Stromes um, dreht sich die Spule um 180° weiter. In der Umpolphase fließt kein Strom. Die Spule hat aber soviel Schwung, dass sie den „toten Punkt“ überwinden kan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>
            <a:hlinkClick r:id="rId5" action="ppaction://hlinksldjump"/>
          </p:cNvPr>
          <p:cNvSpPr/>
          <p:nvPr/>
        </p:nvSpPr>
        <p:spPr>
          <a:xfrm>
            <a:off x="7696080" y="6095880"/>
            <a:ext cx="360360" cy="360360"/>
          </a:xfrm>
          <a:custGeom>
            <a:avLst/>
            <a:gdLst>
              <a:gd name="textAreaLeft" fmla="*/ 90000 w 360360"/>
              <a:gd name="textAreaRight" fmla="*/ 270360 w 360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10800"/>
                </a:moveTo>
                <a:lnTo>
                  <a:pt x="14825" y="6775"/>
                </a:lnTo>
                <a:lnTo>
                  <a:pt x="14825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3505320" y="4800600"/>
            <a:ext cx="1676160" cy="106668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2151" y="10672"/>
                </a:moveTo>
                <a:arcTo wR="-8650" hR="-8650" stAng="-10749133" swAng="-11039772"/>
                <a:lnTo>
                  <a:pt x="16" y="11393"/>
                </a:lnTo>
                <a:arcTo wR="10800" hR="10800" stAng="10611095" swAng="11039772"/>
                <a:lnTo>
                  <a:pt x="24299" y="11000"/>
                </a:lnTo>
                <a:lnTo>
                  <a:pt x="20468" y="14718"/>
                </a:lnTo>
                <a:lnTo>
                  <a:pt x="16749" y="10888"/>
                </a:lnTo>
                <a:close/>
              </a:path>
            </a:pathLst>
          </a:cu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1905120" y="1066680"/>
            <a:ext cx="2361960" cy="3598920"/>
            <a:chOff x="1905120" y="1066680"/>
            <a:chExt cx="2361960" cy="3598920"/>
          </a:xfrm>
        </p:grpSpPr>
        <p:sp>
          <p:nvSpPr>
            <p:cNvPr id="117" name=""/>
            <p:cNvSpPr/>
            <p:nvPr/>
          </p:nvSpPr>
          <p:spPr>
            <a:xfrm>
              <a:off x="1905120" y="1066680"/>
              <a:ext cx="761760" cy="35989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647800" y="1066680"/>
              <a:ext cx="1619280" cy="6112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267080" y="1066680"/>
            <a:ext cx="2319480" cy="3598920"/>
            <a:chOff x="4267080" y="1066680"/>
            <a:chExt cx="2319480" cy="3598920"/>
          </a:xfrm>
        </p:grpSpPr>
        <p:sp>
          <p:nvSpPr>
            <p:cNvPr id="120" name=""/>
            <p:cNvSpPr/>
            <p:nvPr/>
          </p:nvSpPr>
          <p:spPr>
            <a:xfrm>
              <a:off x="5867280" y="1066680"/>
              <a:ext cx="719280" cy="3598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67080" y="1066680"/>
              <a:ext cx="1619280" cy="611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971800" y="3200400"/>
            <a:ext cx="762120" cy="2133720"/>
            <a:chOff x="2971800" y="3200400"/>
            <a:chExt cx="762120" cy="2133720"/>
          </a:xfrm>
        </p:grpSpPr>
        <p:sp>
          <p:nvSpPr>
            <p:cNvPr id="123" name=""/>
            <p:cNvSpPr/>
            <p:nvPr/>
          </p:nvSpPr>
          <p:spPr>
            <a:xfrm>
              <a:off x="2971800" y="3200400"/>
              <a:ext cx="76212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971800" y="3200400"/>
              <a:ext cx="0" cy="21337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800600" y="3200400"/>
            <a:ext cx="762120" cy="2133720"/>
            <a:chOff x="4800600" y="3200400"/>
            <a:chExt cx="762120" cy="2133720"/>
          </a:xfrm>
        </p:grpSpPr>
        <p:sp>
          <p:nvSpPr>
            <p:cNvPr id="126" name=""/>
            <p:cNvSpPr/>
            <p:nvPr/>
          </p:nvSpPr>
          <p:spPr>
            <a:xfrm>
              <a:off x="4800600" y="3200400"/>
              <a:ext cx="76212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62720" y="3200400"/>
              <a:ext cx="0" cy="21337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041640" y="2228040"/>
            <a:ext cx="2452680" cy="1947960"/>
            <a:chOff x="3041640" y="2228040"/>
            <a:chExt cx="2452680" cy="1947960"/>
          </a:xfrm>
        </p:grpSpPr>
        <p:sp>
          <p:nvSpPr>
            <p:cNvPr id="129" name=""/>
            <p:cNvSpPr/>
            <p:nvPr/>
          </p:nvSpPr>
          <p:spPr>
            <a:xfrm rot="1335000">
              <a:off x="4044600" y="2967120"/>
              <a:ext cx="431640" cy="43164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335000">
              <a:off x="3812760" y="2739960"/>
              <a:ext cx="900000" cy="900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2135000">
              <a:off x="3813120" y="2739600"/>
              <a:ext cx="900000" cy="900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335000">
              <a:off x="3357360" y="2736360"/>
              <a:ext cx="1800000" cy="90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335000">
              <a:off x="3504960" y="2514240"/>
              <a:ext cx="304560" cy="914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1335000">
              <a:off x="4749480" y="3001680"/>
              <a:ext cx="304920" cy="9144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2135000">
              <a:off x="3267000" y="2212920"/>
              <a:ext cx="162000" cy="1224000"/>
            </a:xfrm>
            <a:prstGeom prst="flowChartDelay">
              <a:avLst/>
            </a:prstGeom>
            <a:solidFill>
              <a:srgbClr val="008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335000">
              <a:off x="5106600" y="2966760"/>
              <a:ext cx="162000" cy="1224000"/>
            </a:xfrm>
            <a:prstGeom prst="flowChartDelay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44080" y="3025440"/>
              <a:ext cx="211320" cy="86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79120" y="3285720"/>
              <a:ext cx="211320" cy="86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18600" y="2645280"/>
              <a:ext cx="493920" cy="20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23440" y="3551760"/>
              <a:ext cx="493920" cy="20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4741560" y="3910680"/>
              <a:ext cx="57600" cy="14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3331800" y="3332880"/>
              <a:ext cx="57600" cy="14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331800" y="3475080"/>
              <a:ext cx="1410480" cy="57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205740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8120" y="510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814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5" action="ppaction://hlinksldjump"/>
          </p:cNvPr>
          <p:cNvSpPr/>
          <p:nvPr/>
        </p:nvSpPr>
        <p:spPr>
          <a:xfrm>
            <a:off x="8153280" y="6095880"/>
            <a:ext cx="360360" cy="360360"/>
          </a:xfrm>
          <a:custGeom>
            <a:avLst/>
            <a:gdLst>
              <a:gd name="textAreaLeft" fmla="*/ 90000 w 360360"/>
              <a:gd name="textAreaRight" fmla="*/ 270360 w 360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6775"/>
                </a:moveTo>
                <a:lnTo>
                  <a:pt x="14825" y="10800"/>
                </a:lnTo>
                <a:lnTo>
                  <a:pt x="6775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6" action="ppaction://hlinksldjump"/>
          </p:cNvPr>
          <p:cNvSpPr/>
          <p:nvPr/>
        </p:nvSpPr>
        <p:spPr>
          <a:xfrm>
            <a:off x="7696080" y="6095880"/>
            <a:ext cx="360360" cy="360360"/>
          </a:xfrm>
          <a:custGeom>
            <a:avLst/>
            <a:gdLst>
              <a:gd name="textAreaLeft" fmla="*/ 90000 w 360360"/>
              <a:gd name="textAreaRight" fmla="*/ 270360 w 360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8790" y="10800"/>
                </a:moveTo>
                <a:lnTo>
                  <a:pt x="14825" y="6775"/>
                </a:lnTo>
                <a:lnTo>
                  <a:pt x="14825" y="14825"/>
                </a:lnTo>
                <a:close/>
              </a:path>
              <a:path fill="darken" w="21600" h="21600">
                <a:moveTo>
                  <a:pt x="6775" y="6775"/>
                </a:moveTo>
                <a:lnTo>
                  <a:pt x="7730" y="6775"/>
                </a:lnTo>
                <a:lnTo>
                  <a:pt x="7730" y="14825"/>
                </a:lnTo>
                <a:lnTo>
                  <a:pt x="6775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96080" y="5715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"/>
          <p:cNvGrpSpPr/>
          <p:nvPr/>
        </p:nvGrpSpPr>
        <p:grpSpPr>
          <a:xfrm>
            <a:off x="353880" y="457200"/>
            <a:ext cx="1512720" cy="2432160"/>
            <a:chOff x="353880" y="457200"/>
            <a:chExt cx="1512720" cy="2432160"/>
          </a:xfrm>
        </p:grpSpPr>
        <p:sp>
          <p:nvSpPr>
            <p:cNvPr id="1207" name=""/>
            <p:cNvSpPr/>
            <p:nvPr/>
          </p:nvSpPr>
          <p:spPr>
            <a:xfrm>
              <a:off x="353880" y="457200"/>
              <a:ext cx="487800" cy="243216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829440" y="457200"/>
              <a:ext cx="1037160" cy="4129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9" name=""/>
          <p:cNvGrpSpPr/>
          <p:nvPr/>
        </p:nvGrpSpPr>
        <p:grpSpPr>
          <a:xfrm>
            <a:off x="1866960" y="457200"/>
            <a:ext cx="1485360" cy="2432160"/>
            <a:chOff x="1866960" y="457200"/>
            <a:chExt cx="1485360" cy="2432160"/>
          </a:xfrm>
        </p:grpSpPr>
        <p:sp>
          <p:nvSpPr>
            <p:cNvPr id="1210" name=""/>
            <p:cNvSpPr/>
            <p:nvPr/>
          </p:nvSpPr>
          <p:spPr>
            <a:xfrm>
              <a:off x="2891880" y="457200"/>
              <a:ext cx="460440" cy="24321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866960" y="457200"/>
              <a:ext cx="1037160" cy="412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2" name=""/>
          <p:cNvGrpSpPr/>
          <p:nvPr/>
        </p:nvGrpSpPr>
        <p:grpSpPr>
          <a:xfrm>
            <a:off x="1038240" y="1900080"/>
            <a:ext cx="487440" cy="1441440"/>
            <a:chOff x="1038240" y="1900080"/>
            <a:chExt cx="487440" cy="1441440"/>
          </a:xfrm>
        </p:grpSpPr>
        <p:sp>
          <p:nvSpPr>
            <p:cNvPr id="1213" name=""/>
            <p:cNvSpPr/>
            <p:nvPr/>
          </p:nvSpPr>
          <p:spPr>
            <a:xfrm>
              <a:off x="1038240" y="1900080"/>
              <a:ext cx="48744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038240" y="1900080"/>
              <a:ext cx="0" cy="144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5" name=""/>
          <p:cNvGrpSpPr/>
          <p:nvPr/>
        </p:nvGrpSpPr>
        <p:grpSpPr>
          <a:xfrm>
            <a:off x="2209680" y="1900080"/>
            <a:ext cx="487440" cy="1441440"/>
            <a:chOff x="2209680" y="1900080"/>
            <a:chExt cx="487440" cy="1441440"/>
          </a:xfrm>
        </p:grpSpPr>
        <p:sp>
          <p:nvSpPr>
            <p:cNvPr id="1216" name=""/>
            <p:cNvSpPr/>
            <p:nvPr/>
          </p:nvSpPr>
          <p:spPr>
            <a:xfrm>
              <a:off x="2209680" y="1900080"/>
              <a:ext cx="48744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697120" y="1900080"/>
              <a:ext cx="0" cy="144144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1105560" y="1079640"/>
            <a:ext cx="1535040" cy="1582200"/>
            <a:chOff x="1105560" y="1079640"/>
            <a:chExt cx="1535040" cy="1582200"/>
          </a:xfrm>
        </p:grpSpPr>
        <p:sp>
          <p:nvSpPr>
            <p:cNvPr id="1219" name=""/>
            <p:cNvSpPr/>
            <p:nvPr/>
          </p:nvSpPr>
          <p:spPr>
            <a:xfrm rot="18541800">
              <a:off x="2234880" y="966600"/>
              <a:ext cx="103320" cy="827280"/>
            </a:xfrm>
            <a:prstGeom prst="flowChartDelay">
              <a:avLst/>
            </a:prstGeom>
            <a:solidFill>
              <a:srgbClr val="008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rot="18541800">
              <a:off x="1720080" y="1722960"/>
              <a:ext cx="277560" cy="2919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rot="18541800">
              <a:off x="1575360" y="1565280"/>
              <a:ext cx="576360" cy="6098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 rot="7741800">
              <a:off x="1575360" y="1565640"/>
              <a:ext cx="576360" cy="6098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 rot="18541800">
              <a:off x="1282680" y="1568520"/>
              <a:ext cx="1154160" cy="607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 rot="18541800">
              <a:off x="1512000" y="1891800"/>
              <a:ext cx="195120" cy="618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rot="18541800">
              <a:off x="2058840" y="1222200"/>
              <a:ext cx="195120" cy="6174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rot="7741800">
              <a:off x="1407240" y="1947600"/>
              <a:ext cx="103320" cy="826920"/>
            </a:xfrm>
            <a:prstGeom prst="flowChartDelay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 flipV="1">
              <a:off x="1679760" y="1982880"/>
              <a:ext cx="91800" cy="113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V="1">
              <a:off x="1966680" y="1642320"/>
              <a:ext cx="92880" cy="1144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V="1">
              <a:off x="1449360" y="1712880"/>
              <a:ext cx="21600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V="1">
              <a:off x="2074680" y="1762200"/>
              <a:ext cx="21600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H="1" flipV="1">
              <a:off x="2428920" y="1681920"/>
              <a:ext cx="80280" cy="6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 flipV="1">
              <a:off x="1793880" y="2435760"/>
              <a:ext cx="80280" cy="6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V="1">
              <a:off x="1886040" y="1742760"/>
              <a:ext cx="615600" cy="759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4" name=""/>
          <p:cNvSpPr/>
          <p:nvPr/>
        </p:nvSpPr>
        <p:spPr>
          <a:xfrm>
            <a:off x="228600" y="2328840"/>
            <a:ext cx="3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755800" y="2328840"/>
            <a:ext cx="3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1035000" y="3186000"/>
            <a:ext cx="3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376360" y="3186000"/>
            <a:ext cx="3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8" name=""/>
          <p:cNvGrpSpPr/>
          <p:nvPr/>
        </p:nvGrpSpPr>
        <p:grpSpPr>
          <a:xfrm>
            <a:off x="3584160" y="4925880"/>
            <a:ext cx="1506600" cy="1502640"/>
            <a:chOff x="3584160" y="4925880"/>
            <a:chExt cx="1506600" cy="1502640"/>
          </a:xfrm>
        </p:grpSpPr>
        <p:sp>
          <p:nvSpPr>
            <p:cNvPr id="1239" name=""/>
            <p:cNvSpPr/>
            <p:nvPr/>
          </p:nvSpPr>
          <p:spPr>
            <a:xfrm rot="7695600">
              <a:off x="4100040" y="5406480"/>
              <a:ext cx="509400" cy="51768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rot="7695600">
              <a:off x="3807360" y="5137200"/>
              <a:ext cx="1061640" cy="10796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 rot="18495600">
              <a:off x="3805560" y="5137200"/>
              <a:ext cx="1061640" cy="107928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H="1">
              <a:off x="4502160" y="5244120"/>
              <a:ext cx="167040" cy="211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 flipH="1">
              <a:off x="3999600" y="5878800"/>
              <a:ext cx="166680" cy="211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 rot="18627000">
              <a:off x="3841560" y="5149080"/>
              <a:ext cx="45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rot="18627000">
              <a:off x="4468320" y="5681880"/>
              <a:ext cx="45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6" name=""/>
          <p:cNvGrpSpPr/>
          <p:nvPr/>
        </p:nvGrpSpPr>
        <p:grpSpPr>
          <a:xfrm>
            <a:off x="3054240" y="5257800"/>
            <a:ext cx="2444760" cy="459720"/>
            <a:chOff x="3054240" y="5257800"/>
            <a:chExt cx="2444760" cy="459720"/>
          </a:xfrm>
        </p:grpSpPr>
        <p:sp>
          <p:nvSpPr>
            <p:cNvPr id="1247" name=""/>
            <p:cNvSpPr/>
            <p:nvPr/>
          </p:nvSpPr>
          <p:spPr>
            <a:xfrm>
              <a:off x="3200400" y="5638680"/>
              <a:ext cx="53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959360" y="5638680"/>
              <a:ext cx="539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187960" y="52578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00"/>
                  </a:solidFill>
                  <a:latin typeface="Arial Black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054240" y="52578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 Black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1" name=""/>
          <p:cNvSpPr/>
          <p:nvPr/>
        </p:nvSpPr>
        <p:spPr>
          <a:xfrm>
            <a:off x="3505320" y="304920"/>
            <a:ext cx="5410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e stromdurchflossene Spule im Feld eines Hufeisenmagneten dreht sich höchstens um 180°. Polt man die Richtung des Stromes um, dreht sich die Spule um 180° weiter. In der Umpolphase fließt kein Strom. Die Spule hat aber soviel Schwung, dass sie den „toten Punkt“ überwinden kan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>
            <a:hlinkClick r:id="rId5" action="ppaction://hlinksldjump"/>
          </p:cNvPr>
          <p:cNvSpPr/>
          <p:nvPr/>
        </p:nvSpPr>
        <p:spPr>
          <a:xfrm>
            <a:off x="8153280" y="6095880"/>
            <a:ext cx="360360" cy="360360"/>
          </a:xfrm>
          <a:custGeom>
            <a:avLst/>
            <a:gdLst>
              <a:gd name="textAreaLeft" fmla="*/ 90000 w 360360"/>
              <a:gd name="textAreaRight" fmla="*/ 270360 w 360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10800"/>
                </a:moveTo>
                <a:lnTo>
                  <a:pt x="14825" y="6775"/>
                </a:lnTo>
                <a:lnTo>
                  <a:pt x="14825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>
            <a:hlinkClick r:id="rId6" action="ppaction://hlinksldjump"/>
          </p:cNvPr>
          <p:cNvSpPr/>
          <p:nvPr/>
        </p:nvSpPr>
        <p:spPr>
          <a:xfrm>
            <a:off x="7696080" y="6095880"/>
            <a:ext cx="360360" cy="360360"/>
          </a:xfrm>
          <a:custGeom>
            <a:avLst/>
            <a:gdLst>
              <a:gd name="textAreaLeft" fmla="*/ 90000 w 360360"/>
              <a:gd name="textAreaRight" fmla="*/ 270360 w 360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10800"/>
                </a:moveTo>
                <a:lnTo>
                  <a:pt x="14825" y="6775"/>
                </a:lnTo>
                <a:lnTo>
                  <a:pt x="14825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505320" y="4800600"/>
            <a:ext cx="1676160" cy="1066680"/>
          </a:xfrm>
          <a:custGeom>
            <a:avLst/>
            <a:gdLst>
              <a:gd name="textAreaLeft" fmla="*/ 0 w 1676160"/>
              <a:gd name="textAreaRight" fmla="*/ 1676520 w 167616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2151" y="10672"/>
                </a:moveTo>
                <a:arcTo wR="-8650" hR="-8650" stAng="-10749133" swAng="-11039772"/>
                <a:lnTo>
                  <a:pt x="16" y="11393"/>
                </a:lnTo>
                <a:arcTo wR="10800" hR="10800" stAng="10611095" swAng="11039772"/>
                <a:lnTo>
                  <a:pt x="24299" y="11000"/>
                </a:lnTo>
                <a:lnTo>
                  <a:pt x="20468" y="14718"/>
                </a:lnTo>
                <a:lnTo>
                  <a:pt x="16749" y="10888"/>
                </a:lnTo>
                <a:close/>
              </a:path>
            </a:pathLst>
          </a:cu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"/>
          <p:cNvSpPr/>
          <p:nvPr/>
        </p:nvSpPr>
        <p:spPr>
          <a:xfrm>
            <a:off x="4800600" y="3200400"/>
            <a:ext cx="762120" cy="0"/>
          </a:xfrm>
          <a:prstGeom prst="line">
            <a:avLst/>
          </a:prstGeom>
          <a:ln w="57240">
            <a:solidFill>
              <a:srgbClr val="ff99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971800" y="3200400"/>
            <a:ext cx="76212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1905120" y="1066680"/>
            <a:ext cx="2361960" cy="3598920"/>
            <a:chOff x="1905120" y="1066680"/>
            <a:chExt cx="2361960" cy="3598920"/>
          </a:xfrm>
        </p:grpSpPr>
        <p:sp>
          <p:nvSpPr>
            <p:cNvPr id="1258" name=""/>
            <p:cNvSpPr/>
            <p:nvPr/>
          </p:nvSpPr>
          <p:spPr>
            <a:xfrm>
              <a:off x="1905120" y="1066680"/>
              <a:ext cx="761760" cy="35989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647800" y="1066680"/>
              <a:ext cx="1619280" cy="6112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0" name=""/>
          <p:cNvGrpSpPr/>
          <p:nvPr/>
        </p:nvGrpSpPr>
        <p:grpSpPr>
          <a:xfrm>
            <a:off x="4267080" y="1066680"/>
            <a:ext cx="2319480" cy="3598920"/>
            <a:chOff x="4267080" y="1066680"/>
            <a:chExt cx="2319480" cy="3598920"/>
          </a:xfrm>
        </p:grpSpPr>
        <p:sp>
          <p:nvSpPr>
            <p:cNvPr id="1261" name=""/>
            <p:cNvSpPr/>
            <p:nvPr/>
          </p:nvSpPr>
          <p:spPr>
            <a:xfrm>
              <a:off x="5867280" y="1066680"/>
              <a:ext cx="719280" cy="3598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267080" y="1066680"/>
              <a:ext cx="1619280" cy="611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3" name=""/>
          <p:cNvGrpSpPr/>
          <p:nvPr/>
        </p:nvGrpSpPr>
        <p:grpSpPr>
          <a:xfrm>
            <a:off x="3193920" y="2590920"/>
            <a:ext cx="2149560" cy="1224000"/>
            <a:chOff x="3193920" y="2590920"/>
            <a:chExt cx="2149560" cy="1224000"/>
          </a:xfrm>
        </p:grpSpPr>
        <p:sp>
          <p:nvSpPr>
            <p:cNvPr id="1264" name=""/>
            <p:cNvSpPr/>
            <p:nvPr/>
          </p:nvSpPr>
          <p:spPr>
            <a:xfrm>
              <a:off x="4038480" y="2971800"/>
              <a:ext cx="432000" cy="43164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3809880" y="2743200"/>
              <a:ext cx="900360" cy="900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rot="10800000">
              <a:off x="3809520" y="2743200"/>
              <a:ext cx="900360" cy="900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352680" y="2743200"/>
              <a:ext cx="1800360" cy="90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429000" y="2743200"/>
              <a:ext cx="304920" cy="914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800600" y="2743200"/>
              <a:ext cx="304920" cy="9144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rot="10800000">
              <a:off x="3193920" y="2590920"/>
              <a:ext cx="162000" cy="1224000"/>
            </a:xfrm>
            <a:prstGeom prst="flowChartDelay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181480" y="2590920"/>
              <a:ext cx="162000" cy="1224000"/>
            </a:xfrm>
            <a:prstGeom prst="flowChartDelay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809880" y="3200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495680" y="3200400"/>
              <a:ext cx="228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733920" y="281952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267080" y="358128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V="1">
              <a:off x="5029200" y="365724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flipV="1">
              <a:off x="3505320" y="365724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505320" y="3809880"/>
              <a:ext cx="15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9" name=""/>
          <p:cNvSpPr/>
          <p:nvPr/>
        </p:nvSpPr>
        <p:spPr>
          <a:xfrm>
            <a:off x="2971800" y="3200400"/>
            <a:ext cx="0" cy="21337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5562720" y="3200400"/>
            <a:ext cx="0" cy="21337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05740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601992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3048120" y="510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51814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696080" y="6095880"/>
            <a:ext cx="360360" cy="360360"/>
          </a:xfrm>
          <a:custGeom>
            <a:avLst/>
            <a:gdLst>
              <a:gd name="textAreaLeft" fmla="*/ 90000 w 360360"/>
              <a:gd name="textAreaRight" fmla="*/ 270360 w 360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8790" y="10800"/>
                </a:moveTo>
                <a:lnTo>
                  <a:pt x="14825" y="6775"/>
                </a:lnTo>
                <a:lnTo>
                  <a:pt x="14825" y="14825"/>
                </a:lnTo>
                <a:close/>
              </a:path>
              <a:path fill="darken" w="21600" h="21600">
                <a:moveTo>
                  <a:pt x="6775" y="6775"/>
                </a:moveTo>
                <a:lnTo>
                  <a:pt x="7730" y="6775"/>
                </a:lnTo>
                <a:lnTo>
                  <a:pt x="7730" y="14825"/>
                </a:lnTo>
                <a:lnTo>
                  <a:pt x="6775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7696080" y="5715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7" name=""/>
          <p:cNvGrpSpPr/>
          <p:nvPr/>
        </p:nvGrpSpPr>
        <p:grpSpPr>
          <a:xfrm>
            <a:off x="1905120" y="1066680"/>
            <a:ext cx="2361960" cy="3598920"/>
            <a:chOff x="1905120" y="1066680"/>
            <a:chExt cx="2361960" cy="3598920"/>
          </a:xfrm>
        </p:grpSpPr>
        <p:sp>
          <p:nvSpPr>
            <p:cNvPr id="1288" name=""/>
            <p:cNvSpPr/>
            <p:nvPr/>
          </p:nvSpPr>
          <p:spPr>
            <a:xfrm>
              <a:off x="1905120" y="1066680"/>
              <a:ext cx="761760" cy="35989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647800" y="1066680"/>
              <a:ext cx="1619280" cy="6112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4267080" y="1066680"/>
            <a:ext cx="2319480" cy="3598920"/>
            <a:chOff x="4267080" y="1066680"/>
            <a:chExt cx="2319480" cy="3598920"/>
          </a:xfrm>
        </p:grpSpPr>
        <p:sp>
          <p:nvSpPr>
            <p:cNvPr id="1291" name=""/>
            <p:cNvSpPr/>
            <p:nvPr/>
          </p:nvSpPr>
          <p:spPr>
            <a:xfrm>
              <a:off x="5867280" y="1066680"/>
              <a:ext cx="719280" cy="3598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267080" y="1066680"/>
              <a:ext cx="1619280" cy="611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3" name=""/>
          <p:cNvGrpSpPr/>
          <p:nvPr/>
        </p:nvGrpSpPr>
        <p:grpSpPr>
          <a:xfrm>
            <a:off x="2971800" y="3200400"/>
            <a:ext cx="762120" cy="2133720"/>
            <a:chOff x="2971800" y="3200400"/>
            <a:chExt cx="762120" cy="2133720"/>
          </a:xfrm>
        </p:grpSpPr>
        <p:sp>
          <p:nvSpPr>
            <p:cNvPr id="1294" name=""/>
            <p:cNvSpPr/>
            <p:nvPr/>
          </p:nvSpPr>
          <p:spPr>
            <a:xfrm>
              <a:off x="2971800" y="3200400"/>
              <a:ext cx="76212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971800" y="3200400"/>
              <a:ext cx="0" cy="21337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6" name=""/>
          <p:cNvGrpSpPr/>
          <p:nvPr/>
        </p:nvGrpSpPr>
        <p:grpSpPr>
          <a:xfrm>
            <a:off x="4800600" y="3200400"/>
            <a:ext cx="762120" cy="2133720"/>
            <a:chOff x="4800600" y="3200400"/>
            <a:chExt cx="762120" cy="2133720"/>
          </a:xfrm>
        </p:grpSpPr>
        <p:sp>
          <p:nvSpPr>
            <p:cNvPr id="1297" name=""/>
            <p:cNvSpPr/>
            <p:nvPr/>
          </p:nvSpPr>
          <p:spPr>
            <a:xfrm>
              <a:off x="4800600" y="3200400"/>
              <a:ext cx="76212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562720" y="3200400"/>
              <a:ext cx="0" cy="21337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3041640" y="2228040"/>
            <a:ext cx="2452680" cy="1947960"/>
            <a:chOff x="3041640" y="2228040"/>
            <a:chExt cx="2452680" cy="1947960"/>
          </a:xfrm>
        </p:grpSpPr>
        <p:sp>
          <p:nvSpPr>
            <p:cNvPr id="1300" name=""/>
            <p:cNvSpPr/>
            <p:nvPr/>
          </p:nvSpPr>
          <p:spPr>
            <a:xfrm rot="1335000">
              <a:off x="4044600" y="2967120"/>
              <a:ext cx="431640" cy="43164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 rot="1335000">
              <a:off x="3812760" y="2739960"/>
              <a:ext cx="900000" cy="900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 rot="12135000">
              <a:off x="3813120" y="2739600"/>
              <a:ext cx="900000" cy="900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rot="1335000">
              <a:off x="3357360" y="2736360"/>
              <a:ext cx="1800000" cy="90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rot="1335000">
              <a:off x="3504960" y="2514240"/>
              <a:ext cx="304560" cy="914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rot="1335000">
              <a:off x="4749480" y="3001680"/>
              <a:ext cx="304920" cy="9144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 rot="12135000">
              <a:off x="3267000" y="2212920"/>
              <a:ext cx="162000" cy="1224000"/>
            </a:xfrm>
            <a:prstGeom prst="flowChartDelay">
              <a:avLst/>
            </a:prstGeom>
            <a:solidFill>
              <a:srgbClr val="008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 rot="1335000">
              <a:off x="5106600" y="2966760"/>
              <a:ext cx="162000" cy="1224000"/>
            </a:xfrm>
            <a:prstGeom prst="flowChartDelay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844080" y="3025440"/>
              <a:ext cx="211320" cy="86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479120" y="3285720"/>
              <a:ext cx="211320" cy="86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918600" y="2645280"/>
              <a:ext cx="493920" cy="20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123440" y="3551760"/>
              <a:ext cx="493920" cy="202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V="1">
              <a:off x="4741560" y="3910680"/>
              <a:ext cx="57600" cy="14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V="1">
              <a:off x="3331800" y="3332880"/>
              <a:ext cx="57600" cy="14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3331800" y="3475080"/>
              <a:ext cx="1410480" cy="57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5" name=""/>
          <p:cNvSpPr/>
          <p:nvPr/>
        </p:nvSpPr>
        <p:spPr>
          <a:xfrm>
            <a:off x="205740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601992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048120" y="510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51814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7696080" y="6095880"/>
            <a:ext cx="360360" cy="360360"/>
          </a:xfrm>
          <a:custGeom>
            <a:avLst/>
            <a:gdLst>
              <a:gd name="textAreaLeft" fmla="*/ 90000 w 360360"/>
              <a:gd name="textAreaRight" fmla="*/ 270360 w 360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8790" y="10800"/>
                </a:moveTo>
                <a:lnTo>
                  <a:pt x="14825" y="6775"/>
                </a:lnTo>
                <a:lnTo>
                  <a:pt x="14825" y="14825"/>
                </a:lnTo>
                <a:close/>
              </a:path>
              <a:path fill="darken" w="21600" h="21600">
                <a:moveTo>
                  <a:pt x="6775" y="6775"/>
                </a:moveTo>
                <a:lnTo>
                  <a:pt x="7730" y="6775"/>
                </a:lnTo>
                <a:lnTo>
                  <a:pt x="7730" y="14825"/>
                </a:lnTo>
                <a:lnTo>
                  <a:pt x="6775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7696080" y="5715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1" name=""/>
          <p:cNvGrpSpPr/>
          <p:nvPr/>
        </p:nvGrpSpPr>
        <p:grpSpPr>
          <a:xfrm>
            <a:off x="1905120" y="1066680"/>
            <a:ext cx="2361960" cy="3598920"/>
            <a:chOff x="1905120" y="1066680"/>
            <a:chExt cx="2361960" cy="3598920"/>
          </a:xfrm>
        </p:grpSpPr>
        <p:sp>
          <p:nvSpPr>
            <p:cNvPr id="1322" name=""/>
            <p:cNvSpPr/>
            <p:nvPr/>
          </p:nvSpPr>
          <p:spPr>
            <a:xfrm>
              <a:off x="1905120" y="1066680"/>
              <a:ext cx="761760" cy="35989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647800" y="1066680"/>
              <a:ext cx="1619280" cy="6112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4" name=""/>
          <p:cNvGrpSpPr/>
          <p:nvPr/>
        </p:nvGrpSpPr>
        <p:grpSpPr>
          <a:xfrm>
            <a:off x="4267080" y="1066680"/>
            <a:ext cx="2319480" cy="3598920"/>
            <a:chOff x="4267080" y="1066680"/>
            <a:chExt cx="2319480" cy="3598920"/>
          </a:xfrm>
        </p:grpSpPr>
        <p:sp>
          <p:nvSpPr>
            <p:cNvPr id="1325" name=""/>
            <p:cNvSpPr/>
            <p:nvPr/>
          </p:nvSpPr>
          <p:spPr>
            <a:xfrm>
              <a:off x="5867280" y="1066680"/>
              <a:ext cx="719280" cy="3598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4267080" y="1066680"/>
              <a:ext cx="1619280" cy="611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7" name=""/>
          <p:cNvGrpSpPr/>
          <p:nvPr/>
        </p:nvGrpSpPr>
        <p:grpSpPr>
          <a:xfrm>
            <a:off x="2971800" y="3200400"/>
            <a:ext cx="762120" cy="2133720"/>
            <a:chOff x="2971800" y="3200400"/>
            <a:chExt cx="762120" cy="2133720"/>
          </a:xfrm>
        </p:grpSpPr>
        <p:sp>
          <p:nvSpPr>
            <p:cNvPr id="1328" name=""/>
            <p:cNvSpPr/>
            <p:nvPr/>
          </p:nvSpPr>
          <p:spPr>
            <a:xfrm>
              <a:off x="2971800" y="3200400"/>
              <a:ext cx="76212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971800" y="3200400"/>
              <a:ext cx="0" cy="21337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0" name=""/>
          <p:cNvGrpSpPr/>
          <p:nvPr/>
        </p:nvGrpSpPr>
        <p:grpSpPr>
          <a:xfrm>
            <a:off x="4800600" y="3200400"/>
            <a:ext cx="762120" cy="2133720"/>
            <a:chOff x="4800600" y="3200400"/>
            <a:chExt cx="762120" cy="2133720"/>
          </a:xfrm>
        </p:grpSpPr>
        <p:sp>
          <p:nvSpPr>
            <p:cNvPr id="1331" name=""/>
            <p:cNvSpPr/>
            <p:nvPr/>
          </p:nvSpPr>
          <p:spPr>
            <a:xfrm>
              <a:off x="4800600" y="3200400"/>
              <a:ext cx="76212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562720" y="3200400"/>
              <a:ext cx="0" cy="21337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3" name=""/>
          <p:cNvGrpSpPr/>
          <p:nvPr/>
        </p:nvGrpSpPr>
        <p:grpSpPr>
          <a:xfrm>
            <a:off x="3094560" y="1992960"/>
            <a:ext cx="2346480" cy="2418120"/>
            <a:chOff x="3094560" y="1992960"/>
            <a:chExt cx="2346480" cy="2418120"/>
          </a:xfrm>
        </p:grpSpPr>
        <p:sp>
          <p:nvSpPr>
            <p:cNvPr id="1334" name=""/>
            <p:cNvSpPr/>
            <p:nvPr/>
          </p:nvSpPr>
          <p:spPr>
            <a:xfrm rot="2884800">
              <a:off x="4053240" y="2966040"/>
              <a:ext cx="431640" cy="43164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 rot="2884800">
              <a:off x="3818520" y="2738880"/>
              <a:ext cx="900000" cy="900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rot="13684800">
              <a:off x="3818520" y="2738880"/>
              <a:ext cx="900000" cy="900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 rot="2884800">
              <a:off x="3364920" y="2733480"/>
              <a:ext cx="1800000" cy="90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 rot="2884800">
              <a:off x="3666240" y="2271600"/>
              <a:ext cx="304560" cy="914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 rot="2884800">
              <a:off x="4574160" y="3252600"/>
              <a:ext cx="304920" cy="9144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 rot="13684800">
              <a:off x="3522960" y="1849680"/>
              <a:ext cx="162000" cy="1224000"/>
            </a:xfrm>
            <a:prstGeom prst="flowChartDelay">
              <a:avLst/>
            </a:prstGeom>
            <a:solidFill>
              <a:srgbClr val="008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 rot="2884800">
              <a:off x="4850280" y="3330000"/>
              <a:ext cx="162000" cy="1224000"/>
            </a:xfrm>
            <a:prstGeom prst="flowChartDelay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3963240" y="2858400"/>
              <a:ext cx="152640" cy="169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421160" y="3369240"/>
              <a:ext cx="153000" cy="170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196160" y="2548800"/>
              <a:ext cx="356040" cy="39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3985560" y="3454200"/>
              <a:ext cx="356400" cy="39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V="1">
              <a:off x="4323960" y="4071240"/>
              <a:ext cx="113400" cy="10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 flipV="1">
              <a:off x="3306960" y="2936880"/>
              <a:ext cx="113400" cy="10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306240" y="3039840"/>
              <a:ext cx="1018080" cy="113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9" name=""/>
          <p:cNvSpPr/>
          <p:nvPr/>
        </p:nvSpPr>
        <p:spPr>
          <a:xfrm>
            <a:off x="205740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01992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3048120" y="510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51814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7696080" y="6095880"/>
            <a:ext cx="360360" cy="360360"/>
          </a:xfrm>
          <a:custGeom>
            <a:avLst/>
            <a:gdLst>
              <a:gd name="textAreaLeft" fmla="*/ 90000 w 360360"/>
              <a:gd name="textAreaRight" fmla="*/ 270360 w 360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8790" y="10800"/>
                </a:moveTo>
                <a:lnTo>
                  <a:pt x="14825" y="6775"/>
                </a:lnTo>
                <a:lnTo>
                  <a:pt x="14825" y="14825"/>
                </a:lnTo>
                <a:close/>
              </a:path>
              <a:path fill="darken" w="21600" h="21600">
                <a:moveTo>
                  <a:pt x="6775" y="6775"/>
                </a:moveTo>
                <a:lnTo>
                  <a:pt x="7730" y="6775"/>
                </a:lnTo>
                <a:lnTo>
                  <a:pt x="7730" y="14825"/>
                </a:lnTo>
                <a:lnTo>
                  <a:pt x="6775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7696080" y="5715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5" name=""/>
          <p:cNvGrpSpPr/>
          <p:nvPr/>
        </p:nvGrpSpPr>
        <p:grpSpPr>
          <a:xfrm>
            <a:off x="1905120" y="1066680"/>
            <a:ext cx="2361960" cy="3598920"/>
            <a:chOff x="1905120" y="1066680"/>
            <a:chExt cx="2361960" cy="3598920"/>
          </a:xfrm>
        </p:grpSpPr>
        <p:sp>
          <p:nvSpPr>
            <p:cNvPr id="1356" name=""/>
            <p:cNvSpPr/>
            <p:nvPr/>
          </p:nvSpPr>
          <p:spPr>
            <a:xfrm>
              <a:off x="1905120" y="1066680"/>
              <a:ext cx="761760" cy="35989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647800" y="1066680"/>
              <a:ext cx="1619280" cy="6112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8" name=""/>
          <p:cNvGrpSpPr/>
          <p:nvPr/>
        </p:nvGrpSpPr>
        <p:grpSpPr>
          <a:xfrm>
            <a:off x="4267080" y="1066680"/>
            <a:ext cx="2319480" cy="3598920"/>
            <a:chOff x="4267080" y="1066680"/>
            <a:chExt cx="2319480" cy="3598920"/>
          </a:xfrm>
        </p:grpSpPr>
        <p:sp>
          <p:nvSpPr>
            <p:cNvPr id="1359" name=""/>
            <p:cNvSpPr/>
            <p:nvPr/>
          </p:nvSpPr>
          <p:spPr>
            <a:xfrm>
              <a:off x="5867280" y="1066680"/>
              <a:ext cx="719280" cy="3598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267080" y="1066680"/>
              <a:ext cx="1619280" cy="611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1" name=""/>
          <p:cNvGrpSpPr/>
          <p:nvPr/>
        </p:nvGrpSpPr>
        <p:grpSpPr>
          <a:xfrm>
            <a:off x="2971800" y="3200400"/>
            <a:ext cx="762120" cy="2133720"/>
            <a:chOff x="2971800" y="3200400"/>
            <a:chExt cx="762120" cy="2133720"/>
          </a:xfrm>
        </p:grpSpPr>
        <p:sp>
          <p:nvSpPr>
            <p:cNvPr id="1362" name=""/>
            <p:cNvSpPr/>
            <p:nvPr/>
          </p:nvSpPr>
          <p:spPr>
            <a:xfrm>
              <a:off x="2971800" y="3200400"/>
              <a:ext cx="76212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971800" y="3200400"/>
              <a:ext cx="0" cy="21337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4" name=""/>
          <p:cNvGrpSpPr/>
          <p:nvPr/>
        </p:nvGrpSpPr>
        <p:grpSpPr>
          <a:xfrm>
            <a:off x="4800600" y="3200400"/>
            <a:ext cx="762120" cy="2133720"/>
            <a:chOff x="4800600" y="3200400"/>
            <a:chExt cx="762120" cy="2133720"/>
          </a:xfrm>
        </p:grpSpPr>
        <p:sp>
          <p:nvSpPr>
            <p:cNvPr id="1365" name=""/>
            <p:cNvSpPr/>
            <p:nvPr/>
          </p:nvSpPr>
          <p:spPr>
            <a:xfrm>
              <a:off x="4800600" y="3200400"/>
              <a:ext cx="76212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562720" y="3200400"/>
              <a:ext cx="0" cy="21337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7" name=""/>
          <p:cNvGrpSpPr/>
          <p:nvPr/>
        </p:nvGrpSpPr>
        <p:grpSpPr>
          <a:xfrm>
            <a:off x="3650040" y="2122200"/>
            <a:ext cx="1236600" cy="2158200"/>
            <a:chOff x="3650040" y="2122200"/>
            <a:chExt cx="1236600" cy="2158200"/>
          </a:xfrm>
        </p:grpSpPr>
        <p:sp>
          <p:nvSpPr>
            <p:cNvPr id="1368" name=""/>
            <p:cNvSpPr/>
            <p:nvPr/>
          </p:nvSpPr>
          <p:spPr>
            <a:xfrm rot="5377800">
              <a:off x="4066920" y="2971080"/>
              <a:ext cx="431640" cy="43164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rot="5377800">
              <a:off x="3827520" y="2742120"/>
              <a:ext cx="900000" cy="900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 rot="16177800">
              <a:off x="3827520" y="2742120"/>
              <a:ext cx="900000" cy="900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 rot="5377800">
              <a:off x="3378240" y="2735280"/>
              <a:ext cx="1800000" cy="90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rot="5377800">
              <a:off x="4093560" y="2091960"/>
              <a:ext cx="304560" cy="914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rot="5377800">
              <a:off x="4122360" y="3428280"/>
              <a:ext cx="304920" cy="9144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rot="16177800">
              <a:off x="4181400" y="1595160"/>
              <a:ext cx="162000" cy="1224000"/>
            </a:xfrm>
            <a:prstGeom prst="flowChartDelay">
              <a:avLst/>
            </a:prstGeom>
            <a:solidFill>
              <a:srgbClr val="008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rot="5377800">
              <a:off x="4192920" y="3583080"/>
              <a:ext cx="162000" cy="1224000"/>
            </a:xfrm>
            <a:prstGeom prst="flowChartDelay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268160" y="2742120"/>
              <a:ext cx="1800" cy="228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272480" y="3428280"/>
              <a:ext cx="1440" cy="228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647960" y="2664720"/>
              <a:ext cx="324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889800" y="3202560"/>
              <a:ext cx="36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V="1">
              <a:off x="3666240" y="3964320"/>
              <a:ext cx="1522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V="1">
              <a:off x="3657600" y="2440800"/>
              <a:ext cx="1522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3656160" y="2442240"/>
              <a:ext cx="9720" cy="152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3" name=""/>
          <p:cNvSpPr/>
          <p:nvPr/>
        </p:nvSpPr>
        <p:spPr>
          <a:xfrm>
            <a:off x="205740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01992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048120" y="510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51814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696080" y="6095880"/>
            <a:ext cx="360360" cy="360360"/>
          </a:xfrm>
          <a:custGeom>
            <a:avLst/>
            <a:gdLst>
              <a:gd name="textAreaLeft" fmla="*/ 90000 w 360360"/>
              <a:gd name="textAreaRight" fmla="*/ 270360 w 360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8790" y="10800"/>
                </a:moveTo>
                <a:lnTo>
                  <a:pt x="14825" y="6775"/>
                </a:lnTo>
                <a:lnTo>
                  <a:pt x="14825" y="14825"/>
                </a:lnTo>
                <a:close/>
              </a:path>
              <a:path fill="darken" w="21600" h="21600">
                <a:moveTo>
                  <a:pt x="6775" y="6775"/>
                </a:moveTo>
                <a:lnTo>
                  <a:pt x="7730" y="6775"/>
                </a:lnTo>
                <a:lnTo>
                  <a:pt x="7730" y="14825"/>
                </a:lnTo>
                <a:lnTo>
                  <a:pt x="6775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7696080" y="5715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9" name=""/>
          <p:cNvGrpSpPr/>
          <p:nvPr/>
        </p:nvGrpSpPr>
        <p:grpSpPr>
          <a:xfrm>
            <a:off x="1905120" y="1066680"/>
            <a:ext cx="2361960" cy="3598920"/>
            <a:chOff x="1905120" y="1066680"/>
            <a:chExt cx="2361960" cy="3598920"/>
          </a:xfrm>
        </p:grpSpPr>
        <p:sp>
          <p:nvSpPr>
            <p:cNvPr id="1390" name=""/>
            <p:cNvSpPr/>
            <p:nvPr/>
          </p:nvSpPr>
          <p:spPr>
            <a:xfrm>
              <a:off x="1905120" y="1066680"/>
              <a:ext cx="761760" cy="35989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647800" y="1066680"/>
              <a:ext cx="1619280" cy="6112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2" name=""/>
          <p:cNvGrpSpPr/>
          <p:nvPr/>
        </p:nvGrpSpPr>
        <p:grpSpPr>
          <a:xfrm>
            <a:off x="4267080" y="1066680"/>
            <a:ext cx="2319480" cy="3598920"/>
            <a:chOff x="4267080" y="1066680"/>
            <a:chExt cx="2319480" cy="3598920"/>
          </a:xfrm>
        </p:grpSpPr>
        <p:sp>
          <p:nvSpPr>
            <p:cNvPr id="1393" name=""/>
            <p:cNvSpPr/>
            <p:nvPr/>
          </p:nvSpPr>
          <p:spPr>
            <a:xfrm>
              <a:off x="5867280" y="1066680"/>
              <a:ext cx="719280" cy="3598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267080" y="1066680"/>
              <a:ext cx="1619280" cy="611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5" name=""/>
          <p:cNvGrpSpPr/>
          <p:nvPr/>
        </p:nvGrpSpPr>
        <p:grpSpPr>
          <a:xfrm>
            <a:off x="2971800" y="3200400"/>
            <a:ext cx="762120" cy="2133720"/>
            <a:chOff x="2971800" y="3200400"/>
            <a:chExt cx="762120" cy="2133720"/>
          </a:xfrm>
        </p:grpSpPr>
        <p:sp>
          <p:nvSpPr>
            <p:cNvPr id="1396" name=""/>
            <p:cNvSpPr/>
            <p:nvPr/>
          </p:nvSpPr>
          <p:spPr>
            <a:xfrm>
              <a:off x="2971800" y="3200400"/>
              <a:ext cx="76212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971800" y="3200400"/>
              <a:ext cx="0" cy="21337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8" name=""/>
          <p:cNvGrpSpPr/>
          <p:nvPr/>
        </p:nvGrpSpPr>
        <p:grpSpPr>
          <a:xfrm>
            <a:off x="4800600" y="3200400"/>
            <a:ext cx="762120" cy="2133720"/>
            <a:chOff x="4800600" y="3200400"/>
            <a:chExt cx="762120" cy="2133720"/>
          </a:xfrm>
        </p:grpSpPr>
        <p:sp>
          <p:nvSpPr>
            <p:cNvPr id="1399" name=""/>
            <p:cNvSpPr/>
            <p:nvPr/>
          </p:nvSpPr>
          <p:spPr>
            <a:xfrm>
              <a:off x="4800600" y="3200400"/>
              <a:ext cx="76212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562720" y="3200400"/>
              <a:ext cx="0" cy="21337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1" name=""/>
          <p:cNvGrpSpPr/>
          <p:nvPr/>
        </p:nvGrpSpPr>
        <p:grpSpPr>
          <a:xfrm>
            <a:off x="3276000" y="1971360"/>
            <a:ext cx="1984680" cy="2459880"/>
            <a:chOff x="3276000" y="1971360"/>
            <a:chExt cx="1984680" cy="2459880"/>
          </a:xfrm>
        </p:grpSpPr>
        <p:sp>
          <p:nvSpPr>
            <p:cNvPr id="1402" name=""/>
            <p:cNvSpPr/>
            <p:nvPr/>
          </p:nvSpPr>
          <p:spPr>
            <a:xfrm rot="6819000">
              <a:off x="4071240" y="2978280"/>
              <a:ext cx="431640" cy="43164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rot="6819000">
              <a:off x="3830400" y="2746440"/>
              <a:ext cx="900000" cy="900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rot="17619000">
              <a:off x="3830400" y="2746800"/>
              <a:ext cx="900000" cy="900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 rot="6819000">
              <a:off x="3383640" y="2740680"/>
              <a:ext cx="1800000" cy="90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rot="6819000">
              <a:off x="4361040" y="2139480"/>
              <a:ext cx="304560" cy="914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 rot="6819000">
              <a:off x="3843360" y="3371760"/>
              <a:ext cx="304920" cy="9144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 rot="17619000">
              <a:off x="4586400" y="1678680"/>
              <a:ext cx="162000" cy="1224000"/>
            </a:xfrm>
            <a:prstGeom prst="flowChartDelay">
              <a:avLst/>
            </a:prstGeom>
            <a:solidFill>
              <a:srgbClr val="008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rot="6819000">
              <a:off x="3787920" y="3499560"/>
              <a:ext cx="162000" cy="1224000"/>
            </a:xfrm>
            <a:prstGeom prst="flowChartDelay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H="1">
              <a:off x="4363560" y="2781720"/>
              <a:ext cx="91800" cy="209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H="1">
              <a:off x="4087800" y="3410280"/>
              <a:ext cx="91800" cy="209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H="1">
              <a:off x="4619160" y="2865600"/>
              <a:ext cx="214200" cy="48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H="1">
              <a:off x="3708000" y="3048480"/>
              <a:ext cx="214200" cy="488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3407400" y="3654000"/>
              <a:ext cx="139680" cy="6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019400" y="2258640"/>
              <a:ext cx="139680" cy="6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H="1">
              <a:off x="3406680" y="2258640"/>
              <a:ext cx="611640" cy="139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7" name=""/>
          <p:cNvSpPr/>
          <p:nvPr/>
        </p:nvSpPr>
        <p:spPr>
          <a:xfrm>
            <a:off x="205740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601992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3048120" y="510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51814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7696080" y="6095880"/>
            <a:ext cx="360360" cy="360360"/>
          </a:xfrm>
          <a:custGeom>
            <a:avLst/>
            <a:gdLst>
              <a:gd name="textAreaLeft" fmla="*/ 90000 w 360360"/>
              <a:gd name="textAreaRight" fmla="*/ 270360 w 360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8790" y="10800"/>
                </a:moveTo>
                <a:lnTo>
                  <a:pt x="14825" y="6775"/>
                </a:lnTo>
                <a:lnTo>
                  <a:pt x="14825" y="14825"/>
                </a:lnTo>
                <a:close/>
              </a:path>
              <a:path fill="darken" w="21600" h="21600">
                <a:moveTo>
                  <a:pt x="6775" y="6775"/>
                </a:moveTo>
                <a:lnTo>
                  <a:pt x="7730" y="6775"/>
                </a:lnTo>
                <a:lnTo>
                  <a:pt x="7730" y="14825"/>
                </a:lnTo>
                <a:lnTo>
                  <a:pt x="6775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7696080" y="5715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3" name=""/>
          <p:cNvGrpSpPr/>
          <p:nvPr/>
        </p:nvGrpSpPr>
        <p:grpSpPr>
          <a:xfrm>
            <a:off x="1905120" y="1066680"/>
            <a:ext cx="2361960" cy="3598920"/>
            <a:chOff x="1905120" y="1066680"/>
            <a:chExt cx="2361960" cy="3598920"/>
          </a:xfrm>
        </p:grpSpPr>
        <p:sp>
          <p:nvSpPr>
            <p:cNvPr id="1424" name=""/>
            <p:cNvSpPr/>
            <p:nvPr/>
          </p:nvSpPr>
          <p:spPr>
            <a:xfrm>
              <a:off x="1905120" y="1066680"/>
              <a:ext cx="761760" cy="35989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2647800" y="1066680"/>
              <a:ext cx="1619280" cy="6112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6" name=""/>
          <p:cNvGrpSpPr/>
          <p:nvPr/>
        </p:nvGrpSpPr>
        <p:grpSpPr>
          <a:xfrm>
            <a:off x="4267080" y="1066680"/>
            <a:ext cx="2319480" cy="3598920"/>
            <a:chOff x="4267080" y="1066680"/>
            <a:chExt cx="2319480" cy="3598920"/>
          </a:xfrm>
        </p:grpSpPr>
        <p:sp>
          <p:nvSpPr>
            <p:cNvPr id="1427" name=""/>
            <p:cNvSpPr/>
            <p:nvPr/>
          </p:nvSpPr>
          <p:spPr>
            <a:xfrm>
              <a:off x="5867280" y="1066680"/>
              <a:ext cx="719280" cy="3598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267080" y="1066680"/>
              <a:ext cx="1619280" cy="611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9" name=""/>
          <p:cNvGrpSpPr/>
          <p:nvPr/>
        </p:nvGrpSpPr>
        <p:grpSpPr>
          <a:xfrm>
            <a:off x="2971800" y="3200400"/>
            <a:ext cx="762120" cy="2133720"/>
            <a:chOff x="2971800" y="3200400"/>
            <a:chExt cx="762120" cy="2133720"/>
          </a:xfrm>
        </p:grpSpPr>
        <p:sp>
          <p:nvSpPr>
            <p:cNvPr id="1430" name=""/>
            <p:cNvSpPr/>
            <p:nvPr/>
          </p:nvSpPr>
          <p:spPr>
            <a:xfrm>
              <a:off x="2971800" y="3200400"/>
              <a:ext cx="76212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971800" y="3200400"/>
              <a:ext cx="0" cy="21337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2" name=""/>
          <p:cNvGrpSpPr/>
          <p:nvPr/>
        </p:nvGrpSpPr>
        <p:grpSpPr>
          <a:xfrm>
            <a:off x="4800600" y="3200400"/>
            <a:ext cx="762120" cy="2133720"/>
            <a:chOff x="4800600" y="3200400"/>
            <a:chExt cx="762120" cy="2133720"/>
          </a:xfrm>
        </p:grpSpPr>
        <p:sp>
          <p:nvSpPr>
            <p:cNvPr id="1433" name=""/>
            <p:cNvSpPr/>
            <p:nvPr/>
          </p:nvSpPr>
          <p:spPr>
            <a:xfrm>
              <a:off x="4800600" y="3200400"/>
              <a:ext cx="76212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562720" y="3200400"/>
              <a:ext cx="0" cy="21337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5" name=""/>
          <p:cNvGrpSpPr/>
          <p:nvPr/>
        </p:nvGrpSpPr>
        <p:grpSpPr>
          <a:xfrm>
            <a:off x="3031920" y="2163960"/>
            <a:ext cx="2472480" cy="2074320"/>
            <a:chOff x="3031920" y="2163960"/>
            <a:chExt cx="2472480" cy="2074320"/>
          </a:xfrm>
        </p:grpSpPr>
        <p:sp>
          <p:nvSpPr>
            <p:cNvPr id="1436" name=""/>
            <p:cNvSpPr/>
            <p:nvPr/>
          </p:nvSpPr>
          <p:spPr>
            <a:xfrm rot="9158400">
              <a:off x="4071600" y="2991600"/>
              <a:ext cx="431640" cy="43164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 rot="9158400">
              <a:off x="3830400" y="2755080"/>
              <a:ext cx="900000" cy="900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rot="19958400">
              <a:off x="3830400" y="2755080"/>
              <a:ext cx="900000" cy="900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 rot="9158400">
              <a:off x="3386520" y="2752560"/>
              <a:ext cx="1800000" cy="90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rot="9158400">
              <a:off x="4686840" y="2428200"/>
              <a:ext cx="304560" cy="914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rot="9158400">
              <a:off x="3508920" y="3060000"/>
              <a:ext cx="304920" cy="9144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rot="19958400">
              <a:off x="5070240" y="2132640"/>
              <a:ext cx="162000" cy="1224000"/>
            </a:xfrm>
            <a:prstGeom prst="flowChartDelay">
              <a:avLst/>
            </a:prstGeom>
            <a:solidFill>
              <a:srgbClr val="008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 rot="9158400">
              <a:off x="3303720" y="3045240"/>
              <a:ext cx="162000" cy="1224000"/>
            </a:xfrm>
            <a:prstGeom prst="flowChartDelay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H="1">
              <a:off x="4474440" y="2992680"/>
              <a:ext cx="203040" cy="105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 flipH="1">
              <a:off x="3864600" y="3307680"/>
              <a:ext cx="203040" cy="105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H="1">
              <a:off x="4444560" y="3295800"/>
              <a:ext cx="474120" cy="24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 flipH="1">
              <a:off x="3621600" y="2864520"/>
              <a:ext cx="473760" cy="24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314160" y="3011400"/>
              <a:ext cx="70200" cy="13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667760" y="2311920"/>
              <a:ext cx="70200" cy="13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 flipH="1">
              <a:off x="3313080" y="2311200"/>
              <a:ext cx="1353960" cy="7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1" name=""/>
          <p:cNvSpPr/>
          <p:nvPr/>
        </p:nvSpPr>
        <p:spPr>
          <a:xfrm>
            <a:off x="205740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601992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3048120" y="510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51814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7696080" y="6095880"/>
            <a:ext cx="360360" cy="360360"/>
          </a:xfrm>
          <a:custGeom>
            <a:avLst/>
            <a:gdLst>
              <a:gd name="textAreaLeft" fmla="*/ 90000 w 360360"/>
              <a:gd name="textAreaRight" fmla="*/ 270360 w 360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8790" y="10800"/>
                </a:moveTo>
                <a:lnTo>
                  <a:pt x="14825" y="6775"/>
                </a:lnTo>
                <a:lnTo>
                  <a:pt x="14825" y="14825"/>
                </a:lnTo>
                <a:close/>
              </a:path>
              <a:path fill="darken" w="21600" h="21600">
                <a:moveTo>
                  <a:pt x="6775" y="6775"/>
                </a:moveTo>
                <a:lnTo>
                  <a:pt x="7730" y="6775"/>
                </a:lnTo>
                <a:lnTo>
                  <a:pt x="7730" y="14825"/>
                </a:lnTo>
                <a:lnTo>
                  <a:pt x="6775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7696080" y="5715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7" name=""/>
          <p:cNvGrpSpPr/>
          <p:nvPr/>
        </p:nvGrpSpPr>
        <p:grpSpPr>
          <a:xfrm>
            <a:off x="1905120" y="1066680"/>
            <a:ext cx="2361960" cy="3598920"/>
            <a:chOff x="1905120" y="1066680"/>
            <a:chExt cx="2361960" cy="3598920"/>
          </a:xfrm>
        </p:grpSpPr>
        <p:sp>
          <p:nvSpPr>
            <p:cNvPr id="1458" name=""/>
            <p:cNvSpPr/>
            <p:nvPr/>
          </p:nvSpPr>
          <p:spPr>
            <a:xfrm>
              <a:off x="1905120" y="1066680"/>
              <a:ext cx="761760" cy="35989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647800" y="1066680"/>
              <a:ext cx="1619280" cy="6112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0" name=""/>
          <p:cNvGrpSpPr/>
          <p:nvPr/>
        </p:nvGrpSpPr>
        <p:grpSpPr>
          <a:xfrm>
            <a:off x="4267080" y="1066680"/>
            <a:ext cx="2319480" cy="3598920"/>
            <a:chOff x="4267080" y="1066680"/>
            <a:chExt cx="2319480" cy="3598920"/>
          </a:xfrm>
        </p:grpSpPr>
        <p:sp>
          <p:nvSpPr>
            <p:cNvPr id="1461" name=""/>
            <p:cNvSpPr/>
            <p:nvPr/>
          </p:nvSpPr>
          <p:spPr>
            <a:xfrm>
              <a:off x="5867280" y="1066680"/>
              <a:ext cx="719280" cy="3598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267080" y="1066680"/>
              <a:ext cx="1619280" cy="611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3" name=""/>
          <p:cNvGrpSpPr/>
          <p:nvPr/>
        </p:nvGrpSpPr>
        <p:grpSpPr>
          <a:xfrm>
            <a:off x="2971800" y="3200400"/>
            <a:ext cx="762120" cy="2133720"/>
            <a:chOff x="2971800" y="3200400"/>
            <a:chExt cx="762120" cy="2133720"/>
          </a:xfrm>
        </p:grpSpPr>
        <p:sp>
          <p:nvSpPr>
            <p:cNvPr id="1464" name=""/>
            <p:cNvSpPr/>
            <p:nvPr/>
          </p:nvSpPr>
          <p:spPr>
            <a:xfrm>
              <a:off x="2971800" y="3200400"/>
              <a:ext cx="76212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971800" y="3200400"/>
              <a:ext cx="0" cy="21337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6" name=""/>
          <p:cNvGrpSpPr/>
          <p:nvPr/>
        </p:nvGrpSpPr>
        <p:grpSpPr>
          <a:xfrm>
            <a:off x="4800600" y="3200400"/>
            <a:ext cx="762120" cy="2133720"/>
            <a:chOff x="4800600" y="3200400"/>
            <a:chExt cx="762120" cy="2133720"/>
          </a:xfrm>
        </p:grpSpPr>
        <p:sp>
          <p:nvSpPr>
            <p:cNvPr id="1467" name=""/>
            <p:cNvSpPr/>
            <p:nvPr/>
          </p:nvSpPr>
          <p:spPr>
            <a:xfrm>
              <a:off x="4800600" y="3200400"/>
              <a:ext cx="76212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562720" y="3200400"/>
              <a:ext cx="0" cy="21337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9" name=""/>
          <p:cNvSpPr/>
          <p:nvPr/>
        </p:nvSpPr>
        <p:spPr>
          <a:xfrm rot="10787400">
            <a:off x="4066560" y="3000240"/>
            <a:ext cx="431640" cy="4320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 rot="10787400">
            <a:off x="3825360" y="2758680"/>
            <a:ext cx="900360" cy="9000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 rot="21587400">
            <a:off x="3825360" y="2759040"/>
            <a:ext cx="900360" cy="9000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 rot="10787400">
            <a:off x="3382560" y="2759040"/>
            <a:ext cx="1800360" cy="900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 rot="10787400">
            <a:off x="4768920" y="2722320"/>
            <a:ext cx="30456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 rot="10787400">
            <a:off x="3432240" y="2747520"/>
            <a:ext cx="304560" cy="914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 rot="21587400">
            <a:off x="5181480" y="2584440"/>
            <a:ext cx="162000" cy="1224000"/>
          </a:xfrm>
          <a:prstGeom prst="flowChartDelay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 rot="10787400">
            <a:off x="3200040" y="2590560"/>
            <a:ext cx="162000" cy="1224000"/>
          </a:xfrm>
          <a:prstGeom prst="flowChartDelay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 flipH="1">
            <a:off x="4498560" y="3201480"/>
            <a:ext cx="228600" cy="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 flipH="1">
            <a:off x="3812760" y="3204720"/>
            <a:ext cx="228600" cy="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 flipH="1">
            <a:off x="4270320" y="3582000"/>
            <a:ext cx="533520" cy="2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 flipH="1">
            <a:off x="3735360" y="2821320"/>
            <a:ext cx="533520" cy="2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3506400" y="2594880"/>
            <a:ext cx="72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5030280" y="2591640"/>
            <a:ext cx="72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flipH="1">
            <a:off x="3504960" y="2591280"/>
            <a:ext cx="1523880" cy="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205740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601992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3048120" y="510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51814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7696080" y="6095880"/>
            <a:ext cx="360360" cy="360360"/>
          </a:xfrm>
          <a:custGeom>
            <a:avLst/>
            <a:gdLst>
              <a:gd name="textAreaLeft" fmla="*/ 90000 w 360360"/>
              <a:gd name="textAreaRight" fmla="*/ 270360 w 360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8790" y="10800"/>
                </a:moveTo>
                <a:lnTo>
                  <a:pt x="14825" y="6775"/>
                </a:lnTo>
                <a:lnTo>
                  <a:pt x="14825" y="14825"/>
                </a:lnTo>
                <a:close/>
              </a:path>
              <a:path fill="darken" w="21600" h="21600">
                <a:moveTo>
                  <a:pt x="6775" y="6775"/>
                </a:moveTo>
                <a:lnTo>
                  <a:pt x="7730" y="6775"/>
                </a:lnTo>
                <a:lnTo>
                  <a:pt x="7730" y="14825"/>
                </a:lnTo>
                <a:lnTo>
                  <a:pt x="6775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7696080" y="5715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0" name=""/>
          <p:cNvGrpSpPr/>
          <p:nvPr/>
        </p:nvGrpSpPr>
        <p:grpSpPr>
          <a:xfrm>
            <a:off x="1905120" y="1066680"/>
            <a:ext cx="2361960" cy="3598920"/>
            <a:chOff x="1905120" y="1066680"/>
            <a:chExt cx="2361960" cy="3598920"/>
          </a:xfrm>
        </p:grpSpPr>
        <p:sp>
          <p:nvSpPr>
            <p:cNvPr id="1491" name=""/>
            <p:cNvSpPr/>
            <p:nvPr/>
          </p:nvSpPr>
          <p:spPr>
            <a:xfrm>
              <a:off x="1905120" y="1066680"/>
              <a:ext cx="761760" cy="35989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2647800" y="1066680"/>
              <a:ext cx="1619280" cy="6112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3" name=""/>
          <p:cNvGrpSpPr/>
          <p:nvPr/>
        </p:nvGrpSpPr>
        <p:grpSpPr>
          <a:xfrm>
            <a:off x="4267080" y="1066680"/>
            <a:ext cx="2319480" cy="3598920"/>
            <a:chOff x="4267080" y="1066680"/>
            <a:chExt cx="2319480" cy="3598920"/>
          </a:xfrm>
        </p:grpSpPr>
        <p:sp>
          <p:nvSpPr>
            <p:cNvPr id="1494" name=""/>
            <p:cNvSpPr/>
            <p:nvPr/>
          </p:nvSpPr>
          <p:spPr>
            <a:xfrm>
              <a:off x="5867280" y="1066680"/>
              <a:ext cx="719280" cy="3598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267080" y="1066680"/>
              <a:ext cx="1619280" cy="611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6" name=""/>
          <p:cNvGrpSpPr/>
          <p:nvPr/>
        </p:nvGrpSpPr>
        <p:grpSpPr>
          <a:xfrm>
            <a:off x="2971800" y="3200400"/>
            <a:ext cx="762120" cy="2133720"/>
            <a:chOff x="2971800" y="3200400"/>
            <a:chExt cx="762120" cy="2133720"/>
          </a:xfrm>
        </p:grpSpPr>
        <p:sp>
          <p:nvSpPr>
            <p:cNvPr id="1497" name=""/>
            <p:cNvSpPr/>
            <p:nvPr/>
          </p:nvSpPr>
          <p:spPr>
            <a:xfrm>
              <a:off x="2971800" y="3200400"/>
              <a:ext cx="76212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2971800" y="3200400"/>
              <a:ext cx="0" cy="21337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9" name=""/>
          <p:cNvGrpSpPr/>
          <p:nvPr/>
        </p:nvGrpSpPr>
        <p:grpSpPr>
          <a:xfrm>
            <a:off x="4800600" y="3200400"/>
            <a:ext cx="762120" cy="2133720"/>
            <a:chOff x="4800600" y="3200400"/>
            <a:chExt cx="762120" cy="2133720"/>
          </a:xfrm>
        </p:grpSpPr>
        <p:sp>
          <p:nvSpPr>
            <p:cNvPr id="1500" name=""/>
            <p:cNvSpPr/>
            <p:nvPr/>
          </p:nvSpPr>
          <p:spPr>
            <a:xfrm>
              <a:off x="4800600" y="3200400"/>
              <a:ext cx="76212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562720" y="3200400"/>
              <a:ext cx="0" cy="21337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2" name=""/>
          <p:cNvGrpSpPr/>
          <p:nvPr/>
        </p:nvGrpSpPr>
        <p:grpSpPr>
          <a:xfrm>
            <a:off x="3064680" y="2288520"/>
            <a:ext cx="2414520" cy="1822320"/>
            <a:chOff x="3064680" y="2288520"/>
            <a:chExt cx="2414520" cy="1822320"/>
          </a:xfrm>
        </p:grpSpPr>
        <p:sp>
          <p:nvSpPr>
            <p:cNvPr id="1503" name=""/>
            <p:cNvSpPr/>
            <p:nvPr/>
          </p:nvSpPr>
          <p:spPr>
            <a:xfrm rot="11869200">
              <a:off x="4061160" y="3002760"/>
              <a:ext cx="431640" cy="4320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rot="11869200">
              <a:off x="3822120" y="2759400"/>
              <a:ext cx="900360" cy="900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 rot="1069200">
              <a:off x="3822120" y="2759760"/>
              <a:ext cx="900360" cy="900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rot="11869200">
              <a:off x="3378960" y="2761920"/>
              <a:ext cx="1800360" cy="90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 rot="11869200">
              <a:off x="4743000" y="2924280"/>
              <a:ext cx="304560" cy="914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 rot="11869200">
              <a:off x="3464280" y="2534760"/>
              <a:ext cx="304560" cy="9144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rot="1069200">
              <a:off x="5133600" y="2891160"/>
              <a:ext cx="162000" cy="1224000"/>
            </a:xfrm>
            <a:prstGeom prst="flowChartDelay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rot="11869200">
              <a:off x="3247920" y="2283840"/>
              <a:ext cx="162000" cy="1224000"/>
            </a:xfrm>
            <a:prstGeom prst="flowChartDelay">
              <a:avLst/>
            </a:prstGeom>
            <a:solidFill>
              <a:srgbClr val="008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H="1" flipV="1">
              <a:off x="4486680" y="3272400"/>
              <a:ext cx="217440" cy="69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 flipV="1">
              <a:off x="3833640" y="3063240"/>
              <a:ext cx="217440" cy="69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H="1" flipV="1">
              <a:off x="4151520" y="3564720"/>
              <a:ext cx="507960" cy="16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H="1" flipV="1">
              <a:off x="3878280" y="2675880"/>
              <a:ext cx="507960" cy="16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H="1">
              <a:off x="3684600" y="2387880"/>
              <a:ext cx="4680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H="1">
              <a:off x="5134680" y="2856240"/>
              <a:ext cx="46800" cy="14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H="1" flipV="1">
              <a:off x="3729240" y="2388600"/>
              <a:ext cx="1450800" cy="46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8" name=""/>
          <p:cNvSpPr/>
          <p:nvPr/>
        </p:nvSpPr>
        <p:spPr>
          <a:xfrm>
            <a:off x="205740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601992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048120" y="510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51814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7696080" y="6095880"/>
            <a:ext cx="360360" cy="360360"/>
          </a:xfrm>
          <a:custGeom>
            <a:avLst/>
            <a:gdLst>
              <a:gd name="textAreaLeft" fmla="*/ 90000 w 360360"/>
              <a:gd name="textAreaRight" fmla="*/ 270360 w 360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8790" y="10800"/>
                </a:moveTo>
                <a:lnTo>
                  <a:pt x="14825" y="6775"/>
                </a:lnTo>
                <a:lnTo>
                  <a:pt x="14825" y="14825"/>
                </a:lnTo>
                <a:close/>
              </a:path>
              <a:path fill="darken" w="21600" h="21600">
                <a:moveTo>
                  <a:pt x="6775" y="6775"/>
                </a:moveTo>
                <a:lnTo>
                  <a:pt x="7730" y="6775"/>
                </a:lnTo>
                <a:lnTo>
                  <a:pt x="7730" y="14825"/>
                </a:lnTo>
                <a:lnTo>
                  <a:pt x="6775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7696080" y="5715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4" name=""/>
          <p:cNvGrpSpPr/>
          <p:nvPr/>
        </p:nvGrpSpPr>
        <p:grpSpPr>
          <a:xfrm>
            <a:off x="1905120" y="1066680"/>
            <a:ext cx="2361960" cy="3598920"/>
            <a:chOff x="1905120" y="1066680"/>
            <a:chExt cx="2361960" cy="3598920"/>
          </a:xfrm>
        </p:grpSpPr>
        <p:sp>
          <p:nvSpPr>
            <p:cNvPr id="1525" name=""/>
            <p:cNvSpPr/>
            <p:nvPr/>
          </p:nvSpPr>
          <p:spPr>
            <a:xfrm>
              <a:off x="1905120" y="1066680"/>
              <a:ext cx="761760" cy="35989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647800" y="1066680"/>
              <a:ext cx="1619280" cy="6112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7" name=""/>
          <p:cNvGrpSpPr/>
          <p:nvPr/>
        </p:nvGrpSpPr>
        <p:grpSpPr>
          <a:xfrm>
            <a:off x="4267080" y="1066680"/>
            <a:ext cx="2319480" cy="3598920"/>
            <a:chOff x="4267080" y="1066680"/>
            <a:chExt cx="2319480" cy="3598920"/>
          </a:xfrm>
        </p:grpSpPr>
        <p:sp>
          <p:nvSpPr>
            <p:cNvPr id="1528" name=""/>
            <p:cNvSpPr/>
            <p:nvPr/>
          </p:nvSpPr>
          <p:spPr>
            <a:xfrm>
              <a:off x="5867280" y="1066680"/>
              <a:ext cx="719280" cy="3598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267080" y="1066680"/>
              <a:ext cx="1619280" cy="611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2971800" y="3200400"/>
            <a:ext cx="762120" cy="2133720"/>
            <a:chOff x="2971800" y="3200400"/>
            <a:chExt cx="762120" cy="2133720"/>
          </a:xfrm>
        </p:grpSpPr>
        <p:sp>
          <p:nvSpPr>
            <p:cNvPr id="1531" name=""/>
            <p:cNvSpPr/>
            <p:nvPr/>
          </p:nvSpPr>
          <p:spPr>
            <a:xfrm>
              <a:off x="2971800" y="3200400"/>
              <a:ext cx="76212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971800" y="3200400"/>
              <a:ext cx="0" cy="21337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3" name=""/>
          <p:cNvGrpSpPr/>
          <p:nvPr/>
        </p:nvGrpSpPr>
        <p:grpSpPr>
          <a:xfrm>
            <a:off x="4800600" y="3200400"/>
            <a:ext cx="762120" cy="2133720"/>
            <a:chOff x="4800600" y="3200400"/>
            <a:chExt cx="762120" cy="2133720"/>
          </a:xfrm>
        </p:grpSpPr>
        <p:sp>
          <p:nvSpPr>
            <p:cNvPr id="1534" name=""/>
            <p:cNvSpPr/>
            <p:nvPr/>
          </p:nvSpPr>
          <p:spPr>
            <a:xfrm>
              <a:off x="4800600" y="3200400"/>
              <a:ext cx="76212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562720" y="3200400"/>
              <a:ext cx="0" cy="21337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6" name=""/>
          <p:cNvGrpSpPr/>
          <p:nvPr/>
        </p:nvGrpSpPr>
        <p:grpSpPr>
          <a:xfrm>
            <a:off x="3078000" y="2012760"/>
            <a:ext cx="2387520" cy="2374200"/>
            <a:chOff x="3078000" y="2012760"/>
            <a:chExt cx="2387520" cy="2374200"/>
          </a:xfrm>
        </p:grpSpPr>
        <p:sp>
          <p:nvSpPr>
            <p:cNvPr id="1537" name=""/>
            <p:cNvSpPr/>
            <p:nvPr/>
          </p:nvSpPr>
          <p:spPr>
            <a:xfrm rot="13463400">
              <a:off x="4051800" y="3002760"/>
              <a:ext cx="431640" cy="4320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 rot="13463400">
              <a:off x="3817800" y="2758680"/>
              <a:ext cx="900360" cy="900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rot="2664000">
              <a:off x="3817440" y="2759400"/>
              <a:ext cx="900360" cy="900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 rot="13463400">
              <a:off x="3372840" y="2764080"/>
              <a:ext cx="1800360" cy="90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 rot="13463400">
              <a:off x="4596120" y="3184200"/>
              <a:ext cx="304560" cy="914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rot="13463400">
              <a:off x="3626640" y="2263680"/>
              <a:ext cx="304560" cy="9144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 rot="2664000">
              <a:off x="4898160" y="3281040"/>
              <a:ext cx="162000" cy="1224000"/>
            </a:xfrm>
            <a:prstGeom prst="flowChartDelay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rot="13463400">
              <a:off x="3483000" y="1894320"/>
              <a:ext cx="162000" cy="1224000"/>
            </a:xfrm>
            <a:prstGeom prst="flowChartDelay">
              <a:avLst/>
            </a:prstGeom>
            <a:solidFill>
              <a:srgbClr val="008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H="1" flipV="1">
              <a:off x="4431600" y="3360600"/>
              <a:ext cx="163080" cy="160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 flipV="1">
              <a:off x="3940920" y="2881440"/>
              <a:ext cx="163440" cy="159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 flipH="1" flipV="1">
              <a:off x="4001040" y="3472200"/>
              <a:ext cx="380880" cy="37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H="1" flipV="1">
              <a:off x="4154040" y="2554920"/>
              <a:ext cx="381240" cy="37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H="1">
              <a:off x="4044960" y="2231640"/>
              <a:ext cx="106560" cy="10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flipH="1">
              <a:off x="5132160" y="3299400"/>
              <a:ext cx="106560" cy="10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H="1" flipV="1">
              <a:off x="4149360" y="2231640"/>
              <a:ext cx="1088640" cy="106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2" name=""/>
          <p:cNvSpPr/>
          <p:nvPr/>
        </p:nvSpPr>
        <p:spPr>
          <a:xfrm>
            <a:off x="205740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601992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3048120" y="510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1814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7696080" y="6095880"/>
            <a:ext cx="360360" cy="360360"/>
          </a:xfrm>
          <a:custGeom>
            <a:avLst/>
            <a:gdLst>
              <a:gd name="textAreaLeft" fmla="*/ 90000 w 360360"/>
              <a:gd name="textAreaRight" fmla="*/ 270360 w 360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8790" y="10800"/>
                </a:moveTo>
                <a:lnTo>
                  <a:pt x="14825" y="6775"/>
                </a:lnTo>
                <a:lnTo>
                  <a:pt x="14825" y="14825"/>
                </a:lnTo>
                <a:close/>
              </a:path>
              <a:path fill="darken" w="21600" h="21600">
                <a:moveTo>
                  <a:pt x="6775" y="6775"/>
                </a:moveTo>
                <a:lnTo>
                  <a:pt x="7730" y="6775"/>
                </a:lnTo>
                <a:lnTo>
                  <a:pt x="7730" y="14825"/>
                </a:lnTo>
                <a:lnTo>
                  <a:pt x="6775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7696080" y="5715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1905120" y="1066680"/>
            <a:ext cx="2361960" cy="3598920"/>
            <a:chOff x="1905120" y="1066680"/>
            <a:chExt cx="2361960" cy="3598920"/>
          </a:xfrm>
        </p:grpSpPr>
        <p:sp>
          <p:nvSpPr>
            <p:cNvPr id="152" name=""/>
            <p:cNvSpPr/>
            <p:nvPr/>
          </p:nvSpPr>
          <p:spPr>
            <a:xfrm>
              <a:off x="1905120" y="1066680"/>
              <a:ext cx="761760" cy="35989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647800" y="1066680"/>
              <a:ext cx="1619280" cy="6112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267080" y="1066680"/>
            <a:ext cx="2319480" cy="3598920"/>
            <a:chOff x="4267080" y="1066680"/>
            <a:chExt cx="2319480" cy="3598920"/>
          </a:xfrm>
        </p:grpSpPr>
        <p:sp>
          <p:nvSpPr>
            <p:cNvPr id="155" name=""/>
            <p:cNvSpPr/>
            <p:nvPr/>
          </p:nvSpPr>
          <p:spPr>
            <a:xfrm>
              <a:off x="5867280" y="1066680"/>
              <a:ext cx="719280" cy="3598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67080" y="1066680"/>
              <a:ext cx="1619280" cy="611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971800" y="3200400"/>
            <a:ext cx="762120" cy="2133720"/>
            <a:chOff x="2971800" y="3200400"/>
            <a:chExt cx="762120" cy="2133720"/>
          </a:xfrm>
        </p:grpSpPr>
        <p:sp>
          <p:nvSpPr>
            <p:cNvPr id="158" name=""/>
            <p:cNvSpPr/>
            <p:nvPr/>
          </p:nvSpPr>
          <p:spPr>
            <a:xfrm>
              <a:off x="2971800" y="3200400"/>
              <a:ext cx="76212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971800" y="3200400"/>
              <a:ext cx="0" cy="21337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800600" y="3200400"/>
            <a:ext cx="762120" cy="2133720"/>
            <a:chOff x="4800600" y="3200400"/>
            <a:chExt cx="762120" cy="2133720"/>
          </a:xfrm>
        </p:grpSpPr>
        <p:sp>
          <p:nvSpPr>
            <p:cNvPr id="161" name=""/>
            <p:cNvSpPr/>
            <p:nvPr/>
          </p:nvSpPr>
          <p:spPr>
            <a:xfrm>
              <a:off x="4800600" y="3200400"/>
              <a:ext cx="76212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562720" y="3200400"/>
              <a:ext cx="0" cy="21337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094560" y="1992960"/>
            <a:ext cx="2346480" cy="2418120"/>
            <a:chOff x="3094560" y="1992960"/>
            <a:chExt cx="2346480" cy="2418120"/>
          </a:xfrm>
        </p:grpSpPr>
        <p:sp>
          <p:nvSpPr>
            <p:cNvPr id="164" name=""/>
            <p:cNvSpPr/>
            <p:nvPr/>
          </p:nvSpPr>
          <p:spPr>
            <a:xfrm rot="2884800">
              <a:off x="4053240" y="2966040"/>
              <a:ext cx="431640" cy="43164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2884800">
              <a:off x="3818520" y="2738880"/>
              <a:ext cx="900000" cy="900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3684800">
              <a:off x="3818520" y="2738880"/>
              <a:ext cx="900000" cy="900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2884800">
              <a:off x="3364920" y="2733480"/>
              <a:ext cx="1800000" cy="90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2884800">
              <a:off x="3666240" y="2271600"/>
              <a:ext cx="304560" cy="914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884800">
              <a:off x="4574160" y="3252600"/>
              <a:ext cx="304920" cy="9144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3684800">
              <a:off x="3522960" y="1849680"/>
              <a:ext cx="162000" cy="1224000"/>
            </a:xfrm>
            <a:prstGeom prst="flowChartDelay">
              <a:avLst/>
            </a:prstGeom>
            <a:solidFill>
              <a:srgbClr val="008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884800">
              <a:off x="4850280" y="3330000"/>
              <a:ext cx="162000" cy="1224000"/>
            </a:xfrm>
            <a:prstGeom prst="flowChartDelay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63240" y="2858400"/>
              <a:ext cx="152640" cy="169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21160" y="3369240"/>
              <a:ext cx="153000" cy="170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96160" y="2548800"/>
              <a:ext cx="356040" cy="39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85560" y="3454200"/>
              <a:ext cx="356400" cy="39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4323960" y="4071240"/>
              <a:ext cx="113400" cy="10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306960" y="2936880"/>
              <a:ext cx="113400" cy="10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06240" y="3039840"/>
              <a:ext cx="1018080" cy="113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205740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1992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8120" y="510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814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rId5" action="ppaction://hlinksldjump"/>
          </p:cNvPr>
          <p:cNvSpPr/>
          <p:nvPr/>
        </p:nvSpPr>
        <p:spPr>
          <a:xfrm>
            <a:off x="7696080" y="6095880"/>
            <a:ext cx="360360" cy="360360"/>
          </a:xfrm>
          <a:custGeom>
            <a:avLst/>
            <a:gdLst>
              <a:gd name="textAreaLeft" fmla="*/ 90000 w 360360"/>
              <a:gd name="textAreaRight" fmla="*/ 270360 w 360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8790" y="10800"/>
                </a:moveTo>
                <a:lnTo>
                  <a:pt x="14825" y="6775"/>
                </a:lnTo>
                <a:lnTo>
                  <a:pt x="14825" y="14825"/>
                </a:lnTo>
                <a:close/>
              </a:path>
              <a:path fill="darken" w="21600" h="21600">
                <a:moveTo>
                  <a:pt x="6775" y="6775"/>
                </a:moveTo>
                <a:lnTo>
                  <a:pt x="7730" y="6775"/>
                </a:lnTo>
                <a:lnTo>
                  <a:pt x="7730" y="14825"/>
                </a:lnTo>
                <a:lnTo>
                  <a:pt x="6775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153280" y="609588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96080" y="5715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8" name=""/>
          <p:cNvGrpSpPr/>
          <p:nvPr/>
        </p:nvGrpSpPr>
        <p:grpSpPr>
          <a:xfrm>
            <a:off x="1905120" y="1066680"/>
            <a:ext cx="2361960" cy="3598920"/>
            <a:chOff x="1905120" y="1066680"/>
            <a:chExt cx="2361960" cy="3598920"/>
          </a:xfrm>
        </p:grpSpPr>
        <p:sp>
          <p:nvSpPr>
            <p:cNvPr id="1559" name=""/>
            <p:cNvSpPr/>
            <p:nvPr/>
          </p:nvSpPr>
          <p:spPr>
            <a:xfrm>
              <a:off x="1905120" y="1066680"/>
              <a:ext cx="761760" cy="35989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2647800" y="1066680"/>
              <a:ext cx="1619280" cy="6112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1" name=""/>
          <p:cNvGrpSpPr/>
          <p:nvPr/>
        </p:nvGrpSpPr>
        <p:grpSpPr>
          <a:xfrm>
            <a:off x="4267080" y="1066680"/>
            <a:ext cx="2319480" cy="3598920"/>
            <a:chOff x="4267080" y="1066680"/>
            <a:chExt cx="2319480" cy="3598920"/>
          </a:xfrm>
        </p:grpSpPr>
        <p:sp>
          <p:nvSpPr>
            <p:cNvPr id="1562" name=""/>
            <p:cNvSpPr/>
            <p:nvPr/>
          </p:nvSpPr>
          <p:spPr>
            <a:xfrm>
              <a:off x="5867280" y="1066680"/>
              <a:ext cx="719280" cy="3598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4267080" y="1066680"/>
              <a:ext cx="1619280" cy="611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2971800" y="3200400"/>
            <a:ext cx="762120" cy="2133720"/>
            <a:chOff x="2971800" y="3200400"/>
            <a:chExt cx="762120" cy="2133720"/>
          </a:xfrm>
        </p:grpSpPr>
        <p:sp>
          <p:nvSpPr>
            <p:cNvPr id="1565" name=""/>
            <p:cNvSpPr/>
            <p:nvPr/>
          </p:nvSpPr>
          <p:spPr>
            <a:xfrm>
              <a:off x="2971800" y="3200400"/>
              <a:ext cx="76212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971800" y="3200400"/>
              <a:ext cx="0" cy="21337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7" name=""/>
          <p:cNvGrpSpPr/>
          <p:nvPr/>
        </p:nvGrpSpPr>
        <p:grpSpPr>
          <a:xfrm>
            <a:off x="4800600" y="3200400"/>
            <a:ext cx="762120" cy="2133720"/>
            <a:chOff x="4800600" y="3200400"/>
            <a:chExt cx="762120" cy="2133720"/>
          </a:xfrm>
        </p:grpSpPr>
        <p:sp>
          <p:nvSpPr>
            <p:cNvPr id="1568" name=""/>
            <p:cNvSpPr/>
            <p:nvPr/>
          </p:nvSpPr>
          <p:spPr>
            <a:xfrm>
              <a:off x="4800600" y="3200400"/>
              <a:ext cx="76212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5562720" y="3200400"/>
              <a:ext cx="0" cy="21337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0" name=""/>
          <p:cNvGrpSpPr/>
          <p:nvPr/>
        </p:nvGrpSpPr>
        <p:grpSpPr>
          <a:xfrm>
            <a:off x="3656160" y="2126160"/>
            <a:ext cx="1230120" cy="2148120"/>
            <a:chOff x="3656160" y="2126160"/>
            <a:chExt cx="1230120" cy="2148120"/>
          </a:xfrm>
        </p:grpSpPr>
        <p:sp>
          <p:nvSpPr>
            <p:cNvPr id="1571" name=""/>
            <p:cNvSpPr/>
            <p:nvPr/>
          </p:nvSpPr>
          <p:spPr>
            <a:xfrm rot="16186800">
              <a:off x="4038840" y="2994840"/>
              <a:ext cx="431640" cy="43164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 rot="16186800">
              <a:off x="3812040" y="2754000"/>
              <a:ext cx="900360" cy="8996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rot="5387400">
              <a:off x="3811320" y="2754000"/>
              <a:ext cx="900360" cy="8996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rot="16186800">
              <a:off x="3361680" y="2761200"/>
              <a:ext cx="1800360" cy="899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 rot="16186800">
              <a:off x="4138920" y="3392280"/>
              <a:ext cx="304560" cy="9140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rot="16186800">
              <a:off x="4113720" y="2055600"/>
              <a:ext cx="304560" cy="9140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rot="5387400">
              <a:off x="4192920" y="3579120"/>
              <a:ext cx="162000" cy="1223640"/>
            </a:xfrm>
            <a:prstGeom prst="flowChartDelay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 rot="16186800">
              <a:off x="4187160" y="1597320"/>
              <a:ext cx="162000" cy="1223640"/>
            </a:xfrm>
            <a:prstGeom prst="flowChartDelay">
              <a:avLst/>
            </a:prstGeom>
            <a:solidFill>
              <a:srgbClr val="008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 flipH="1" flipV="1">
              <a:off x="4268520" y="3426840"/>
              <a:ext cx="720" cy="228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 flipV="1">
              <a:off x="4265280" y="2741040"/>
              <a:ext cx="720" cy="228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H="1" flipV="1">
              <a:off x="3886560" y="3198600"/>
              <a:ext cx="216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H="1" flipV="1">
              <a:off x="4647240" y="2663640"/>
              <a:ext cx="216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H="1">
              <a:off x="4723200" y="2434680"/>
              <a:ext cx="15192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 flipH="1">
              <a:off x="4726440" y="3958560"/>
              <a:ext cx="15192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 flipV="1">
              <a:off x="4874040" y="2433240"/>
              <a:ext cx="5760" cy="152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6" name=""/>
          <p:cNvSpPr/>
          <p:nvPr/>
        </p:nvSpPr>
        <p:spPr>
          <a:xfrm>
            <a:off x="205740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601992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3048120" y="510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51814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7696080" y="6095880"/>
            <a:ext cx="360360" cy="360360"/>
          </a:xfrm>
          <a:custGeom>
            <a:avLst/>
            <a:gdLst>
              <a:gd name="textAreaLeft" fmla="*/ 90000 w 360360"/>
              <a:gd name="textAreaRight" fmla="*/ 270360 w 360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8790" y="10800"/>
                </a:moveTo>
                <a:lnTo>
                  <a:pt x="14825" y="6775"/>
                </a:lnTo>
                <a:lnTo>
                  <a:pt x="14825" y="14825"/>
                </a:lnTo>
                <a:close/>
              </a:path>
              <a:path fill="darken" w="21600" h="21600">
                <a:moveTo>
                  <a:pt x="6775" y="6775"/>
                </a:moveTo>
                <a:lnTo>
                  <a:pt x="7730" y="6775"/>
                </a:lnTo>
                <a:lnTo>
                  <a:pt x="7730" y="14825"/>
                </a:lnTo>
                <a:lnTo>
                  <a:pt x="6775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7696080" y="5715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2" name=""/>
          <p:cNvGrpSpPr/>
          <p:nvPr/>
        </p:nvGrpSpPr>
        <p:grpSpPr>
          <a:xfrm>
            <a:off x="1905120" y="1066680"/>
            <a:ext cx="2361960" cy="3598920"/>
            <a:chOff x="1905120" y="1066680"/>
            <a:chExt cx="2361960" cy="3598920"/>
          </a:xfrm>
        </p:grpSpPr>
        <p:sp>
          <p:nvSpPr>
            <p:cNvPr id="1593" name=""/>
            <p:cNvSpPr/>
            <p:nvPr/>
          </p:nvSpPr>
          <p:spPr>
            <a:xfrm>
              <a:off x="1905120" y="1066680"/>
              <a:ext cx="761760" cy="35989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647800" y="1066680"/>
              <a:ext cx="1619280" cy="6112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5" name=""/>
          <p:cNvGrpSpPr/>
          <p:nvPr/>
        </p:nvGrpSpPr>
        <p:grpSpPr>
          <a:xfrm>
            <a:off x="4267080" y="1066680"/>
            <a:ext cx="2319480" cy="3598920"/>
            <a:chOff x="4267080" y="1066680"/>
            <a:chExt cx="2319480" cy="3598920"/>
          </a:xfrm>
        </p:grpSpPr>
        <p:sp>
          <p:nvSpPr>
            <p:cNvPr id="1596" name=""/>
            <p:cNvSpPr/>
            <p:nvPr/>
          </p:nvSpPr>
          <p:spPr>
            <a:xfrm>
              <a:off x="5867280" y="1066680"/>
              <a:ext cx="719280" cy="3598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267080" y="1066680"/>
              <a:ext cx="1619280" cy="611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8" name=""/>
          <p:cNvGrpSpPr/>
          <p:nvPr/>
        </p:nvGrpSpPr>
        <p:grpSpPr>
          <a:xfrm>
            <a:off x="2971800" y="3200400"/>
            <a:ext cx="762120" cy="2133720"/>
            <a:chOff x="2971800" y="3200400"/>
            <a:chExt cx="762120" cy="2133720"/>
          </a:xfrm>
        </p:grpSpPr>
        <p:sp>
          <p:nvSpPr>
            <p:cNvPr id="1599" name=""/>
            <p:cNvSpPr/>
            <p:nvPr/>
          </p:nvSpPr>
          <p:spPr>
            <a:xfrm>
              <a:off x="2971800" y="3200400"/>
              <a:ext cx="76212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971800" y="3200400"/>
              <a:ext cx="0" cy="21337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1" name=""/>
          <p:cNvGrpSpPr/>
          <p:nvPr/>
        </p:nvGrpSpPr>
        <p:grpSpPr>
          <a:xfrm>
            <a:off x="4800600" y="3200400"/>
            <a:ext cx="762120" cy="2133720"/>
            <a:chOff x="4800600" y="3200400"/>
            <a:chExt cx="762120" cy="2133720"/>
          </a:xfrm>
        </p:grpSpPr>
        <p:sp>
          <p:nvSpPr>
            <p:cNvPr id="1602" name=""/>
            <p:cNvSpPr/>
            <p:nvPr/>
          </p:nvSpPr>
          <p:spPr>
            <a:xfrm>
              <a:off x="4800600" y="3200400"/>
              <a:ext cx="76212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5562720" y="3200400"/>
              <a:ext cx="0" cy="21337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4" name=""/>
          <p:cNvGrpSpPr/>
          <p:nvPr/>
        </p:nvGrpSpPr>
        <p:grpSpPr>
          <a:xfrm>
            <a:off x="3206160" y="1966680"/>
            <a:ext cx="2130120" cy="2467080"/>
            <a:chOff x="3206160" y="1966680"/>
            <a:chExt cx="2130120" cy="2467080"/>
          </a:xfrm>
        </p:grpSpPr>
        <p:sp>
          <p:nvSpPr>
            <p:cNvPr id="1605" name=""/>
            <p:cNvSpPr/>
            <p:nvPr/>
          </p:nvSpPr>
          <p:spPr>
            <a:xfrm rot="17993400">
              <a:off x="4035960" y="2985480"/>
              <a:ext cx="431640" cy="43164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 rot="17993400">
              <a:off x="3811320" y="2749320"/>
              <a:ext cx="900360" cy="8996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 rot="7193400">
              <a:off x="3810960" y="2748600"/>
              <a:ext cx="900360" cy="89964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rot="17993400">
              <a:off x="3357360" y="2755440"/>
              <a:ext cx="1800360" cy="8996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rot="17993400">
              <a:off x="3810600" y="3315240"/>
              <a:ext cx="304560" cy="9140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rot="17993400">
              <a:off x="4459320" y="2145960"/>
              <a:ext cx="304560" cy="9140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rot="7193400">
              <a:off x="3695760" y="3446640"/>
              <a:ext cx="162000" cy="1223640"/>
            </a:xfrm>
            <a:prstGeom prst="flowChartDelay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rot="17993400">
              <a:off x="4684320" y="1729800"/>
              <a:ext cx="162000" cy="1223640"/>
            </a:xfrm>
            <a:prstGeom prst="flowChartDelay">
              <a:avLst/>
            </a:prstGeom>
            <a:solidFill>
              <a:srgbClr val="008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V="1">
              <a:off x="4041360" y="3395160"/>
              <a:ext cx="113760" cy="198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V="1">
              <a:off x="4382280" y="2800080"/>
              <a:ext cx="114120" cy="198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V="1">
              <a:off x="3673440" y="3006000"/>
              <a:ext cx="266040" cy="46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V="1">
              <a:off x="4599720" y="2924640"/>
              <a:ext cx="266040" cy="46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H="1" flipV="1">
              <a:off x="5045760" y="2765160"/>
              <a:ext cx="131760" cy="75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H="1" flipV="1">
              <a:off x="4284360" y="4085280"/>
              <a:ext cx="131760" cy="75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 flipV="1">
              <a:off x="4417920" y="2839320"/>
              <a:ext cx="759600" cy="1320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0" name=""/>
          <p:cNvSpPr/>
          <p:nvPr/>
        </p:nvSpPr>
        <p:spPr>
          <a:xfrm>
            <a:off x="205740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601992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048120" y="510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51814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7696080" y="6095880"/>
            <a:ext cx="360360" cy="360360"/>
          </a:xfrm>
          <a:custGeom>
            <a:avLst/>
            <a:gdLst>
              <a:gd name="textAreaLeft" fmla="*/ 90000 w 360360"/>
              <a:gd name="textAreaRight" fmla="*/ 270360 w 360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8790" y="10800"/>
                </a:moveTo>
                <a:lnTo>
                  <a:pt x="14825" y="6775"/>
                </a:lnTo>
                <a:lnTo>
                  <a:pt x="14825" y="14825"/>
                </a:lnTo>
                <a:close/>
              </a:path>
              <a:path fill="darken" w="21600" h="21600">
                <a:moveTo>
                  <a:pt x="6775" y="6775"/>
                </a:moveTo>
                <a:lnTo>
                  <a:pt x="7730" y="6775"/>
                </a:lnTo>
                <a:lnTo>
                  <a:pt x="7730" y="14825"/>
                </a:lnTo>
                <a:lnTo>
                  <a:pt x="6775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7696080" y="5715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6" name=""/>
          <p:cNvGrpSpPr/>
          <p:nvPr/>
        </p:nvGrpSpPr>
        <p:grpSpPr>
          <a:xfrm>
            <a:off x="1905120" y="1066680"/>
            <a:ext cx="2361960" cy="3598920"/>
            <a:chOff x="1905120" y="1066680"/>
            <a:chExt cx="2361960" cy="3598920"/>
          </a:xfrm>
        </p:grpSpPr>
        <p:sp>
          <p:nvSpPr>
            <p:cNvPr id="1627" name=""/>
            <p:cNvSpPr/>
            <p:nvPr/>
          </p:nvSpPr>
          <p:spPr>
            <a:xfrm>
              <a:off x="1905120" y="1066680"/>
              <a:ext cx="761760" cy="35989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647800" y="1066680"/>
              <a:ext cx="1619280" cy="6112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9" name=""/>
          <p:cNvGrpSpPr/>
          <p:nvPr/>
        </p:nvGrpSpPr>
        <p:grpSpPr>
          <a:xfrm>
            <a:off x="4267080" y="1066680"/>
            <a:ext cx="2319480" cy="3598920"/>
            <a:chOff x="4267080" y="1066680"/>
            <a:chExt cx="2319480" cy="3598920"/>
          </a:xfrm>
        </p:grpSpPr>
        <p:sp>
          <p:nvSpPr>
            <p:cNvPr id="1630" name=""/>
            <p:cNvSpPr/>
            <p:nvPr/>
          </p:nvSpPr>
          <p:spPr>
            <a:xfrm>
              <a:off x="5867280" y="1066680"/>
              <a:ext cx="719280" cy="3598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4267080" y="1066680"/>
              <a:ext cx="1619280" cy="611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2" name=""/>
          <p:cNvGrpSpPr/>
          <p:nvPr/>
        </p:nvGrpSpPr>
        <p:grpSpPr>
          <a:xfrm>
            <a:off x="2971800" y="3200400"/>
            <a:ext cx="762120" cy="2133720"/>
            <a:chOff x="2971800" y="3200400"/>
            <a:chExt cx="762120" cy="2133720"/>
          </a:xfrm>
        </p:grpSpPr>
        <p:sp>
          <p:nvSpPr>
            <p:cNvPr id="1633" name=""/>
            <p:cNvSpPr/>
            <p:nvPr/>
          </p:nvSpPr>
          <p:spPr>
            <a:xfrm>
              <a:off x="2971800" y="3200400"/>
              <a:ext cx="76212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971800" y="3200400"/>
              <a:ext cx="0" cy="21337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5" name=""/>
          <p:cNvGrpSpPr/>
          <p:nvPr/>
        </p:nvGrpSpPr>
        <p:grpSpPr>
          <a:xfrm>
            <a:off x="4800600" y="3200400"/>
            <a:ext cx="762120" cy="2133720"/>
            <a:chOff x="4800600" y="3200400"/>
            <a:chExt cx="762120" cy="2133720"/>
          </a:xfrm>
        </p:grpSpPr>
        <p:sp>
          <p:nvSpPr>
            <p:cNvPr id="1636" name=""/>
            <p:cNvSpPr/>
            <p:nvPr/>
          </p:nvSpPr>
          <p:spPr>
            <a:xfrm>
              <a:off x="4800600" y="3200400"/>
              <a:ext cx="76212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562720" y="3200400"/>
              <a:ext cx="0" cy="21337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8" name=""/>
          <p:cNvGrpSpPr/>
          <p:nvPr/>
        </p:nvGrpSpPr>
        <p:grpSpPr>
          <a:xfrm>
            <a:off x="3045960" y="2218320"/>
            <a:ext cx="2451240" cy="1962720"/>
            <a:chOff x="3045960" y="2218320"/>
            <a:chExt cx="2451240" cy="1962720"/>
          </a:xfrm>
        </p:grpSpPr>
        <p:sp>
          <p:nvSpPr>
            <p:cNvPr id="1639" name=""/>
            <p:cNvSpPr/>
            <p:nvPr/>
          </p:nvSpPr>
          <p:spPr>
            <a:xfrm rot="20221800">
              <a:off x="4039200" y="2972520"/>
              <a:ext cx="431640" cy="4320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rot="20221800">
              <a:off x="3814200" y="2742480"/>
              <a:ext cx="900360" cy="900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rot="9421800">
              <a:off x="3814200" y="2742480"/>
              <a:ext cx="900360" cy="900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rot="20221800">
              <a:off x="3357360" y="2745360"/>
              <a:ext cx="1800360" cy="90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rot="20221800">
              <a:off x="3528360" y="3012120"/>
              <a:ext cx="304560" cy="914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rot="20221800">
              <a:off x="4750920" y="2471760"/>
              <a:ext cx="304560" cy="9144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rot="9421800">
              <a:off x="3278160" y="2973600"/>
              <a:ext cx="162000" cy="1224000"/>
            </a:xfrm>
            <a:prstGeom prst="flowChartDelay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rot="20221800">
              <a:off x="5102640" y="2201400"/>
              <a:ext cx="162000" cy="1224000"/>
            </a:xfrm>
            <a:prstGeom prst="flowChartDelay">
              <a:avLst/>
            </a:prstGeom>
            <a:solidFill>
              <a:srgbClr val="008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V="1">
              <a:off x="3851280" y="3285000"/>
              <a:ext cx="210240" cy="89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V="1">
              <a:off x="4482360" y="3016800"/>
              <a:ext cx="210240" cy="892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 flipV="1">
              <a:off x="3633120" y="2844720"/>
              <a:ext cx="491400" cy="20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 flipV="1">
              <a:off x="4420800" y="3339360"/>
              <a:ext cx="491040" cy="20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H="1" flipV="1">
              <a:off x="5151960" y="3321000"/>
              <a:ext cx="59400" cy="14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H="1" flipV="1">
              <a:off x="3747960" y="3913560"/>
              <a:ext cx="59400" cy="14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V="1">
              <a:off x="3809160" y="3459240"/>
              <a:ext cx="1402920" cy="59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4" name=""/>
          <p:cNvSpPr/>
          <p:nvPr/>
        </p:nvSpPr>
        <p:spPr>
          <a:xfrm>
            <a:off x="205740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01992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048120" y="510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51814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7696080" y="6095880"/>
            <a:ext cx="360360" cy="360360"/>
          </a:xfrm>
          <a:custGeom>
            <a:avLst/>
            <a:gdLst>
              <a:gd name="textAreaLeft" fmla="*/ 90000 w 360360"/>
              <a:gd name="textAreaRight" fmla="*/ 270360 w 360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8790" y="10800"/>
                </a:moveTo>
                <a:lnTo>
                  <a:pt x="14825" y="6775"/>
                </a:lnTo>
                <a:lnTo>
                  <a:pt x="14825" y="14825"/>
                </a:lnTo>
                <a:close/>
              </a:path>
              <a:path fill="darken" w="21600" h="21600">
                <a:moveTo>
                  <a:pt x="6775" y="6775"/>
                </a:moveTo>
                <a:lnTo>
                  <a:pt x="7730" y="6775"/>
                </a:lnTo>
                <a:lnTo>
                  <a:pt x="7730" y="14825"/>
                </a:lnTo>
                <a:lnTo>
                  <a:pt x="6775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7696080" y="5715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1905120" y="1066680"/>
            <a:ext cx="2361960" cy="3598920"/>
            <a:chOff x="1905120" y="1066680"/>
            <a:chExt cx="2361960" cy="3598920"/>
          </a:xfrm>
        </p:grpSpPr>
        <p:sp>
          <p:nvSpPr>
            <p:cNvPr id="187" name=""/>
            <p:cNvSpPr/>
            <p:nvPr/>
          </p:nvSpPr>
          <p:spPr>
            <a:xfrm>
              <a:off x="1905120" y="1066680"/>
              <a:ext cx="761760" cy="35989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647800" y="1066680"/>
              <a:ext cx="1619280" cy="6112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267080" y="1066680"/>
            <a:ext cx="2319480" cy="3598920"/>
            <a:chOff x="4267080" y="1066680"/>
            <a:chExt cx="2319480" cy="3598920"/>
          </a:xfrm>
        </p:grpSpPr>
        <p:sp>
          <p:nvSpPr>
            <p:cNvPr id="190" name=""/>
            <p:cNvSpPr/>
            <p:nvPr/>
          </p:nvSpPr>
          <p:spPr>
            <a:xfrm>
              <a:off x="5867280" y="1066680"/>
              <a:ext cx="719280" cy="3598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67080" y="1066680"/>
              <a:ext cx="1619280" cy="611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2971800" y="3200400"/>
            <a:ext cx="762120" cy="2133720"/>
            <a:chOff x="2971800" y="3200400"/>
            <a:chExt cx="762120" cy="2133720"/>
          </a:xfrm>
        </p:grpSpPr>
        <p:sp>
          <p:nvSpPr>
            <p:cNvPr id="193" name=""/>
            <p:cNvSpPr/>
            <p:nvPr/>
          </p:nvSpPr>
          <p:spPr>
            <a:xfrm>
              <a:off x="2971800" y="3200400"/>
              <a:ext cx="76212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971800" y="3200400"/>
              <a:ext cx="0" cy="21337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4800600" y="3200400"/>
            <a:ext cx="762120" cy="2133720"/>
            <a:chOff x="4800600" y="3200400"/>
            <a:chExt cx="762120" cy="2133720"/>
          </a:xfrm>
        </p:grpSpPr>
        <p:sp>
          <p:nvSpPr>
            <p:cNvPr id="196" name=""/>
            <p:cNvSpPr/>
            <p:nvPr/>
          </p:nvSpPr>
          <p:spPr>
            <a:xfrm>
              <a:off x="4800600" y="3200400"/>
              <a:ext cx="76212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562720" y="3200400"/>
              <a:ext cx="0" cy="21337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650040" y="2122200"/>
            <a:ext cx="1236600" cy="2158200"/>
            <a:chOff x="3650040" y="2122200"/>
            <a:chExt cx="1236600" cy="2158200"/>
          </a:xfrm>
        </p:grpSpPr>
        <p:sp>
          <p:nvSpPr>
            <p:cNvPr id="199" name=""/>
            <p:cNvSpPr/>
            <p:nvPr/>
          </p:nvSpPr>
          <p:spPr>
            <a:xfrm rot="5377800">
              <a:off x="4066920" y="2971080"/>
              <a:ext cx="431640" cy="43164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5377800">
              <a:off x="3827520" y="2742120"/>
              <a:ext cx="900000" cy="900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6177800">
              <a:off x="3827520" y="2742120"/>
              <a:ext cx="900000" cy="900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5377800">
              <a:off x="3378240" y="2735280"/>
              <a:ext cx="1800000" cy="90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5377800">
              <a:off x="4093560" y="2091960"/>
              <a:ext cx="304560" cy="914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5377800">
              <a:off x="4122360" y="3428280"/>
              <a:ext cx="304920" cy="9144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6177800">
              <a:off x="4181400" y="1595160"/>
              <a:ext cx="162000" cy="1224000"/>
            </a:xfrm>
            <a:prstGeom prst="flowChartDelay">
              <a:avLst/>
            </a:prstGeom>
            <a:solidFill>
              <a:srgbClr val="008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5377800">
              <a:off x="4192920" y="3583080"/>
              <a:ext cx="162000" cy="1224000"/>
            </a:xfrm>
            <a:prstGeom prst="flowChartDelay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68160" y="2742120"/>
              <a:ext cx="1800" cy="228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72480" y="3428280"/>
              <a:ext cx="1440" cy="2286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647960" y="2664720"/>
              <a:ext cx="324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89800" y="3202560"/>
              <a:ext cx="36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3666240" y="3964320"/>
              <a:ext cx="1522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657600" y="2440800"/>
              <a:ext cx="1522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656160" y="2442240"/>
              <a:ext cx="9720" cy="152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205740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8120" y="510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14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>
            <a:hlinkClick r:id="rId5" action="ppaction://hlinksldjump"/>
          </p:cNvPr>
          <p:cNvSpPr/>
          <p:nvPr/>
        </p:nvSpPr>
        <p:spPr>
          <a:xfrm>
            <a:off x="7696080" y="6095880"/>
            <a:ext cx="360360" cy="360360"/>
          </a:xfrm>
          <a:custGeom>
            <a:avLst/>
            <a:gdLst>
              <a:gd name="textAreaLeft" fmla="*/ 90000 w 360360"/>
              <a:gd name="textAreaRight" fmla="*/ 270360 w 360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8790" y="10800"/>
                </a:moveTo>
                <a:lnTo>
                  <a:pt x="14825" y="6775"/>
                </a:lnTo>
                <a:lnTo>
                  <a:pt x="14825" y="14825"/>
                </a:lnTo>
                <a:close/>
              </a:path>
              <a:path fill="darken" w="21600" h="21600">
                <a:moveTo>
                  <a:pt x="6775" y="6775"/>
                </a:moveTo>
                <a:lnTo>
                  <a:pt x="7730" y="6775"/>
                </a:lnTo>
                <a:lnTo>
                  <a:pt x="7730" y="14825"/>
                </a:lnTo>
                <a:lnTo>
                  <a:pt x="6775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153280" y="609588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96080" y="5715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1905120" y="1066680"/>
            <a:ext cx="2361960" cy="3598920"/>
            <a:chOff x="1905120" y="1066680"/>
            <a:chExt cx="2361960" cy="3598920"/>
          </a:xfrm>
        </p:grpSpPr>
        <p:sp>
          <p:nvSpPr>
            <p:cNvPr id="222" name=""/>
            <p:cNvSpPr/>
            <p:nvPr/>
          </p:nvSpPr>
          <p:spPr>
            <a:xfrm>
              <a:off x="1905120" y="1066680"/>
              <a:ext cx="761760" cy="35989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47800" y="1066680"/>
              <a:ext cx="1619280" cy="6112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4267080" y="1066680"/>
            <a:ext cx="2319480" cy="3598920"/>
            <a:chOff x="4267080" y="1066680"/>
            <a:chExt cx="2319480" cy="3598920"/>
          </a:xfrm>
        </p:grpSpPr>
        <p:sp>
          <p:nvSpPr>
            <p:cNvPr id="225" name=""/>
            <p:cNvSpPr/>
            <p:nvPr/>
          </p:nvSpPr>
          <p:spPr>
            <a:xfrm>
              <a:off x="5867280" y="1066680"/>
              <a:ext cx="719280" cy="3598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267080" y="1066680"/>
              <a:ext cx="1619280" cy="611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971800" y="3200400"/>
            <a:ext cx="762120" cy="2133720"/>
            <a:chOff x="2971800" y="3200400"/>
            <a:chExt cx="762120" cy="2133720"/>
          </a:xfrm>
        </p:grpSpPr>
        <p:sp>
          <p:nvSpPr>
            <p:cNvPr id="228" name=""/>
            <p:cNvSpPr/>
            <p:nvPr/>
          </p:nvSpPr>
          <p:spPr>
            <a:xfrm>
              <a:off x="2971800" y="3200400"/>
              <a:ext cx="76212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971800" y="3200400"/>
              <a:ext cx="0" cy="21337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800600" y="3200400"/>
            <a:ext cx="762120" cy="2133720"/>
            <a:chOff x="4800600" y="3200400"/>
            <a:chExt cx="762120" cy="2133720"/>
          </a:xfrm>
        </p:grpSpPr>
        <p:sp>
          <p:nvSpPr>
            <p:cNvPr id="231" name=""/>
            <p:cNvSpPr/>
            <p:nvPr/>
          </p:nvSpPr>
          <p:spPr>
            <a:xfrm>
              <a:off x="4800600" y="3200400"/>
              <a:ext cx="76212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562720" y="3200400"/>
              <a:ext cx="0" cy="21337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276000" y="1971360"/>
            <a:ext cx="1984680" cy="2459880"/>
            <a:chOff x="3276000" y="1971360"/>
            <a:chExt cx="1984680" cy="2459880"/>
          </a:xfrm>
        </p:grpSpPr>
        <p:sp>
          <p:nvSpPr>
            <p:cNvPr id="234" name=""/>
            <p:cNvSpPr/>
            <p:nvPr/>
          </p:nvSpPr>
          <p:spPr>
            <a:xfrm rot="6819000">
              <a:off x="4071240" y="2978280"/>
              <a:ext cx="431640" cy="43164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6819000">
              <a:off x="3830400" y="2746440"/>
              <a:ext cx="900000" cy="900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7619000">
              <a:off x="3830400" y="2746800"/>
              <a:ext cx="900000" cy="900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6819000">
              <a:off x="3383640" y="2740680"/>
              <a:ext cx="1800000" cy="90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6819000">
              <a:off x="4361040" y="2139480"/>
              <a:ext cx="304560" cy="914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6819000">
              <a:off x="3843360" y="3371760"/>
              <a:ext cx="304920" cy="9144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7619000">
              <a:off x="4586400" y="1678680"/>
              <a:ext cx="162000" cy="1224000"/>
            </a:xfrm>
            <a:prstGeom prst="flowChartDelay">
              <a:avLst/>
            </a:prstGeom>
            <a:solidFill>
              <a:srgbClr val="008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6819000">
              <a:off x="3787920" y="3499560"/>
              <a:ext cx="162000" cy="1224000"/>
            </a:xfrm>
            <a:prstGeom prst="flowChartDelay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4363560" y="2781720"/>
              <a:ext cx="91800" cy="209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4087800" y="3410280"/>
              <a:ext cx="91800" cy="2091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4619160" y="2865600"/>
              <a:ext cx="214200" cy="48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3708000" y="3048480"/>
              <a:ext cx="214200" cy="488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07400" y="3654000"/>
              <a:ext cx="139680" cy="6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19400" y="2258640"/>
              <a:ext cx="139680" cy="61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3406680" y="2258640"/>
              <a:ext cx="611640" cy="139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205740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1992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48120" y="510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1814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>
            <a:hlinkClick r:id="rId5" action="ppaction://hlinksldjump"/>
          </p:cNvPr>
          <p:cNvSpPr/>
          <p:nvPr/>
        </p:nvSpPr>
        <p:spPr>
          <a:xfrm>
            <a:off x="8153280" y="6095880"/>
            <a:ext cx="360360" cy="360360"/>
          </a:xfrm>
          <a:custGeom>
            <a:avLst/>
            <a:gdLst>
              <a:gd name="textAreaLeft" fmla="*/ 90000 w 360360"/>
              <a:gd name="textAreaRight" fmla="*/ 270360 w 360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6775"/>
                </a:moveTo>
                <a:lnTo>
                  <a:pt x="14825" y="10800"/>
                </a:lnTo>
                <a:lnTo>
                  <a:pt x="6775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>
            <a:hlinkClick r:id="rId6" action="ppaction://hlinksldjump"/>
          </p:cNvPr>
          <p:cNvSpPr/>
          <p:nvPr/>
        </p:nvSpPr>
        <p:spPr>
          <a:xfrm>
            <a:off x="7696080" y="6095880"/>
            <a:ext cx="360360" cy="360360"/>
          </a:xfrm>
          <a:custGeom>
            <a:avLst/>
            <a:gdLst>
              <a:gd name="textAreaLeft" fmla="*/ 90000 w 360360"/>
              <a:gd name="textAreaRight" fmla="*/ 270360 w 360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8790" y="10800"/>
                </a:moveTo>
                <a:lnTo>
                  <a:pt x="14825" y="6775"/>
                </a:lnTo>
                <a:lnTo>
                  <a:pt x="14825" y="14825"/>
                </a:lnTo>
                <a:close/>
              </a:path>
              <a:path fill="darken" w="21600" h="21600">
                <a:moveTo>
                  <a:pt x="6775" y="6775"/>
                </a:moveTo>
                <a:lnTo>
                  <a:pt x="7730" y="6775"/>
                </a:lnTo>
                <a:lnTo>
                  <a:pt x="7730" y="14825"/>
                </a:lnTo>
                <a:lnTo>
                  <a:pt x="6775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96080" y="5715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1905120" y="1066680"/>
            <a:ext cx="2361960" cy="3598920"/>
            <a:chOff x="1905120" y="1066680"/>
            <a:chExt cx="2361960" cy="3598920"/>
          </a:xfrm>
        </p:grpSpPr>
        <p:sp>
          <p:nvSpPr>
            <p:cNvPr id="257" name=""/>
            <p:cNvSpPr/>
            <p:nvPr/>
          </p:nvSpPr>
          <p:spPr>
            <a:xfrm>
              <a:off x="1905120" y="1066680"/>
              <a:ext cx="761760" cy="35989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47800" y="1066680"/>
              <a:ext cx="1619280" cy="6112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4267080" y="1066680"/>
            <a:ext cx="2319480" cy="3598920"/>
            <a:chOff x="4267080" y="1066680"/>
            <a:chExt cx="2319480" cy="3598920"/>
          </a:xfrm>
        </p:grpSpPr>
        <p:sp>
          <p:nvSpPr>
            <p:cNvPr id="260" name=""/>
            <p:cNvSpPr/>
            <p:nvPr/>
          </p:nvSpPr>
          <p:spPr>
            <a:xfrm>
              <a:off x="5867280" y="1066680"/>
              <a:ext cx="719280" cy="3598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267080" y="1066680"/>
              <a:ext cx="1619280" cy="611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971800" y="3200400"/>
            <a:ext cx="762120" cy="2133720"/>
            <a:chOff x="2971800" y="3200400"/>
            <a:chExt cx="762120" cy="2133720"/>
          </a:xfrm>
        </p:grpSpPr>
        <p:sp>
          <p:nvSpPr>
            <p:cNvPr id="263" name=""/>
            <p:cNvSpPr/>
            <p:nvPr/>
          </p:nvSpPr>
          <p:spPr>
            <a:xfrm>
              <a:off x="2971800" y="3200400"/>
              <a:ext cx="76212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971800" y="3200400"/>
              <a:ext cx="0" cy="21337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4800600" y="3200400"/>
            <a:ext cx="762120" cy="2133720"/>
            <a:chOff x="4800600" y="3200400"/>
            <a:chExt cx="762120" cy="2133720"/>
          </a:xfrm>
        </p:grpSpPr>
        <p:sp>
          <p:nvSpPr>
            <p:cNvPr id="266" name=""/>
            <p:cNvSpPr/>
            <p:nvPr/>
          </p:nvSpPr>
          <p:spPr>
            <a:xfrm>
              <a:off x="4800600" y="3200400"/>
              <a:ext cx="76212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562720" y="3200400"/>
              <a:ext cx="0" cy="21337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3031920" y="2163960"/>
            <a:ext cx="2472480" cy="2074320"/>
            <a:chOff x="3031920" y="2163960"/>
            <a:chExt cx="2472480" cy="2074320"/>
          </a:xfrm>
        </p:grpSpPr>
        <p:sp>
          <p:nvSpPr>
            <p:cNvPr id="269" name=""/>
            <p:cNvSpPr/>
            <p:nvPr/>
          </p:nvSpPr>
          <p:spPr>
            <a:xfrm rot="9158400">
              <a:off x="4071600" y="2991600"/>
              <a:ext cx="431640" cy="43164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9158400">
              <a:off x="3830400" y="2755080"/>
              <a:ext cx="900000" cy="900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9958400">
              <a:off x="3830400" y="2755080"/>
              <a:ext cx="900000" cy="900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9158400">
              <a:off x="3386520" y="2752560"/>
              <a:ext cx="1800000" cy="90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9158400">
              <a:off x="4686840" y="2428200"/>
              <a:ext cx="304560" cy="914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9158400">
              <a:off x="3508920" y="3060000"/>
              <a:ext cx="304920" cy="9144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9958400">
              <a:off x="5070240" y="2132640"/>
              <a:ext cx="162000" cy="1224000"/>
            </a:xfrm>
            <a:prstGeom prst="flowChartDelay">
              <a:avLst/>
            </a:prstGeom>
            <a:solidFill>
              <a:srgbClr val="008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9158400">
              <a:off x="3303720" y="3045240"/>
              <a:ext cx="162000" cy="1224000"/>
            </a:xfrm>
            <a:prstGeom prst="flowChartDelay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4474440" y="2992680"/>
              <a:ext cx="203040" cy="105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3864600" y="3307680"/>
              <a:ext cx="203040" cy="105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4444560" y="3295800"/>
              <a:ext cx="474120" cy="24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3621600" y="2864520"/>
              <a:ext cx="473760" cy="24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314160" y="3011400"/>
              <a:ext cx="70200" cy="13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667760" y="2311920"/>
              <a:ext cx="70200" cy="13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3313080" y="2311200"/>
              <a:ext cx="1353960" cy="70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05740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01992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10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1814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>
            <a:hlinkClick r:id="rId5" action="ppaction://hlinksldjump"/>
          </p:cNvPr>
          <p:cNvSpPr/>
          <p:nvPr/>
        </p:nvSpPr>
        <p:spPr>
          <a:xfrm>
            <a:off x="8153280" y="6095880"/>
            <a:ext cx="360360" cy="360360"/>
          </a:xfrm>
          <a:custGeom>
            <a:avLst/>
            <a:gdLst>
              <a:gd name="textAreaLeft" fmla="*/ 90000 w 360360"/>
              <a:gd name="textAreaRight" fmla="*/ 270360 w 360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6775"/>
                </a:moveTo>
                <a:lnTo>
                  <a:pt x="14825" y="10800"/>
                </a:lnTo>
                <a:lnTo>
                  <a:pt x="6775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>
            <a:hlinkClick r:id="rId6" action="ppaction://hlinksldjump"/>
          </p:cNvPr>
          <p:cNvSpPr/>
          <p:nvPr/>
        </p:nvSpPr>
        <p:spPr>
          <a:xfrm>
            <a:off x="7696080" y="6095880"/>
            <a:ext cx="360360" cy="360360"/>
          </a:xfrm>
          <a:custGeom>
            <a:avLst/>
            <a:gdLst>
              <a:gd name="textAreaLeft" fmla="*/ 90000 w 360360"/>
              <a:gd name="textAreaRight" fmla="*/ 270360 w 360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8790" y="10800"/>
                </a:moveTo>
                <a:lnTo>
                  <a:pt x="14825" y="6775"/>
                </a:lnTo>
                <a:lnTo>
                  <a:pt x="14825" y="14825"/>
                </a:lnTo>
                <a:close/>
              </a:path>
              <a:path fill="darken" w="21600" h="21600">
                <a:moveTo>
                  <a:pt x="6775" y="6775"/>
                </a:moveTo>
                <a:lnTo>
                  <a:pt x="7730" y="6775"/>
                </a:lnTo>
                <a:lnTo>
                  <a:pt x="7730" y="14825"/>
                </a:lnTo>
                <a:lnTo>
                  <a:pt x="6775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96080" y="5715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1905120" y="1066680"/>
            <a:ext cx="2361960" cy="3598920"/>
            <a:chOff x="1905120" y="1066680"/>
            <a:chExt cx="2361960" cy="3598920"/>
          </a:xfrm>
        </p:grpSpPr>
        <p:sp>
          <p:nvSpPr>
            <p:cNvPr id="292" name=""/>
            <p:cNvSpPr/>
            <p:nvPr/>
          </p:nvSpPr>
          <p:spPr>
            <a:xfrm>
              <a:off x="1905120" y="1066680"/>
              <a:ext cx="761760" cy="35989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647800" y="1066680"/>
              <a:ext cx="1619280" cy="6112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4267080" y="1066680"/>
            <a:ext cx="2319480" cy="3598920"/>
            <a:chOff x="4267080" y="1066680"/>
            <a:chExt cx="2319480" cy="3598920"/>
          </a:xfrm>
        </p:grpSpPr>
        <p:sp>
          <p:nvSpPr>
            <p:cNvPr id="295" name=""/>
            <p:cNvSpPr/>
            <p:nvPr/>
          </p:nvSpPr>
          <p:spPr>
            <a:xfrm>
              <a:off x="5867280" y="1066680"/>
              <a:ext cx="719280" cy="3598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267080" y="1066680"/>
              <a:ext cx="1619280" cy="611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2971800" y="3200400"/>
            <a:ext cx="762120" cy="2133720"/>
            <a:chOff x="2971800" y="3200400"/>
            <a:chExt cx="762120" cy="2133720"/>
          </a:xfrm>
        </p:grpSpPr>
        <p:sp>
          <p:nvSpPr>
            <p:cNvPr id="298" name=""/>
            <p:cNvSpPr/>
            <p:nvPr/>
          </p:nvSpPr>
          <p:spPr>
            <a:xfrm>
              <a:off x="2971800" y="3200400"/>
              <a:ext cx="76212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971800" y="3200400"/>
              <a:ext cx="0" cy="21337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4800600" y="3200400"/>
            <a:ext cx="762120" cy="2133720"/>
            <a:chOff x="4800600" y="3200400"/>
            <a:chExt cx="762120" cy="2133720"/>
          </a:xfrm>
        </p:grpSpPr>
        <p:sp>
          <p:nvSpPr>
            <p:cNvPr id="301" name=""/>
            <p:cNvSpPr/>
            <p:nvPr/>
          </p:nvSpPr>
          <p:spPr>
            <a:xfrm>
              <a:off x="4800600" y="3200400"/>
              <a:ext cx="76212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562720" y="3200400"/>
              <a:ext cx="0" cy="21337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 rot="10787400">
            <a:off x="4066560" y="3000240"/>
            <a:ext cx="431640" cy="4320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10787400">
            <a:off x="3825360" y="2758680"/>
            <a:ext cx="900360" cy="9000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21587400">
            <a:off x="3825360" y="2759040"/>
            <a:ext cx="900360" cy="9000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rot="10787400">
            <a:off x="3382560" y="2759040"/>
            <a:ext cx="1800360" cy="900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0787400">
            <a:off x="4768920" y="2722320"/>
            <a:ext cx="30456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0787400">
            <a:off x="3432240" y="2747520"/>
            <a:ext cx="304560" cy="914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21587400">
            <a:off x="5181480" y="2584440"/>
            <a:ext cx="162000" cy="1224000"/>
          </a:xfrm>
          <a:prstGeom prst="flowChartDelay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10787400">
            <a:off x="3200040" y="2590560"/>
            <a:ext cx="162000" cy="1224000"/>
          </a:xfrm>
          <a:prstGeom prst="flowChartDelay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4498560" y="3201480"/>
            <a:ext cx="228600" cy="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3812760" y="3204720"/>
            <a:ext cx="228600" cy="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4270320" y="3582000"/>
            <a:ext cx="533520" cy="2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3735360" y="2821320"/>
            <a:ext cx="533520" cy="2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506400" y="2594880"/>
            <a:ext cx="72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30280" y="2591640"/>
            <a:ext cx="72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3504960" y="2591280"/>
            <a:ext cx="1523880" cy="5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05740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1992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048120" y="510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1814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>
            <a:hlinkClick r:id="rId5" action="ppaction://hlinksldjump"/>
          </p:cNvPr>
          <p:cNvSpPr/>
          <p:nvPr/>
        </p:nvSpPr>
        <p:spPr>
          <a:xfrm>
            <a:off x="8153280" y="6095880"/>
            <a:ext cx="360360" cy="360360"/>
          </a:xfrm>
          <a:custGeom>
            <a:avLst/>
            <a:gdLst>
              <a:gd name="textAreaLeft" fmla="*/ 90000 w 360360"/>
              <a:gd name="textAreaRight" fmla="*/ 270360 w 360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6775"/>
                </a:moveTo>
                <a:lnTo>
                  <a:pt x="14825" y="10800"/>
                </a:lnTo>
                <a:lnTo>
                  <a:pt x="6775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>
            <a:hlinkClick r:id="rId6" action="ppaction://hlinksldjump"/>
          </p:cNvPr>
          <p:cNvSpPr/>
          <p:nvPr/>
        </p:nvSpPr>
        <p:spPr>
          <a:xfrm>
            <a:off x="7696080" y="6095880"/>
            <a:ext cx="360360" cy="360360"/>
          </a:xfrm>
          <a:custGeom>
            <a:avLst/>
            <a:gdLst>
              <a:gd name="textAreaLeft" fmla="*/ 90000 w 360360"/>
              <a:gd name="textAreaRight" fmla="*/ 270360 w 360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8790" y="10800"/>
                </a:moveTo>
                <a:lnTo>
                  <a:pt x="14825" y="6775"/>
                </a:lnTo>
                <a:lnTo>
                  <a:pt x="14825" y="14825"/>
                </a:lnTo>
                <a:close/>
              </a:path>
              <a:path fill="darken" w="21600" h="21600">
                <a:moveTo>
                  <a:pt x="6775" y="6775"/>
                </a:moveTo>
                <a:lnTo>
                  <a:pt x="7730" y="6775"/>
                </a:lnTo>
                <a:lnTo>
                  <a:pt x="7730" y="14825"/>
                </a:lnTo>
                <a:lnTo>
                  <a:pt x="6775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696080" y="5715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"/>
          <p:cNvGrpSpPr/>
          <p:nvPr/>
        </p:nvGrpSpPr>
        <p:grpSpPr>
          <a:xfrm>
            <a:off x="1905120" y="1066680"/>
            <a:ext cx="2361960" cy="3598920"/>
            <a:chOff x="1905120" y="1066680"/>
            <a:chExt cx="2361960" cy="3598920"/>
          </a:xfrm>
        </p:grpSpPr>
        <p:sp>
          <p:nvSpPr>
            <p:cNvPr id="326" name=""/>
            <p:cNvSpPr/>
            <p:nvPr/>
          </p:nvSpPr>
          <p:spPr>
            <a:xfrm>
              <a:off x="1905120" y="1066680"/>
              <a:ext cx="761760" cy="359892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47800" y="1066680"/>
              <a:ext cx="1619280" cy="61128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4267080" y="1066680"/>
            <a:ext cx="2319480" cy="3598920"/>
            <a:chOff x="4267080" y="1066680"/>
            <a:chExt cx="2319480" cy="3598920"/>
          </a:xfrm>
        </p:grpSpPr>
        <p:sp>
          <p:nvSpPr>
            <p:cNvPr id="329" name=""/>
            <p:cNvSpPr/>
            <p:nvPr/>
          </p:nvSpPr>
          <p:spPr>
            <a:xfrm>
              <a:off x="5867280" y="1066680"/>
              <a:ext cx="719280" cy="3598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267080" y="1066680"/>
              <a:ext cx="1619280" cy="611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2971800" y="3200400"/>
            <a:ext cx="762120" cy="2133720"/>
            <a:chOff x="2971800" y="3200400"/>
            <a:chExt cx="762120" cy="2133720"/>
          </a:xfrm>
        </p:grpSpPr>
        <p:sp>
          <p:nvSpPr>
            <p:cNvPr id="332" name=""/>
            <p:cNvSpPr/>
            <p:nvPr/>
          </p:nvSpPr>
          <p:spPr>
            <a:xfrm>
              <a:off x="2971800" y="3200400"/>
              <a:ext cx="76212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971800" y="3200400"/>
              <a:ext cx="0" cy="21337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4800600" y="3200400"/>
            <a:ext cx="762120" cy="2133720"/>
            <a:chOff x="4800600" y="3200400"/>
            <a:chExt cx="762120" cy="2133720"/>
          </a:xfrm>
        </p:grpSpPr>
        <p:sp>
          <p:nvSpPr>
            <p:cNvPr id="335" name=""/>
            <p:cNvSpPr/>
            <p:nvPr/>
          </p:nvSpPr>
          <p:spPr>
            <a:xfrm>
              <a:off x="4800600" y="3200400"/>
              <a:ext cx="762120" cy="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562720" y="3200400"/>
              <a:ext cx="0" cy="2133720"/>
            </a:xfrm>
            <a:prstGeom prst="line">
              <a:avLst/>
            </a:prstGeom>
            <a:ln w="57240">
              <a:solidFill>
                <a:srgbClr val="ff99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3064680" y="2288520"/>
            <a:ext cx="2414520" cy="1822320"/>
            <a:chOff x="3064680" y="2288520"/>
            <a:chExt cx="2414520" cy="1822320"/>
          </a:xfrm>
        </p:grpSpPr>
        <p:sp>
          <p:nvSpPr>
            <p:cNvPr id="338" name=""/>
            <p:cNvSpPr/>
            <p:nvPr/>
          </p:nvSpPr>
          <p:spPr>
            <a:xfrm rot="11869200">
              <a:off x="4061160" y="3002760"/>
              <a:ext cx="431640" cy="4320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11869200">
              <a:off x="3822120" y="2759400"/>
              <a:ext cx="900360" cy="900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1069200">
              <a:off x="3822120" y="2759760"/>
              <a:ext cx="900360" cy="9000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11869200">
              <a:off x="3378960" y="2761920"/>
              <a:ext cx="1800360" cy="90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11869200">
              <a:off x="4743000" y="2924280"/>
              <a:ext cx="304560" cy="914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11869200">
              <a:off x="3464280" y="2534760"/>
              <a:ext cx="304560" cy="9144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1069200">
              <a:off x="5133600" y="2891160"/>
              <a:ext cx="162000" cy="1224000"/>
            </a:xfrm>
            <a:prstGeom prst="flowChartDelay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11869200">
              <a:off x="3247920" y="2283840"/>
              <a:ext cx="162000" cy="1224000"/>
            </a:xfrm>
            <a:prstGeom prst="flowChartDelay">
              <a:avLst/>
            </a:prstGeom>
            <a:solidFill>
              <a:srgbClr val="008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 flipV="1">
              <a:off x="4486680" y="3272400"/>
              <a:ext cx="217440" cy="69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 flipV="1">
              <a:off x="3833640" y="3063240"/>
              <a:ext cx="217440" cy="69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 flipV="1">
              <a:off x="4151520" y="3564720"/>
              <a:ext cx="507960" cy="16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 flipV="1">
              <a:off x="3878280" y="2675880"/>
              <a:ext cx="507960" cy="16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3684600" y="2387880"/>
              <a:ext cx="4680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5134680" y="2856240"/>
              <a:ext cx="46800" cy="14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 flipV="1">
              <a:off x="3729240" y="2388600"/>
              <a:ext cx="1450800" cy="466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057400" y="4191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19920" y="411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510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181480" y="51055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>
            <a:hlinkClick r:id="rId5" action="ppaction://hlinksldjump"/>
          </p:cNvPr>
          <p:cNvSpPr/>
          <p:nvPr/>
        </p:nvSpPr>
        <p:spPr>
          <a:xfrm>
            <a:off x="8153280" y="6095880"/>
            <a:ext cx="360360" cy="360360"/>
          </a:xfrm>
          <a:custGeom>
            <a:avLst/>
            <a:gdLst>
              <a:gd name="textAreaLeft" fmla="*/ 90000 w 360360"/>
              <a:gd name="textAreaRight" fmla="*/ 270360 w 360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6775" y="6775"/>
                </a:moveTo>
                <a:lnTo>
                  <a:pt x="14825" y="10800"/>
                </a:lnTo>
                <a:lnTo>
                  <a:pt x="6775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>
            <a:hlinkClick r:id="rId6" action="ppaction://hlinksldjump"/>
          </p:cNvPr>
          <p:cNvSpPr/>
          <p:nvPr/>
        </p:nvSpPr>
        <p:spPr>
          <a:xfrm>
            <a:off x="7696080" y="6095880"/>
            <a:ext cx="360360" cy="360360"/>
          </a:xfrm>
          <a:custGeom>
            <a:avLst/>
            <a:gdLst>
              <a:gd name="textAreaLeft" fmla="*/ 90000 w 360360"/>
              <a:gd name="textAreaRight" fmla="*/ 270360 w 360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6200" y="5400"/>
                </a:lnTo>
                <a:lnTo>
                  <a:pt x="5400" y="5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6200" y="16200"/>
                </a:lnTo>
                <a:lnTo>
                  <a:pt x="16200" y="5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5400" y="16200"/>
                </a:lnTo>
                <a:lnTo>
                  <a:pt x="16200" y="16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5400" y="5400"/>
                </a:lnTo>
                <a:lnTo>
                  <a:pt x="5400" y="16200"/>
                </a:lnTo>
                <a:close/>
              </a:path>
              <a:path fill="darken" w="21600" h="21600">
                <a:moveTo>
                  <a:pt x="8790" y="10800"/>
                </a:moveTo>
                <a:lnTo>
                  <a:pt x="14825" y="6775"/>
                </a:lnTo>
                <a:lnTo>
                  <a:pt x="14825" y="14825"/>
                </a:lnTo>
                <a:close/>
              </a:path>
              <a:path fill="darken" w="21600" h="21600">
                <a:moveTo>
                  <a:pt x="6775" y="6775"/>
                </a:moveTo>
                <a:lnTo>
                  <a:pt x="7730" y="6775"/>
                </a:lnTo>
                <a:lnTo>
                  <a:pt x="7730" y="14825"/>
                </a:lnTo>
                <a:lnTo>
                  <a:pt x="6775" y="14825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96080" y="5715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5:40:48Z</dcterms:created>
  <dc:creator>Rolf</dc:creator>
  <dc:description/>
  <dc:language>en-US</dc:language>
  <cp:lastModifiedBy>Rolf</cp:lastModifiedBy>
  <dcterms:modified xsi:type="dcterms:W3CDTF">2005-08-28T10:05:58Z</dcterms:modified>
  <cp:revision>17</cp:revision>
  <dc:subject/>
  <dc:title>PowerPoint-Präsentation</dc:title>
</cp:coreProperties>
</file>